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4E2-4CBF-4DE3-996B-6C064BFE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681-C77C-4C1B-B4B2-73ACFECE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3CC-1D7B-4746-9B17-C1C77300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A7A-6EB0-4EDD-A846-2D9EB856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9A94-41A7-4502-AABF-00290B76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4D1A-AD3F-4E3E-A1FB-D00DD824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7533-EA58-4FCD-A228-C674406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1638-1FA3-49E6-94FE-454E859F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930B-6837-4123-955A-B62C78A5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52ED-882A-4117-8CE8-C6BFD1A0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DA23-C1BC-42D9-9EA3-03DCA02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7D6-A232-4436-B08E-2AF48BFF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5A88-DFD1-4743-9313-15EF6171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4A27-DC01-4A4B-994A-61A64423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2ED2-783D-4862-B681-0D22EFF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53F1-2ACA-427A-85BD-070472B9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763A-34EA-447D-8E6F-1F306908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C3A-CD83-4677-A114-53D1D0B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8B3-4A23-478F-8FDF-67433749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8BB-62A0-4C06-B8D8-DA19E0AB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AD3-EAF6-4844-BE64-62EE023F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BD2-7578-4D48-B778-49517403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E70-04B8-412C-9289-BDB8853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CA7-0F1D-496C-8978-8AB12C4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8C1A-9370-4CF9-A517-027D3EFFB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E084-FD48-4566-8D07-38C67CF81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Justice XML Standards Initiat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3523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.S. Department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fice of Justice Pro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iefing to XML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ptember 19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Objectiv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e sharing of justice information and integration of justice information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“ground floor” standar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 and assist justice and public safety information systems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ther other efforts to share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jor XML Initiativ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minal Histories (Rap She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NIST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BI, States, NLETS,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Enforcement Intel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onal Information Shar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Court Fi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XML and NCS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ap Sheet Standard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ly, each state and the FBI had their own rap shee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ipients of rap sheets from more than one source (e.g., in the case of a multi-state offender) received multiple reports in multiple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ized Rap Sheet, when fully implemented, will provide a single, complete response in a consisten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aw Enforcement Intelligence Regional Information Sharing Syste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S XML Specifications were created to allow dissimilar systems to communicate criminal intelligenc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lectronic Court Fi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urt Filing Specification provides a mechanism for attorneys and other users of the court systems to electronically transmit and file court documents in active c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arting Point, June 200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specifications for three significantly different business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 Sheet Standard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lligence XML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rt Filing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group had developed an XML specification tailored to their own business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group approached development and implementation of  XML specifications diffe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rticipa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ice of Justice Programs, U.S. Dept. of Jus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Infrastructure and Standards Working Group (ISW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.S. Dept. of Commerce: NIST and N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Center for State Courts (NCS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Enforcement Intelligence Regional Information Sharing Systems (RI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Task Force on Rap Sheets (FBI, States, NLETS and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nciliation, Part 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principles for XML implementations and reconciliation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an reconciliation of the three XML implem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nciliation (personName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981080"/>
          <a:ext cx="8077320" cy="457200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p Shee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rt Fil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concile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subjec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Pers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subjec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person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ll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me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ut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me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ll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ign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meAli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nciliation, Parts 2 an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d reconciliatio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licts among the three specifications have been elimin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by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of lessons learned during reconcil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ML standard development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ML Justice Data Dictiona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28 data ele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stice and Public Safety Constituenc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riminal Justi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law enforcement, courts, corrections, prosecutors, public defenders, probation and pa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blic Safe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criminal justice, fire and emergency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blic Safety Rel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education, social services, transportation, welfare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Reconciliation Re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ciples for Development of XML Sp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s for Development of XML Sp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delines used in the reconciliatio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g N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s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ormat (UTC-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ptable Abbreviations and Acrony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 XML Data Dictionary (128 Elem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itutionalize Standards Process (Including Budg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Justice Standards Regist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 Reconciled XML Specs (3) for Inclusion in Reg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new XML Candidates for th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 XML Data Dictionary into Standards Regist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 Standards Activities into OJP/Global Web Site (www.it.ojp.go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the XML Standards Program (Outre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 to Support the development of information sharing standards with emphasis on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 and disseminate the XML Reconciliation Report (lessons learn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stice Standards Regist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b P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of Justice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.S. Department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Technology Initi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it.ojp.usd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:  Test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word:  Test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ta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r: Pat McCre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02) 616-0532; mccrearj@ojp.usdoj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ior Policy Advisor:  Bob Gree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02) 305-9317; greevesr@ojp.usdoj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Expert:  D.J. Atkinson/N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03) 497-5281; dj@its.bldrdoc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lobal Criminal Justice Information Net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Advisor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 of Group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tional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reach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cy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frastructure/Standards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rastructure/Standards Working Group (ISW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and technical partic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 for managing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policy recommendations to the Justice Department (Office of Justice Progra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ed for Justice Standar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tioner de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of overlapping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demand for information sh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of archite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 for XM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wer of “Babb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onse to the Ne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rage GLOBAL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it practitioner de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advantage of “Time is Righ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king practitioner 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ing and staff resource avai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 together willing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leadership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ustice community will respond to a voluntary program rich in content before they will respond to man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responsibility of the Justice Department is to promote information sharing, promote appropriate standards development, and facilitate coordination of efforts -- NOT to develop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 efforts are driven by business problems, not technical or national age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ndards Proce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, development and/or stag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ss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ca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ed notifica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enanc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racteristics of Standards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 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in 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ical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cen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resi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 (business) ori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gible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20:55:37Z</dcterms:created>
  <dc:creator>schillc</dc:creator>
  <dc:description/>
  <dc:language>en-US</dc:language>
  <cp:lastModifiedBy>Owen Ambur</cp:lastModifiedBy>
  <cp:lastPrinted>2001-09-18T18:50:46Z</cp:lastPrinted>
  <dcterms:modified xsi:type="dcterms:W3CDTF">2001-09-19T20:13:52Z</dcterms:modified>
  <cp:revision>41</cp:revision>
  <dc:subject/>
  <dc:title>XML for Global Justice Network</dc:title>
</cp:coreProperties>
</file>