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3E48-1A7E-4DF7-831E-39C1CD49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form of ASN.1 value notation was created in Gene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ear ago and is currently concluding ballot this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at of this value notation is based on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 allows ASN.1 values to be transferred or display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variety of textual  of binary formats. (PER BER HTML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 text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an leverage browsers for XML display and still  have efficient binary transfer in 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gain, the highlighted XML markup indicate name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een derived form the ASN.1 definition of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KDF2-PR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value of type NoIV (NULL) has no cont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not be represented with a start and end tag 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SN.1 value can appear in an ASN.1 module. So in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, XML 1.0 markup has become valid ASN.1 n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as a simple schema for XML values provides a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pecifying XML values abstractly, independent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as transfer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ASN.1 abstract values can be transferred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se XML markup format, or in a compact binary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owser Application may receive either XML markup, HTML, or compact binary encoded data. For the later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 Application may need to pass XML on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, perhaps with one or more stylesheets to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ting for different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less Application may need to receive compact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(perhaps PER colored with ECN). But it may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de some values into markup for display to a human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DF Application may only be capable of receiv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, such as  table input for a spreadsheet or SQL data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mple format can be rendered from generated X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and a stylesheet, perhaps to form a plain text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or data base query, or to assist in program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and debu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 may also be used for ASN.1 message conversion from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into many popular file formats. This can be of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eating documentation for standards wri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cal abstract values specified using a binary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X9.73 and the X9 standards it references, will be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human readable XML format, but afforded the same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ecurity provided by X9.7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posed standard w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an XML 1.0 markup representation for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loads defined in X9.73 including Authenticated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, SignedData, EnvelopedData,  DigestedDat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ypted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an XML 1.0 markup representation for th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in other X9 standards and referenced in X9.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X9.84 BiometricSyntax, X9.68 DomainCertific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X9.69 Constructive Key Management ext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confidentiality, integrity, origin authenticat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epudiation support for XML aware application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message encryption, digital signature, MAC, an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standard tags and structures that can be 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extensive searching of an XML docum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upport multiple signatures, per-signer authent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s, and countersign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Allow selective field protection to be implemen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which combine multiple protected messages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sit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Restrict cryptographic operations to only t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graphic algorithms approved for use by the 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A PKCS #7 --&gt; IETF SMIME   --&gt;  X9.73 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73 references X9.68 and X9.84 and CKM as defin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 X9.69-1999:  Framework for Key Management Ext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ame ASN.1 definitions for XCMS as used in X9.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at the same abstract values are used for bot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ASN.1 encodings. Both senders and rece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able to construct identical encodings of value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pport cryptographically enhanced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SignedData and the other cryptographic typ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X9.84 are the same types defined in X9.73. These w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ed in X9.84 so that X9.73 and X9.84 could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ed as separate standards in different X9F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is the first US national biometrics security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BiometricObject is a "patron format" in the NIST/IT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Biometrics Exchange File Format (CBEFF), a  proposed US standard that is expected to be progressed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age as an international standard under ISO/IEC JTC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 X9.68 show that this compact binary format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digital certificates that support all of the requi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.509 extensions specified in ISO 15782-2, a profile of X.5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nancial Services industry, in less than 150 by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kes the X9.68 format ideal for resource constra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n Consulting will soon announce a tool kit that imp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BEFF formats and provides an XML enoding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type X9.84. A first version will provide suppor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for raw objects, and subsequent releases of th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dd support for the cryptographic types in X9.8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may be encoded using the Packed Encod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N.1 in 29 octets and stored on a secure card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ct binary for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handed to an application, the canonical PER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verted to the XER representation shown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ormat might be processed with one style shee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for a display, another style sheet to create a dat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, and still another to create a log record for an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l arch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OASIS Technical Committee, XML Common B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 (XCBF) has recently been formed to define a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schema to represent the patron formats in the N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, the Organization for the Advancement of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Standards, is a  non-profit,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rtium that creates interoperable industry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public standards such as XML and SGML, as well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hat are related to structured information processing, such as ASN.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echnical Committee will define a common set of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encodings for the patron formats defined in CBEFF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Biometric Exchange File Format (NISTIR 6529, available at http://www.nist.gov/cbeff). These formats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pecified in accordance with the ASN.1 schema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ANS X9.84:2000 Biometrics Information Management and Security For The Financial Services Industry© (available from the ANSI electronic bookstore at http://www.ansi.or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Biometric Exchange File Format defines a common set of data elements necessary to support multiple biometric technologies and to promote interoperability of biometric-based application programs and systems by allowing for biometric data exchange. CBEFF describes a set of "required" and "optional" data fields, a "domain of use", and "CBEFF Patron" formats that utilize some combination of th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 formats specify encoding of the data elements and 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(non-common) data elements.  The two defined CBEFF Patron formats are the BioAPI Biometric Identification Record (BIR) format specified in the BioAPI Consortium BioAP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 Version 1.0 and the X9.84:2000 Biometric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. But all of the encoding formats defined in CBEFF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are binary encodings, making their use in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pplications limited or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XML schema that can carry the values i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 elements will promote the ability to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etric information, between users of binary patron formats, and with XML-aware applications and systems.  As new patron formats are added to CBEFF in future revisions, a common XML schema based on the X9.84 definitions should make it possible to exchange data with applications implemented using earlier versions of CBEF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, underlying type definitions will allow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validated and exchanged without ambiguity.  The ex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values specified in binary encodings will be us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representations of these values.  This featur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will serve to promote interoperable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variant of the XML Encoding Rules (CXER)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nputs suitable for cryptographic enhanc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ML representations of X9.84 biometric objects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hat standard are expected to be processed sol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inary.  All processing and security requirement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is TC will be harmonized with standardiz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formats of CMS messages undertaken by ANSI X9F working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list of deliverables and projected 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document defining the ASN.1/XML CBEFF sche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 introduction and overview of canonical DER, PER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, and the processing and security requirement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creation and verification of all cryptographic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 in X9.84, in the form of XML encoded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working module including ASN.1 XML Markup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tion examples of X9.84 biometric types defined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, along with the underlying ASN.1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example DER, PER and XER encodings of valu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biometric types and equivalent BIR encod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documentation of new CBEFF patron format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come standard during the period of this work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n anticipated smart card patr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itial drafts of all deliverables: May 30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version of working module: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version of example binary encoding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values: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final versions of all remaining deliver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inal versions of any new CBEFF formats: Jul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inal versions of all deliverables: Nov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achieve maximum interoperability betwe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of various standards organizations, these XCB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ables may depend on work being done by ANSI X9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groups and the new INCITS M1 Biometrics TC, s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ion of these deliverables may be affected by d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any) in the work of these groups. Though the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s into November 2003, it is hoped that this work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concluded no later than May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in which the TC will conduct business: English. Speakers of other languages are encouraged to particip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, time, and place of first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day March 18 - Conference call at 7:00 pm.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UBL attendees will meet for the call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Barcelona Universal, Barcelona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meeting schedule for the first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nday March 18, 2002, 7:00 pm, Barcelona, S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hursday, May 16, 2002, Somerset, NJ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hursday, August 22, 2002, Net Meeting/conferenc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uesday, November 19, 2002, Geneva,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ust prior to the ITU-T SG17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urther dates for 2003 to be annou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of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p H. Griffin, Griffin Consulting, &lt;phil.griffin@ASN.1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as a simple schema for XML values provides a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pecifying XML values abstractly, independent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as transfer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ASN.1 abstract values can be transferred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se XML markup format, or in a compact binary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is a schema, which allows users to define the g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messages. SEQUENCE, SET, CHOIC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data types (INTEGER, BIT STRING, etc.) allow user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distinct sets  of values for message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constraints allow users to further restrict the se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a given type to a valid subset of values. (Y or N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le or female) or (positive integer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notation (X.680-series) is separat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 rules (X.690-serie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ormats include BER, DER, PER and 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n be augmented by Encoding Control Notation (EC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definitions do not depend on a particular se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 rules, unless specified by us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ecify ABSTRACT values - the various encoding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y the TRANSFER syntax of the abstrac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X.509 and PKIX restrict their Certificate encodings to 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ER wra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X9.73 &amp; SMIME use BER mainly, with small pockets of 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3GPP and many other wireless protocols us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- The XML Value Notation provides a mea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ing ASN.1 values using XML.  Thus, an ASN.1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also specifies the structure and content of an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.  This makes ASN.1 a simple schema languag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definition can be represented using 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has a default markup notation. This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notation uses the ASN.1 defined type name a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d identifiers shown highligh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only the ASN.1 type definition of AnyName, tools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ends of a wire can communicate values of type An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ame default XML markup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ly, they can display the XML value &lt;AnyName&gt;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ends of the wire, and transfer (or store) the value in 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BER encodes in 19 bytes (14 P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XML markup requires 96 bytes -  85 bytes just for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markup does not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hint of the tags in the ASN.1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information on the data typ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hint that the middle initial is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restrictions on the size of the middle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is additional information must be carried in the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transfer (as in XML) or understood one time only (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) and assumed for all subsequent transf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ore complex example using a common security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timestamp protocols defined by the IETF, X9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IEC JTC 1/SC 27 Security Techniques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gain, the highlighted text in the schema definition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used to form XML markup in a value of PKIStatus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PKIStatusInfo is an outer level type and it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in the markup. PKIFreeText is another outer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used in the markup along with the identifi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, statusString and failInf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ers for the named integer value  rejec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d bit value timeNotAvailable are  also used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't tell from only looking at the markup valu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lt;status&gt;" must be an integer greater than or equal to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t even tell in markup whether a value of PKI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integer or a character string. This information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ood only from looking at the ASN.1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s PKIStatusInfo, PKIFreeText, status, statusSt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fo, rejection and timeNotAvailable from the ASN.1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re all used as markup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identifier "rejection" is a value of type PKIStat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se definition is based on the builtin ASN.1 type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identifier " timeNotAvailable" is a value of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IFailuerInfo, whose definition is based on the builtin ASN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BIT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dentifiers, rejection and timeNotAvailable, carry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information to a human reader than their integ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s a rule, ASN.1 identifiers are used in the default mar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possible. When no identifier exists, as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evel type "PKIFreeText", then the user defined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is used as the default markup t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CA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notation is a schema for the structure/types o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 need to use XML DTDs or Schemas to leverage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ASN.1 coder tools enforce the ASN.1 schema.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 need to validate the XML markup or the value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against another XML-based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value can be transferred in both text or b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e definition supports both wireless/smartcard and 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ed for multiple, different schemas which may h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operable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value can be represented using 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can be processed to create HTML, variou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s and ordinary text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definition has a default markup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dentifier names are used when possible, then typ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.693 sta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here is more than one set of encoding rules tha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d to values of ASN.1 types.  This Recommenda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Standard defines two sets of encoding rul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Extensible Markup Language (XML).  These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ML Encoding Rules (XER) for ASN.1, and both produce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document compliant to W3C XML 1.0.  The first se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Basic XML Encoding Rules.  The second set i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XML Encoding Rules because there is only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of encoding an ASN.1 value using these encoding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nonical encoding rules are generally used fo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curity-related features such as digital signatures.)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-space means one or more of the follow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TABULATION (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FEED (10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AGE RETURN (13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(32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parentheses are the decimal valu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IEC 10646-1 characters.  The number and choi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s that constitutes "white-space" is an encoder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 using Basic X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 9 of X.693 specifies all of the restrictions on 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to produce Canonical X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a defined type OID based on the buil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type OBJECT IDENTIFIER is assu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tted form of values of ASN.1 type OBJECT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ame string format used in the Lightweight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Protocol (LDAP) progressed by the IET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AlgorithmIdentifier has been used in many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s developed since the mid 198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it is represented as a parameterized ty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se parameters are a set of valid algorithms.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is composed of an algorithm identifier valu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parameters, which are often a value of type NUL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indicate that there are no initialization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by a give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63A-1A0A-4BE4-B440-DE88B13A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1B5-69A4-4F49-97AC-67D4D74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F84-74B7-43B7-AACA-AA644E42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5A8-81D9-4B38-99CE-491C3A2A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3A4-C8AE-482E-919D-389A951B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7F6E-A8DD-4503-BC01-C0A64E78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86E-6DAA-45B4-A45F-C9B05FB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6F1-F26A-4A70-B975-DF7AD850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7EC-27DB-47CE-896D-B7D796D6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F8C-67B5-4766-B935-47684CA6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111-DA6C-42DC-A45B-F35134AB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11E-24E2-43CF-B471-D2E25DA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3E90-ED97-4B1D-B8DC-0B6C44B80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tu.int/ITU-T/asn1/database/index.html" TargetMode="External"/><Relationship Id="rId2" Type="http://schemas.openxmlformats.org/officeDocument/2006/relationships/hyperlink" Target="http://www.ossnokalva.com/asn1/booksintro.html" TargetMode="External"/><Relationship Id="rId3" Type="http://schemas.openxmlformats.org/officeDocument/2006/relationships/hyperlink" Target="http://www.ossnokalva.com/products/syntax1.html" TargetMode="External"/><Relationship Id="rId4" Type="http://schemas.openxmlformats.org/officeDocument/2006/relationships/hyperlink" Target="http://www.itu.int/ITU-T/studygroups/com17/languages/index.html" TargetMode="External"/><Relationship Id="rId5" Type="http://schemas.openxmlformats.org/officeDocument/2006/relationships/hyperlink" Target="http://www.itu.int/ITU-T/studygroups/com17/languages/index.html" TargetMode="External"/><Relationship Id="rId6" Type="http://schemas.openxmlformats.org/officeDocument/2006/relationships/hyperlink" Target="http://asn1.elibel.tm.fr/xml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nonical XML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coding Rule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XER</a:t>
            </a:r>
            <a:r>
              <a:rPr b="0" lang="en-US" sz="4800" spc="-1" strike="noStrike">
                <a:solidFill>
                  <a:srgbClr val="4d4d4d"/>
                </a:solidFill>
                <a:latin typeface="Times New Roman"/>
              </a:rPr>
              <a:t>)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Secure Message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 ASN.1 Schema for XML Mar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2 Griffin Consulting,  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n Consulting   1625 Glenwood Avenue   Raleigh,  North Carolina  27608 - 2319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 - 919 - 29 1- 0019   phil.griffin@ASN-1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EE4-27F3-4D1F-8947-3C5B62249D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AlgorithmIdentifier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 value of the pseudorandom function HMAC-SHA-1 can be specified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XML 1.0 markup using the ASN.1 XML Value Notation as the ASN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valu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id-hmacWithSHA1 ::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PBKDF2-PRF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algorithm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.2.840.113549.2.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algorith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parameter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/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IV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parameter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/PBKDF2-PRF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complete assignment statement can be placed in an ASN.1 mod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9B7-8505-4763-AF06-AFEA02F0E1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N.1 XML Benefit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 single schema for all val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inary and text encodings are all based on ASN.1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iminates multiple schema mapp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Provides an efficient schema for XML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SN.1 &lt;=&gt; XML commun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applications can send and receive XML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fficient ASN.1 transfer, Encoding Control Notatio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223-A22A-482C-825D-93F31DFB16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N.1 / XML Benefit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3526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N.1 -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952880"/>
            <a:ext cx="13716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981080"/>
            <a:ext cx="1371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38280" y="228600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352680"/>
            <a:ext cx="13716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733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0574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45720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c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Encoding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+ E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in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E20-684B-429F-8D13-CD7CDBD1A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work item was proposed to ANSI X9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ww.x9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January 200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Cryptographic Message Syntax (XC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he ASN.1 schema specifi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Encoding Rules (XE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ecurity products will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working together regardless of whether they are ASN.1-based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nly of exchanging information using XML 1.0 markup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will be able to securely transmit information in a co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format across a network and use XML 1.0 markup to represen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information locally - or securely transfer the XML marku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F4A-AF01-4E2B-8ABD-CEA8A0F0FC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is tightly aligned with the IE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ME standard.  But X9.73 extends SMIME by providing constr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management (CKM) services, and support for ANS X9.84 biometr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nd ANS X9.68 compact digital certifica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cryptographic types supported in X9.73 will be available u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CMS, including the familiar RSA PKCS #7 typ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velop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cryp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ges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well as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hentica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ryptographic processing requirements will be specified for canon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1.0 markup based on CXER using the X9.73 ASN.1 schema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BF2-97F5-43B7-9717-2DC09F1E29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references the following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and relies on the ASN.1 definitions specified in these standar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84 : 2001, Biometrics Information Management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Security For the Financial Services Industry 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68 : 2001  Digital Certificates For Mobile/Wireles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Hi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Volume Financial System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Part 2:  Domain Certific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 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XCMS new work item, the cryptographic processing of  XML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up values based on the ASN.1 schemas from all three of 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will be addres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A00-BABF-4D32-86D9-DF46815440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XER encoding of a value of ASN.1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ometric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X9.8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.1.1 Examples: Reduced Biometric Hea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Obj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Heade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ersion&g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hv1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/vers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Head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Dat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0102030405060708090A0B0C0D0E0F01020304050607080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Dat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Obj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alue XER encode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ctet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DER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P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BFE-285F-4412-9B5D-259936135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ASIS XCBF T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Common Biometric Format Technical Committee  (XCBF 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oasis-open.org/committees/xcbf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TC recently form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 for the Advan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Structured Information Standards, a non-profit, international consortium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interoperable XML industry standards  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oasis-open.o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CBF TC Goa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a common XML schema f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STIR 6529CBE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tron form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www.nist.gov/cbef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based on the ASN.1 types defin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84:2000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www.ansi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processing &amp; security requirements for XER based on the XML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(CMS) 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ttp://www.x9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030-6008-4286-9419-AD9B481541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ree ASN.1 Lin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itu.int/ITU-T/asn1/database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ossnokalva.com/asn1/booksintro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Che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ossnokalva.com/products/syntax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www.itu.int/ITU-T/studygroups/com17/languages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002 D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ftp://ties.itu.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login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s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assword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tation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N.1 /XM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asn1.elibel.tm.fr/xml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91E-6522-4B33-897C-2258AB97F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illip H. Griff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iffin Consu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25 Glenwood A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es Barton at Fiv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leigh, North Carolina  27608 - 2319  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  919  291  00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  919  832  73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il.griffin@ASN-1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:/ASN-1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134-11A3-4F36-84DD-5B6A04C5AD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verview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SN.1 is a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ma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for encoded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ype definitions are based on the X.680-series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ypes describe the expected general structure of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ach builtin type defines a class, a set of distinct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traints restrict a class and the validity of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665-6758-49CF-863D-F6080C6E2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verview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ncoded ASN.1 values are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nar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inary encodings based on the X.690-series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xt encoded as plain, markup, or formatted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Basic Value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XML Value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X.693 XML Encoding Rules (XER) + Style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D4D-70E5-48B9-81B7-CCE0F85F1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 type and val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yNam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:= [APPLICATION 1]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ivenName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isibleStr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0] UTF8String (SIZE(1))  OPTIONA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amilyNam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A5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ny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given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Hubert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given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L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initia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Owen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family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/Any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11B-A22E-4C8F-8A30-C20818BC65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Status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:=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Statu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OPTIONA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il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PKIFailureInfo 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Status ::= INTEGER {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j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2) } (0..MA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:= SEQUENCE SIZE(1..MAX) OF UTF8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FailureInfo ::= BIT STRING {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NotAvail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14)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0E1-395E-4BD2-8839-176DDB8A0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 a rule 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possible,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used as the default markup t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the user defin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us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Status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rejection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statu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Your request has been rej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KIFreeTex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statusString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il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timeNotAvailble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failInf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KIStatusInf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B53-8BBE-4C00-93B5-7BD8EB046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nonical X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XER and Canonical XER are defined in the standar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/IEC 8825-4 | ITU-T Rec. X.693  ASN.1 Encoding Rules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XML Encoding Rules (X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Canonical XML Encoding Rules (CXER), the same ASN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Value Notation example can be encoded one and only one way as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long string containing n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white-spac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utside of da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lt;PKIStatusInfo&gt;&lt;status&gt;&l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jection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&gt;&lt;/status&gt;&lt;statusS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g&gt;&lt;PKIFreeText&g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Your request has been rejected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lt;/PKIF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Text&gt;&lt;/statusString&gt;&lt;failInfo&gt;&l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NotAvailble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&gt;&lt;/f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fo&gt;&lt;/PKIStatusInf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F93-42EF-48E7-8BE8-A263F91C0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Object Identifi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SN.1 object identifiers are used in many security specifications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ambiguously identify algorithms and processing methods.  In the IE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RFC 2898 PKCS #5: Password-Based Cryptography Specification,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 identifi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identifies the HMAC-SHA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seudorandom func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OI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igestAlgorithm 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OID can also be represented using XML 1.0 markup and XER 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 ::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OID&gt;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.2.840.113549.2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OI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parameters associated with this algorithm are a valu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E14-63F1-4BEB-BA38-A9D34473C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AlgorithmIdentifier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RFC 2898 PKCS #5 defines a password based key derivation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seudorandom function using the following ASN.1 schem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BKDF2-PR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AlgorithmIdentifier {{PBKDF2-PRFs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orithmIdentifier { AID:IOSet } ::=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orithm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.&amp;id({IOSet}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arameters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.&amp;Type({IOSet}{@algorithm})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 ::= TYPE-IDENTIFIER 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O/IEC 8824-2:1998, Annex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IV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NUL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C4C-C934-4A00-A328-59946506C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Phillip H. Griffin</dc:creator>
  <dc:description>Version: Thursday February 14, 2002</dc:description>
  <dc:language>en-US</dc:language>
  <cp:lastModifiedBy>Phil Griffin</cp:lastModifiedBy>
  <cp:lastPrinted>2002-02-14T20:59:07Z</cp:lastPrinted>
  <dcterms:modified xsi:type="dcterms:W3CDTF">2002-02-14T21:10:18Z</dcterms:modified>
  <cp:revision>180</cp:revision>
  <dc:subject>An ASN.1 Schema for XML Markup</dc:subject>
  <dc:title>Canonical XML Encoding Rules (CXER) for Secure Messages</dc:title>
</cp:coreProperties>
</file>