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692-17B0-4EAB-AEE9-9D55FBE9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E9F-4FA8-4669-9C2B-BB285967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272-42FA-4255-8626-7ED7F3D9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825-80D8-48CF-B659-7CA7EC85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ABA2-88D9-400A-B3F3-3497A0D2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EF85-1D57-4781-8996-DEE907A2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0D82-5287-4A93-831F-02243FFA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DE34-FD89-4889-9CC7-25CAA608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56D2-7641-41DE-851F-FEDCAB50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6F1F-7F87-44D8-A7EF-DDB49E14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59FC-D738-450B-9A3F-63284FC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C74-7A46-4CA7-8AEB-9584A003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532E-9DD2-4290-8026-47727B39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8913-F931-407C-A127-B2E4331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57D2-AF96-4862-BF2D-FEF34031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3680-2EF3-4E75-BD28-819A0E0E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5572-C39A-477B-8D3F-90F332B0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5E3-F57A-4A97-8914-DB5C183C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853-1C4D-4820-8297-8272A92E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D0A-A720-46F8-983C-C9CB566A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115-A83C-4A1A-9E51-5F1D8803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824-DACC-4FB9-9D46-FF542BB6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35E-DF5B-4A44-9037-866CF4F5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C79-EB8D-4DF7-AD01-7D5164FA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EA08-C1F1-4FC4-A123-D0FF95B4C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C107-2690-4785-8F10-FE57A7ED6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IDES DAY O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tion to the origins of S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ping out for the first time,  on a fast learning curve about HR-X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on board as many as want to contribute to the various initiatives of SI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two groups,  to examine the DTD’s/Schemas that have been produc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nvene as a plenary,  and debrief with representa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733920" y="1295280"/>
            <a:ext cx="2361960" cy="1143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3048120"/>
            <a:ext cx="152388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ff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048120"/>
            <a:ext cx="152424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ff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3048120"/>
            <a:ext cx="144792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ff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048120"/>
            <a:ext cx="1371600" cy="609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3733920"/>
            <a:ext cx="1371600" cy="609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361960" y="2438280"/>
            <a:ext cx="24382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571640" y="24382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2438280"/>
            <a:ext cx="5335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2362320"/>
            <a:ext cx="198108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33920" y="1295280"/>
            <a:ext cx="2361960" cy="1143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3048120"/>
            <a:ext cx="152388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ff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3048120"/>
            <a:ext cx="152424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ff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3048120"/>
            <a:ext cx="144792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ff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3048120"/>
            <a:ext cx="1371600" cy="609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3733920"/>
            <a:ext cx="1371600" cy="609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361960" y="2438280"/>
            <a:ext cx="24382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571640" y="24382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438280"/>
            <a:ext cx="5335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362320"/>
            <a:ext cx="198108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65720" y="34596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RA RY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DEC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733920" y="1295280"/>
            <a:ext cx="2361960" cy="1143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733920" y="1295280"/>
            <a:ext cx="2361960" cy="1143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3048120"/>
            <a:ext cx="152388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3048120"/>
            <a:ext cx="152388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3048120"/>
            <a:ext cx="144792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ff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361960" y="2438280"/>
            <a:ext cx="24382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438280"/>
            <a:ext cx="21337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733920" y="1295280"/>
            <a:ext cx="2361960" cy="1143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3048120"/>
            <a:ext cx="152388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3048120"/>
            <a:ext cx="152388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3048120"/>
            <a:ext cx="144792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ff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361960" y="2438280"/>
            <a:ext cx="24382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2438280"/>
            <a:ext cx="21337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63920" y="345960"/>
            <a:ext cx="16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NA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REUG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DEC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4724280"/>
            <a:ext cx="2286000" cy="9144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4267080"/>
            <a:ext cx="144756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4343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733920" y="1295280"/>
            <a:ext cx="2361960" cy="1143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733920" y="1295280"/>
            <a:ext cx="2361960" cy="1143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3048120"/>
            <a:ext cx="152388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3048120"/>
            <a:ext cx="1523880" cy="609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3809880"/>
            <a:ext cx="1828800" cy="914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mpetenc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361960" y="2438280"/>
            <a:ext cx="24382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2438280"/>
            <a:ext cx="22860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5720" y="3124080"/>
            <a:ext cx="1523880" cy="12193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733920" y="1295280"/>
            <a:ext cx="2361960" cy="1143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3048120"/>
            <a:ext cx="1523880" cy="1218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3048120"/>
            <a:ext cx="1523880" cy="609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3809880"/>
            <a:ext cx="1828800" cy="914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mpetenc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361960" y="2438280"/>
            <a:ext cx="24382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438280"/>
            <a:ext cx="22860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63560" y="345960"/>
            <a:ext cx="13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I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BS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KEL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3124080"/>
            <a:ext cx="1523880" cy="12193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SEARCH PROJEC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OICE   with help from those with CPO and External XML knowled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ross Process Objec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K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SON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STAL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ROUP 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A examined the follow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der ID – we need to understand the merits,  issues and place of the UU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out the following as separate Schem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rk Sche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 the need for track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tus Hi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part of the Assignment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ONE DEA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CAPTURE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e need the expenses schema or additions to Timecap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3880" y="685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DEMONSTRATION PROJ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676520"/>
            <a:ext cx="71629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will approach and discuss demonstration projects with Human Capital Supply Chain management companies.   These are some of the companies which provide managed services and “bolt up” capabili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cade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nd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eldgla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ili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ROUP 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to d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uro – Gap 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determine the extend of unique requiremen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breaking off the JobPosition to the JobPosition workgroup within HR-XM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OUP B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 Issues (where from,  where created,  handed out by system,  unique or no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king Info Issues – State Reasons for having a separate Tracking ID Sch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 Schema – are there multiple staffing ID’s…..what is the philosoph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038480" y="609480"/>
            <a:ext cx="1752840" cy="8384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2438280"/>
            <a:ext cx="1828800" cy="7621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4038480"/>
            <a:ext cx="1905120" cy="7621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5715000"/>
            <a:ext cx="1905120" cy="6858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1447920"/>
            <a:ext cx="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32004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48006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600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2133720"/>
            <a:ext cx="1526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21337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352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724280" y="3733920"/>
            <a:ext cx="1526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37339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24280" y="53341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53341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OUP B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ffing Supplier – are we going to send info again and again,  or where possible just send the key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intention has been to,  where ever possible,  just to send ID’s.   XML is verbose enough,  without adding to the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ALIZATIONS FROM DAY 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a better feel for the strengths and weaknesses of some of our initial propos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a better feel for the issues going forw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a better feel for how we should organize ourselves to capitalize on our streng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ATURAL GROUPING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lowing post meeting discussions with group leaders,  the following were our conclu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33920" y="1295280"/>
            <a:ext cx="2361960" cy="1143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7:39:25Z</dcterms:created>
  <dc:creator>Anson</dc:creator>
  <dc:description/>
  <dc:language>en-US</dc:language>
  <cp:lastModifiedBy>Chuck Allen</cp:lastModifiedBy>
  <dcterms:modified xsi:type="dcterms:W3CDTF">2001-10-23T03:58:16Z</dcterms:modified>
  <cp:revision>5</cp:revision>
  <dc:subject/>
  <dc:title>SIDES DAY ONE</dc:title>
</cp:coreProperties>
</file>