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67B-1C6D-4972-BFE3-76A94A56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B76-3976-48F4-802D-EE87282B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9B1-4A4F-4EF2-9332-BDB2AE58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49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9681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74140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8549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9681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67D-DE21-4E92-B30F-A9B13F4B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6B08-42EA-4052-A765-C764270F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6D3B-EA05-463C-BCF5-278AAF01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E80A-C3C3-45B5-87B5-EC182436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8218-D903-4491-80C4-3D5DCB49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3F74-260E-40A7-A40C-EFADD6DD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2738520" y="1380600"/>
            <a:ext cx="625320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E8CE-E0A3-4A1F-9289-24DD7162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C915-2796-413A-95FF-E7B58F9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679-AC73-459D-B7B1-1EA2C2B9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135A-83DE-4E0B-BCB3-93F3851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A0F3-60FB-4661-A3FD-89C76900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CEE8-5667-4D42-A333-A47EC4E8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2884-8EC8-4E3A-B4DC-172570AD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549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9681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274140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8549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9681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377E-F26B-4B71-B769-2DB96D03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71A-BBD9-4B43-AD7E-F41DE1DF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235-4729-40C8-A61F-18B2868C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67D-E80D-43A2-A029-4202EABE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738520" y="1380600"/>
            <a:ext cx="625320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E9F-5395-45D8-BCAB-074C4703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576-F1CD-4624-9BDE-D861E433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20A-8EB0-40A5-ADF7-F8E10987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DC6-3E72-477E-9344-25A90229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AE4-BEA6-4FAD-BD33-6EE4C897F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3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608-808F-4C7B-8DAF-5D6F33E50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5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r-xml.org/subchannels/members.cfm?mode=profile&amp;profile_id=208&amp;wg_id=28" TargetMode="External"/><Relationship Id="rId2" Type="http://schemas.openxmlformats.org/officeDocument/2006/relationships/hyperlink" Target="http://www.hr-xml.org/subchannels/members.cfm?mode=mem_detail&amp;member_id=1&amp;wg_id=28" TargetMode="External"/><Relationship Id="rId3" Type="http://schemas.openxmlformats.org/officeDocument/2006/relationships/hyperlink" Target="mailto:barbara.johnson@adecco.com" TargetMode="External"/><Relationship Id="rId4" Type="http://schemas.openxmlformats.org/officeDocument/2006/relationships/hyperlink" Target="mailto:barbara.johnson@adecco.com" TargetMode="External"/><Relationship Id="rId5" Type="http://schemas.openxmlformats.org/officeDocument/2006/relationships/hyperlink" Target="mailto:barbara.johnson@adecco.com" TargetMode="External"/><Relationship Id="rId6" Type="http://schemas.openxmlformats.org/officeDocument/2006/relationships/hyperlink" Target="mailto:barbara.johnson@adecco.com" TargetMode="External"/><Relationship Id="rId7" Type="http://schemas.openxmlformats.org/officeDocument/2006/relationships/hyperlink" Target="mailto:barbara.johnson@adecco.com" TargetMode="External"/><Relationship Id="rId8" Type="http://schemas.openxmlformats.org/officeDocument/2006/relationships/hyperlink" Target="mailto:barbara.johnson@adecco.com" TargetMode="External"/><Relationship Id="rId9" Type="http://schemas.openxmlformats.org/officeDocument/2006/relationships/hyperlink" Target="http://www.hr-xml.org/subchannels/members.cfm?mode=profile&amp;profile_id=728&amp;wg_id=28" TargetMode="External"/><Relationship Id="rId10" Type="http://schemas.openxmlformats.org/officeDocument/2006/relationships/hyperlink" Target="http://www.hr-xml.org/subchannels/members.cfm?mode=mem_detail&amp;member_id=1&amp;wg_id=28" TargetMode="External"/><Relationship Id="rId11" Type="http://schemas.openxmlformats.org/officeDocument/2006/relationships/hyperlink" Target="mailto:jonathan.mack@adecco.com" TargetMode="External"/><Relationship Id="rId12" Type="http://schemas.openxmlformats.org/officeDocument/2006/relationships/hyperlink" Target="mailto:jonathan.mack@adecco.com" TargetMode="External"/><Relationship Id="rId13" Type="http://schemas.openxmlformats.org/officeDocument/2006/relationships/hyperlink" Target="mailto:jonathan.mack@adecco.com" TargetMode="External"/><Relationship Id="rId14" Type="http://schemas.openxmlformats.org/officeDocument/2006/relationships/hyperlink" Target="mailto:jonathan.mack@adecco.com" TargetMode="External"/><Relationship Id="rId15" Type="http://schemas.openxmlformats.org/officeDocument/2006/relationships/hyperlink" Target="mailto:jonathan.mack@adecco.com" TargetMode="External"/><Relationship Id="rId16" Type="http://schemas.openxmlformats.org/officeDocument/2006/relationships/hyperlink" Target="mailto:jonathan.mack@adecco.com" TargetMode="External"/><Relationship Id="rId17" Type="http://schemas.openxmlformats.org/officeDocument/2006/relationships/hyperlink" Target="http://www.hr-xml.org/subchannels/members.cfm?mode=profile&amp;profile_id=720&amp;wg_id=28" TargetMode="External"/><Relationship Id="rId18" Type="http://schemas.openxmlformats.org/officeDocument/2006/relationships/hyperlink" Target="http://www.hr-xml.org/subchannels/members.cfm?mode=profile&amp;profile_id=720&amp;wg_id=28" TargetMode="External"/><Relationship Id="rId19" Type="http://schemas.openxmlformats.org/officeDocument/2006/relationships/hyperlink" Target="http://www.hr-xml.org/subchannels/members.cfm?mode=mem_detail&amp;member_id=1&amp;wg_id=28" TargetMode="External"/><Relationship Id="rId20" Type="http://schemas.openxmlformats.org/officeDocument/2006/relationships/hyperlink" Target="mailto:joe.maggio@adecco.com" TargetMode="External"/><Relationship Id="rId21" Type="http://schemas.openxmlformats.org/officeDocument/2006/relationships/hyperlink" Target="mailto:joe.maggio@adecco.com" TargetMode="External"/><Relationship Id="rId22" Type="http://schemas.openxmlformats.org/officeDocument/2006/relationships/hyperlink" Target="mailto:joe.maggio@adecco.com" TargetMode="External"/><Relationship Id="rId23" Type="http://schemas.openxmlformats.org/officeDocument/2006/relationships/hyperlink" Target="mailto:joe.maggio@adecco.com" TargetMode="External"/><Relationship Id="rId24" Type="http://schemas.openxmlformats.org/officeDocument/2006/relationships/hyperlink" Target="mailto:joe.maggio@adecco.com" TargetMode="External"/><Relationship Id="rId25" Type="http://schemas.openxmlformats.org/officeDocument/2006/relationships/hyperlink" Target="mailto:joe.maggio@adecco.com" TargetMode="External"/><Relationship Id="rId26" Type="http://schemas.openxmlformats.org/officeDocument/2006/relationships/hyperlink" Target="http://www.hr-xml.org/subchannels/members.cfm?mode=profile&amp;profile_id=234&amp;wg_id=28" TargetMode="External"/><Relationship Id="rId27" Type="http://schemas.openxmlformats.org/officeDocument/2006/relationships/hyperlink" Target="http://www.hr-xml.org/subchannels/members.cfm?mode=mem_detail&amp;member_id=1&amp;wg_id=28" TargetMode="External"/><Relationship Id="rId28" Type="http://schemas.openxmlformats.org/officeDocument/2006/relationships/hyperlink" Target="mailto:tara.ryan@adecco.com" TargetMode="External"/><Relationship Id="rId29" Type="http://schemas.openxmlformats.org/officeDocument/2006/relationships/hyperlink" Target="mailto:tara.ryan@adecco.com" TargetMode="External"/><Relationship Id="rId30" Type="http://schemas.openxmlformats.org/officeDocument/2006/relationships/hyperlink" Target="mailto:tara.ryan@adecco.com" TargetMode="External"/><Relationship Id="rId31" Type="http://schemas.openxmlformats.org/officeDocument/2006/relationships/hyperlink" Target="mailto:tara.ryan@adecco.com" TargetMode="External"/><Relationship Id="rId32" Type="http://schemas.openxmlformats.org/officeDocument/2006/relationships/hyperlink" Target="mailto:tara.ryan@adecco.com" TargetMode="External"/><Relationship Id="rId33" Type="http://schemas.openxmlformats.org/officeDocument/2006/relationships/hyperlink" Target="mailto:tara.ryan@adecco.com" TargetMode="External"/><Relationship Id="rId34" Type="http://schemas.openxmlformats.org/officeDocument/2006/relationships/hyperlink" Target="http://www.hr-xml.org/subchannels/members.cfm?mode=profile&amp;profile_id=594&amp;wg_id=28" TargetMode="External"/><Relationship Id="rId35" Type="http://schemas.openxmlformats.org/officeDocument/2006/relationships/hyperlink" Target="http://www.hr-xml.org/subchannels/members.cfm?mode=mem_detail&amp;member_id=1&amp;wg_id=28" TargetMode="External"/><Relationship Id="rId36" Type="http://schemas.openxmlformats.org/officeDocument/2006/relationships/hyperlink" Target="mailto:James.Strain@AdeccoNA.com" TargetMode="External"/><Relationship Id="rId37" Type="http://schemas.openxmlformats.org/officeDocument/2006/relationships/hyperlink" Target="mailto:James.Strain@AdeccoNA.com" TargetMode="External"/><Relationship Id="rId38" Type="http://schemas.openxmlformats.org/officeDocument/2006/relationships/hyperlink" Target="mailto:James.Strain@AdeccoNA.com" TargetMode="External"/><Relationship Id="rId39" Type="http://schemas.openxmlformats.org/officeDocument/2006/relationships/hyperlink" Target="http://www.hr-xml.org/subchannels/members.cfm?mode=profile&amp;profile_id=735&amp;wg_id=28" TargetMode="External"/><Relationship Id="rId40" Type="http://schemas.openxmlformats.org/officeDocument/2006/relationships/hyperlink" Target="http://www.hr-xml.org/subchannels/members.cfm?mode=mem_detail&amp;member_id=245&amp;wg_id=28" TargetMode="External"/><Relationship Id="rId41" Type="http://schemas.openxmlformats.org/officeDocument/2006/relationships/hyperlink" Target="http://www.hr-xml.org/subchannels/members.cfm?mode=mem_detail&amp;member_id=245&amp;wg_id=28" TargetMode="External"/><Relationship Id="rId42" Type="http://schemas.openxmlformats.org/officeDocument/2006/relationships/hyperlink" Target="mailto:bobby_robertson@administaff.com" TargetMode="External"/><Relationship Id="rId43" Type="http://schemas.openxmlformats.org/officeDocument/2006/relationships/hyperlink" Target="mailto:bobby_robertson@administaff.com" TargetMode="External"/><Relationship Id="rId44" Type="http://schemas.openxmlformats.org/officeDocument/2006/relationships/hyperlink" Target="mailto:bobby_robertson@administaff.com" TargetMode="External"/><Relationship Id="rId45" Type="http://schemas.openxmlformats.org/officeDocument/2006/relationships/hyperlink" Target="mailto:bobby_robertson@administaff.com" TargetMode="External"/><Relationship Id="rId46" Type="http://schemas.openxmlformats.org/officeDocument/2006/relationships/hyperlink" Target="mailto:bobby_robertson@administaff.com" TargetMode="External"/><Relationship Id="rId47" Type="http://schemas.openxmlformats.org/officeDocument/2006/relationships/hyperlink" Target="http://www.hr-xml.org/subchannels/members.cfm?mode=profile&amp;profile_id=749&amp;wg_id=28" TargetMode="External"/><Relationship Id="rId48" Type="http://schemas.openxmlformats.org/officeDocument/2006/relationships/hyperlink" Target="mailto:bwhitney@americanbackground.com" TargetMode="External"/><Relationship Id="rId49" Type="http://schemas.openxmlformats.org/officeDocument/2006/relationships/hyperlink" Target="mailto:bwhitney@americanbackground.com" TargetMode="External"/><Relationship Id="rId50" Type="http://schemas.openxmlformats.org/officeDocument/2006/relationships/hyperlink" Target="mailto:bwhitney@americanbackground.com" TargetMode="External"/><Relationship Id="rId51" Type="http://schemas.openxmlformats.org/officeDocument/2006/relationships/hyperlink" Target="mailto:bwhitney@americanbackground.com" TargetMode="External"/><Relationship Id="rId52" Type="http://schemas.openxmlformats.org/officeDocument/2006/relationships/hyperlink" Target="http://www.hr-xml.org/subchannels/members.cfm?mode=profile&amp;profile_id=730&amp;wg_id=28" TargetMode="External"/><Relationship Id="rId53" Type="http://schemas.openxmlformats.org/officeDocument/2006/relationships/hyperlink" Target="http://www.hr-xml.org/subchannels/members.cfm?mode=mem_detail&amp;member_id=223&amp;wg_id=28" TargetMode="External"/><Relationship Id="rId54" Type="http://schemas.openxmlformats.org/officeDocument/2006/relationships/hyperlink" Target="http://www.hr-xml.org/subchannels/members.cfm?mode=mem_detail&amp;member_id=223&amp;wg_id=28" TargetMode="External"/><Relationship Id="rId55" Type="http://schemas.openxmlformats.org/officeDocument/2006/relationships/hyperlink" Target="mailto:mathi@brassring.com" TargetMode="External"/><Relationship Id="rId56" Type="http://schemas.openxmlformats.org/officeDocument/2006/relationships/hyperlink" Target="mailto:mathi@brassring.com" TargetMode="External"/><Relationship Id="rId57" Type="http://schemas.openxmlformats.org/officeDocument/2006/relationships/hyperlink" Target="mailto:mathi@brassring.com" TargetMode="External"/><Relationship Id="rId58" Type="http://schemas.openxmlformats.org/officeDocument/2006/relationships/hyperlink" Target="mailto:mathi@brassring.com" TargetMode="External"/><Relationship Id="rId59" Type="http://schemas.openxmlformats.org/officeDocument/2006/relationships/hyperlink" Target="http://www.hr-xml.org/subchannels/members.cfm?mode=profile&amp;profile_id=3&amp;wg_id=28" TargetMode="External"/><Relationship Id="rId60" Type="http://schemas.openxmlformats.org/officeDocument/2006/relationships/hyperlink" Target="http://www.hr-xml.org/subchannels/members.cfm?mode=mem_detail&amp;member_id=14&amp;wg_id=28" TargetMode="External"/><Relationship Id="rId61" Type="http://schemas.openxmlformats.org/officeDocument/2006/relationships/hyperlink" Target="mailto:chucka@hr-xml.org" TargetMode="External"/><Relationship Id="rId62" Type="http://schemas.openxmlformats.org/officeDocument/2006/relationships/hyperlink" Target="mailto:chucka@hr-xml.org" TargetMode="External"/><Relationship Id="rId63" Type="http://schemas.openxmlformats.org/officeDocument/2006/relationships/hyperlink" Target="http://www.hr-xml.org/subchannels/members.cfm?mode=profile&amp;profile_id=40&amp;wg_id=28" TargetMode="External"/><Relationship Id="rId64" Type="http://schemas.openxmlformats.org/officeDocument/2006/relationships/hyperlink" Target="http://www.hr-xml.org/subchannels/members.cfm?mode=profile&amp;profile_id=40&amp;wg_id=28" TargetMode="External"/><Relationship Id="rId65" Type="http://schemas.openxmlformats.org/officeDocument/2006/relationships/hyperlink" Target="http://www.hr-xml.org/subchannels/members.cfm?mode=mem_detail&amp;member_id=26&amp;wg_id=28" TargetMode="External"/><Relationship Id="rId66" Type="http://schemas.openxmlformats.org/officeDocument/2006/relationships/hyperlink" Target="mailto:kim@hr-xml.org" TargetMode="External"/><Relationship Id="rId67" Type="http://schemas.openxmlformats.org/officeDocument/2006/relationships/hyperlink" Target="mailto:kim@hr-xml.org" TargetMode="External"/><Relationship Id="rId68" Type="http://schemas.openxmlformats.org/officeDocument/2006/relationships/hyperlink" Target="http://www.hr-xml.org/subchannels/members.cfm?mode=profile&amp;profile_id=501&amp;wg_id=28" TargetMode="External"/><Relationship Id="rId69" Type="http://schemas.openxmlformats.org/officeDocument/2006/relationships/hyperlink" Target="http://www.hr-xml.org/subchannels/members.cfm?mode=mem_detail&amp;member_id=237&amp;wg_id=28" TargetMode="External"/><Relationship Id="rId70" Type="http://schemas.openxmlformats.org/officeDocument/2006/relationships/hyperlink" Target="mailto:paul@hr-xml.org" TargetMode="External"/><Relationship Id="rId71" Type="http://schemas.openxmlformats.org/officeDocument/2006/relationships/hyperlink" Target="mailto:paul@hr-xml.org" TargetMode="External"/><Relationship Id="rId72" Type="http://schemas.openxmlformats.org/officeDocument/2006/relationships/hyperlink" Target="http://www.hr-xml.org/subchannels/members.cfm?mode=profile&amp;profile_id=729&amp;wg_id=28" TargetMode="External"/><Relationship Id="rId73" Type="http://schemas.openxmlformats.org/officeDocument/2006/relationships/hyperlink" Target="http://www.hr-xml.org/subchannels/members.cfm?mode=profile&amp;profile_id=729&amp;wg_id=28" TargetMode="External"/><Relationship Id="rId74" Type="http://schemas.openxmlformats.org/officeDocument/2006/relationships/hyperlink" Target="http://www.hr-xml.org/subchannels/members.cfm?mode=mem_detail&amp;member_id=302&amp;wg_id=28" TargetMode="External"/><Relationship Id="rId75" Type="http://schemas.openxmlformats.org/officeDocument/2006/relationships/hyperlink" Target="http://www.hr-xml.org/subchannels/members.cfm?mode=mem_detail&amp;member_id=302&amp;wg_id=28" TargetMode="External"/><Relationship Id="rId76" Type="http://schemas.openxmlformats.org/officeDocument/2006/relationships/hyperlink" Target="mailto:scott@milwaukeejobs.com" TargetMode="External"/><Relationship Id="rId77" Type="http://schemas.openxmlformats.org/officeDocument/2006/relationships/hyperlink" Target="mailto:scott@milwaukeejobs.com" TargetMode="External"/><Relationship Id="rId78" Type="http://schemas.openxmlformats.org/officeDocument/2006/relationships/hyperlink" Target="mailto:scott@milwaukeejobs.com" TargetMode="External"/><Relationship Id="rId79" Type="http://schemas.openxmlformats.org/officeDocument/2006/relationships/hyperlink" Target="mailto:scott@milwaukeejobs.com" TargetMode="External"/><Relationship Id="rId80" Type="http://schemas.openxmlformats.org/officeDocument/2006/relationships/hyperlink" Target="http://www.hr-xml.org/subchannels/members.cfm?mode=profile&amp;profile_id=196&amp;wg_id=28" TargetMode="External"/><Relationship Id="rId81" Type="http://schemas.openxmlformats.org/officeDocument/2006/relationships/hyperlink" Target="http://www.hr-xml.org/subchannels/members.cfm?mode=mem_detail&amp;member_id=66&amp;wg_id=28" TargetMode="External"/><Relationship Id="rId82" Type="http://schemas.openxmlformats.org/officeDocument/2006/relationships/hyperlink" Target="mailto:gail_bubsey@kellyservices.com" TargetMode="External"/><Relationship Id="rId83" Type="http://schemas.openxmlformats.org/officeDocument/2006/relationships/hyperlink" Target="mailto:gail_bubsey@kellyservices.com" TargetMode="External"/><Relationship Id="rId84" Type="http://schemas.openxmlformats.org/officeDocument/2006/relationships/hyperlink" Target="mailto:gail_bubsey@kellyservices.com" TargetMode="External"/><Relationship Id="rId85" Type="http://schemas.openxmlformats.org/officeDocument/2006/relationships/hyperlink" Target="mailto:gail_bubsey@kellyservices.com" TargetMode="External"/><Relationship Id="rId86" Type="http://schemas.openxmlformats.org/officeDocument/2006/relationships/hyperlink" Target="mailto:gail_bubsey@kellyservices.com" TargetMode="External"/><Relationship Id="rId87" Type="http://schemas.openxmlformats.org/officeDocument/2006/relationships/hyperlink" Target="mailto:gail_bubsey@kellyservices.com" TargetMode="External"/><Relationship Id="rId88" Type="http://schemas.openxmlformats.org/officeDocument/2006/relationships/hyperlink" Target="http://www.hr-xml.org/subchannels/members.cfm?mode=profile&amp;profile_id=194&amp;wg_id=28" TargetMode="External"/><Relationship Id="rId89" Type="http://schemas.openxmlformats.org/officeDocument/2006/relationships/hyperlink" Target="http://www.hr-xml.org/subchannels/members.cfm?mode=mem_detail&amp;member_id=66&amp;wg_id=28" TargetMode="External"/><Relationship Id="rId90" Type="http://schemas.openxmlformats.org/officeDocument/2006/relationships/hyperlink" Target="mailto:ensrokl@kellyservices.com" TargetMode="External"/><Relationship Id="rId91" Type="http://schemas.openxmlformats.org/officeDocument/2006/relationships/hyperlink" Target="mailto:ensrokl@kellyservices.com" TargetMode="External"/><Relationship Id="rId92" Type="http://schemas.openxmlformats.org/officeDocument/2006/relationships/hyperlink" Target="mailto:ensrokl@kellyservices.com" TargetMode="External"/><Relationship Id="rId93" Type="http://schemas.openxmlformats.org/officeDocument/2006/relationships/hyperlink" Target="mailto:ensrokl@kellyservices.com" TargetMode="External"/><Relationship Id="rId94" Type="http://schemas.openxmlformats.org/officeDocument/2006/relationships/hyperlink" Target="http://www.hr-xml.org/subchannels/members.cfm?mode=profile&amp;profile_id=731&amp;wg_id=28" TargetMode="External"/><Relationship Id="rId95" Type="http://schemas.openxmlformats.org/officeDocument/2006/relationships/hyperlink" Target="http://www.hr-xml.org/subchannels/members.cfm?mode=mem_detail&amp;member_id=69&amp;wg_id=28" TargetMode="External"/><Relationship Id="rId96" Type="http://schemas.openxmlformats.org/officeDocument/2006/relationships/hyperlink" Target="mailto:charles.bartels@na.manpower.com" TargetMode="External"/><Relationship Id="rId97" Type="http://schemas.openxmlformats.org/officeDocument/2006/relationships/hyperlink" Target="mailto:charles.bartels@na.manpower.com" TargetMode="External"/><Relationship Id="rId98" Type="http://schemas.openxmlformats.org/officeDocument/2006/relationships/hyperlink" Target="mailto:charles.bartels@na.manpower.com" TargetMode="External"/><Relationship Id="rId99" Type="http://schemas.openxmlformats.org/officeDocument/2006/relationships/hyperlink" Target="mailto:charles.bartels@na.manpower.com" TargetMode="External"/><Relationship Id="rId100" Type="http://schemas.openxmlformats.org/officeDocument/2006/relationships/hyperlink" Target="mailto:charles.bartels@na.manpower.com" TargetMode="External"/><Relationship Id="rId101" Type="http://schemas.openxmlformats.org/officeDocument/2006/relationships/hyperlink" Target="mailto:charles.bartels@na.manpower.com" TargetMode="External"/><Relationship Id="rId102" Type="http://schemas.openxmlformats.org/officeDocument/2006/relationships/hyperlink" Target="http://www.hr-xml.org/subchannels/members.cfm?mode=profile&amp;profile_id=132&amp;wg_id=28" TargetMode="External"/><Relationship Id="rId103" Type="http://schemas.openxmlformats.org/officeDocument/2006/relationships/hyperlink" Target="http://www.hr-xml.org/subchannels/members.cfm?mode=profile&amp;profile_id=132&amp;wg_id=28" TargetMode="External"/><Relationship Id="rId104" Type="http://schemas.openxmlformats.org/officeDocument/2006/relationships/hyperlink" Target="http://www.hr-xml.org/subchannels/members.cfm?mode=mem_detail&amp;member_id=69&amp;wg_id=28" TargetMode="External"/><Relationship Id="rId105" Type="http://schemas.openxmlformats.org/officeDocument/2006/relationships/hyperlink" Target="mailto:gary.cleal@manpowerinc.com" TargetMode="External"/><Relationship Id="rId106" Type="http://schemas.openxmlformats.org/officeDocument/2006/relationships/hyperlink" Target="mailto:gary.cleal@manpowerinc.com" TargetMode="External"/><Relationship Id="rId107" Type="http://schemas.openxmlformats.org/officeDocument/2006/relationships/hyperlink" Target="mailto:gary.cleal@manpowerinc.com" TargetMode="External"/><Relationship Id="rId108" Type="http://schemas.openxmlformats.org/officeDocument/2006/relationships/hyperlink" Target="mailto:gary.cleal@manpowerinc.com" TargetMode="External"/><Relationship Id="rId109" Type="http://schemas.openxmlformats.org/officeDocument/2006/relationships/hyperlink" Target="mailto:gary.cleal@manpowerinc.com" TargetMode="External"/><Relationship Id="rId110" Type="http://schemas.openxmlformats.org/officeDocument/2006/relationships/hyperlink" Target="mailto:gary.cleal@manpowerinc.com" TargetMode="External"/><Relationship Id="rId111" Type="http://schemas.openxmlformats.org/officeDocument/2006/relationships/hyperlink" Target="http://www.hr-xml.org/subchannels/members.cfm?mode=profile&amp;profile_id=46&amp;wg_id=28" TargetMode="External"/><Relationship Id="rId112" Type="http://schemas.openxmlformats.org/officeDocument/2006/relationships/hyperlink" Target="http://www.hr-xml.org/subchannels/members.cfm?mode=mem_detail&amp;member_id=69&amp;wg_id=28" TargetMode="External"/><Relationship Id="rId113" Type="http://schemas.openxmlformats.org/officeDocument/2006/relationships/hyperlink" Target="mailto:john.deroche@na.manpower.com" TargetMode="External"/><Relationship Id="rId114" Type="http://schemas.openxmlformats.org/officeDocument/2006/relationships/hyperlink" Target="mailto:john.deroche@na.manpower.com" TargetMode="External"/><Relationship Id="rId115" Type="http://schemas.openxmlformats.org/officeDocument/2006/relationships/hyperlink" Target="mailto:john.deroche@na.manpower.com" TargetMode="External"/><Relationship Id="rId116" Type="http://schemas.openxmlformats.org/officeDocument/2006/relationships/hyperlink" Target="mailto:john.deroche@na.manpower.com" TargetMode="External"/><Relationship Id="rId117" Type="http://schemas.openxmlformats.org/officeDocument/2006/relationships/hyperlink" Target="mailto:john.deroche@na.manpower.com" TargetMode="External"/><Relationship Id="rId118" Type="http://schemas.openxmlformats.org/officeDocument/2006/relationships/hyperlink" Target="http://www.hr-xml.org/subchannels/members.cfm?mode=profile&amp;profile_id=643&amp;wg_id=28" TargetMode="External"/><Relationship Id="rId119" Type="http://schemas.openxmlformats.org/officeDocument/2006/relationships/hyperlink" Target="http://www.hr-xml.org/subchannels/members.cfm?mode=mem_detail&amp;member_id=69&amp;wg_id=28" TargetMode="External"/><Relationship Id="rId120" Type="http://schemas.openxmlformats.org/officeDocument/2006/relationships/hyperlink" Target="mailto:kathi.dolan@na.manpower.com" TargetMode="External"/><Relationship Id="rId121" Type="http://schemas.openxmlformats.org/officeDocument/2006/relationships/hyperlink" Target="mailto:kathi.dolan@na.manpower.com" TargetMode="External"/><Relationship Id="rId122" Type="http://schemas.openxmlformats.org/officeDocument/2006/relationships/hyperlink" Target="mailto:kathi.dolan@na.manpower.com" TargetMode="External"/><Relationship Id="rId123" Type="http://schemas.openxmlformats.org/officeDocument/2006/relationships/hyperlink" Target="mailto:kathi.dolan@na.manpower.com" TargetMode="External"/><Relationship Id="rId124" Type="http://schemas.openxmlformats.org/officeDocument/2006/relationships/hyperlink" Target="mailto:kathi.dolan@na.manpower.com" TargetMode="External"/><Relationship Id="rId125" Type="http://schemas.openxmlformats.org/officeDocument/2006/relationships/hyperlink" Target="mailto:kathi.dolan@na.manpower.com" TargetMode="External"/><Relationship Id="rId126" Type="http://schemas.openxmlformats.org/officeDocument/2006/relationships/hyperlink" Target="http://www.hr-xml.org/subchannels/members.cfm?mode=profile&amp;profile_id=736&amp;wg_id=28" TargetMode="External"/><Relationship Id="rId127" Type="http://schemas.openxmlformats.org/officeDocument/2006/relationships/hyperlink" Target="http://www.hr-xml.org/subchannels/members.cfm?mode=mem_detail&amp;member_id=69&amp;wg_id=28" TargetMode="External"/><Relationship Id="rId128" Type="http://schemas.openxmlformats.org/officeDocument/2006/relationships/hyperlink" Target="mailto:peter.parks@na.manpower.com" TargetMode="External"/><Relationship Id="rId129" Type="http://schemas.openxmlformats.org/officeDocument/2006/relationships/hyperlink" Target="mailto:peter.parks@na.manpower.com" TargetMode="External"/><Relationship Id="rId130" Type="http://schemas.openxmlformats.org/officeDocument/2006/relationships/hyperlink" Target="mailto:peter.parks@na.manpower.com" TargetMode="External"/><Relationship Id="rId131" Type="http://schemas.openxmlformats.org/officeDocument/2006/relationships/hyperlink" Target="http://www.hr-xml.org/subchannels/members.cfm?mode=profile&amp;profile_id=49&amp;wg_id=28" TargetMode="External"/><Relationship Id="rId132" Type="http://schemas.openxmlformats.org/officeDocument/2006/relationships/hyperlink" Target="http://www.hr-xml.org/subchannels/members.cfm?mode=mem_detail&amp;member_id=69&amp;wg_id=28" TargetMode="External"/><Relationship Id="rId133" Type="http://schemas.openxmlformats.org/officeDocument/2006/relationships/hyperlink" Target="mailto:doug.prittie@na.manpower.com" TargetMode="External"/><Relationship Id="rId134" Type="http://schemas.openxmlformats.org/officeDocument/2006/relationships/hyperlink" Target="mailto:doug.prittie@na.manpower.com" TargetMode="External"/><Relationship Id="rId135" Type="http://schemas.openxmlformats.org/officeDocument/2006/relationships/hyperlink" Target="mailto:doug.prittie@na.manpower.com" TargetMode="External"/><Relationship Id="rId136" Type="http://schemas.openxmlformats.org/officeDocument/2006/relationships/hyperlink" Target="mailto:doug.prittie@na.manpower.com" TargetMode="External"/><Relationship Id="rId137" Type="http://schemas.openxmlformats.org/officeDocument/2006/relationships/hyperlink" Target="mailto:doug.prittie@na.manpower.com" TargetMode="External"/><Relationship Id="rId138" Type="http://schemas.openxmlformats.org/officeDocument/2006/relationships/hyperlink" Target="mailto:doug.prittie@na.manpower.com" TargetMode="External"/><Relationship Id="rId139" Type="http://schemas.openxmlformats.org/officeDocument/2006/relationships/hyperlink" Target="http://www.hr-xml.org/subchannels/members.cfm?mode=profile&amp;profile_id=744&amp;wg_id=28" TargetMode="External"/><Relationship Id="rId140" Type="http://schemas.openxmlformats.org/officeDocument/2006/relationships/hyperlink" Target="http://www.hr-xml.org/subchannels/members.cfm?mode=mem_detail&amp;member_id=477&amp;wg_id=28" TargetMode="External"/><Relationship Id="rId141" Type="http://schemas.openxmlformats.org/officeDocument/2006/relationships/hyperlink" Target="mailto:mnaidoo@nextsource.com" TargetMode="External"/><Relationship Id="rId142" Type="http://schemas.openxmlformats.org/officeDocument/2006/relationships/hyperlink" Target="mailto:mnaidoo@nextsource.com" TargetMode="External"/><Relationship Id="rId143" Type="http://schemas.openxmlformats.org/officeDocument/2006/relationships/hyperlink" Target="mailto:mnaidoo@nextsource.com" TargetMode="External"/><Relationship Id="rId144" Type="http://schemas.openxmlformats.org/officeDocument/2006/relationships/hyperlink" Target="mailto:mnaidoo@nextsource.com" TargetMode="External"/><Relationship Id="rId145" Type="http://schemas.openxmlformats.org/officeDocument/2006/relationships/hyperlink" Target="http://www.hr-xml.org/subchannels/members.cfm?mode=profile&amp;profile_id=742&amp;wg_id=28" TargetMode="External"/><Relationship Id="rId146" Type="http://schemas.openxmlformats.org/officeDocument/2006/relationships/hyperlink" Target="http://www.hr-xml.org/subchannels/members.cfm?mode=mem_detail&amp;member_id=477&amp;wg_id=28" TargetMode="External"/><Relationship Id="rId147" Type="http://schemas.openxmlformats.org/officeDocument/2006/relationships/hyperlink" Target="mailto:mwong@nextsource.com" TargetMode="External"/><Relationship Id="rId148" Type="http://schemas.openxmlformats.org/officeDocument/2006/relationships/hyperlink" Target="mailto:mwong@nextsource.com" TargetMode="External"/><Relationship Id="rId149" Type="http://schemas.openxmlformats.org/officeDocument/2006/relationships/hyperlink" Target="mailto:mwong@nextsource.com" TargetMode="External"/><Relationship Id="rId150" Type="http://schemas.openxmlformats.org/officeDocument/2006/relationships/hyperlink" Target="mailto:mwong@nextsource.com" TargetMode="External"/><Relationship Id="rId151" Type="http://schemas.openxmlformats.org/officeDocument/2006/relationships/hyperlink" Target="http://www.hr-xml.org/subchannels/members.cfm?mode=profile&amp;profile_id=188&amp;wg_id=28" TargetMode="External"/><Relationship Id="rId152" Type="http://schemas.openxmlformats.org/officeDocument/2006/relationships/hyperlink" Target="http://www.hr-xml.org/subchannels/members.cfm?mode=mem_detail&amp;member_id=88&amp;wg_id=28" TargetMode="External"/><Relationship Id="rId153" Type="http://schemas.openxmlformats.org/officeDocument/2006/relationships/hyperlink" Target="mailto:allen.crockett@peopleclick.com" TargetMode="External"/><Relationship Id="rId154" Type="http://schemas.openxmlformats.org/officeDocument/2006/relationships/hyperlink" Target="mailto:allen.crockett@peopleclick.com" TargetMode="External"/><Relationship Id="rId155" Type="http://schemas.openxmlformats.org/officeDocument/2006/relationships/hyperlink" Target="mailto:allen.crockett@peopleclick.com" TargetMode="External"/><Relationship Id="rId156" Type="http://schemas.openxmlformats.org/officeDocument/2006/relationships/hyperlink" Target="mailto:allen.crockett@peopleclick.com" TargetMode="External"/><Relationship Id="rId157" Type="http://schemas.openxmlformats.org/officeDocument/2006/relationships/hyperlink" Target="mailto:allen.crockett@peopleclick.com" TargetMode="External"/><Relationship Id="rId158" Type="http://schemas.openxmlformats.org/officeDocument/2006/relationships/hyperlink" Target="mailto:allen.crockett@peopleclick.com" TargetMode="External"/><Relationship Id="rId159" Type="http://schemas.openxmlformats.org/officeDocument/2006/relationships/hyperlink" Target="http://www.hr-xml.org/subchannels/members.cfm?mode=profile&amp;profile_id=353&amp;wg_id=28" TargetMode="External"/><Relationship Id="rId160" Type="http://schemas.openxmlformats.org/officeDocument/2006/relationships/hyperlink" Target="http://www.hr-xml.org/subchannels/members.cfm?mode=mem_detail&amp;member_id=106&amp;wg_id=28" TargetMode="External"/><Relationship Id="rId161" Type="http://schemas.openxmlformats.org/officeDocument/2006/relationships/hyperlink" Target="mailto:rick.divers@us.randstad.com" TargetMode="External"/><Relationship Id="rId162" Type="http://schemas.openxmlformats.org/officeDocument/2006/relationships/hyperlink" Target="mailto:rick.divers@us.randstad.com" TargetMode="External"/><Relationship Id="rId163" Type="http://schemas.openxmlformats.org/officeDocument/2006/relationships/hyperlink" Target="mailto:rick.divers@us.randstad.com" TargetMode="External"/><Relationship Id="rId164" Type="http://schemas.openxmlformats.org/officeDocument/2006/relationships/hyperlink" Target="mailto:rick.divers@us.randstad.com" TargetMode="External"/><Relationship Id="rId165" Type="http://schemas.openxmlformats.org/officeDocument/2006/relationships/hyperlink" Target="http://www.hr-xml.org/subchannels/members.cfm?mode=profile&amp;profile_id=387&amp;wg_id=28" TargetMode="External"/><Relationship Id="rId166" Type="http://schemas.openxmlformats.org/officeDocument/2006/relationships/hyperlink" Target="http://www.hr-xml.org/subchannels/members.cfm?mode=mem_detail&amp;member_id=106&amp;wg_id=28" TargetMode="External"/><Relationship Id="rId167" Type="http://schemas.openxmlformats.org/officeDocument/2006/relationships/hyperlink" Target="mailto:linda.le.grand@randstadholding.com" TargetMode="External"/><Relationship Id="rId168" Type="http://schemas.openxmlformats.org/officeDocument/2006/relationships/hyperlink" Target="mailto:linda.le.grand@randstadholding.com" TargetMode="External"/><Relationship Id="rId169" Type="http://schemas.openxmlformats.org/officeDocument/2006/relationships/hyperlink" Target="mailto:linda.le.grand@randstadholding.com" TargetMode="External"/><Relationship Id="rId170" Type="http://schemas.openxmlformats.org/officeDocument/2006/relationships/hyperlink" Target="mailto:linda.le.grand@randstadholding.com" TargetMode="External"/><Relationship Id="rId171" Type="http://schemas.openxmlformats.org/officeDocument/2006/relationships/hyperlink" Target="http://www.hr-xml.org/subchannels/members.cfm?mode=profile&amp;profile_id=737&amp;wg_id=28" TargetMode="External"/><Relationship Id="rId172" Type="http://schemas.openxmlformats.org/officeDocument/2006/relationships/hyperlink" Target="http://www.hr-xml.org/subchannels/members.cfm?mode=mem_detail&amp;member_id=108&amp;wg_id=28" TargetMode="External"/><Relationship Id="rId173" Type="http://schemas.openxmlformats.org/officeDocument/2006/relationships/hyperlink" Target="http://www.hr-xml.org/subchannels/members.cfm?mode=mem_detail&amp;member_id=108&amp;wg_id=28" TargetMode="External"/><Relationship Id="rId174" Type="http://schemas.openxmlformats.org/officeDocument/2006/relationships/hyperlink" Target="mailto:romuald@recruitsoft.com" TargetMode="External"/><Relationship Id="rId175" Type="http://schemas.openxmlformats.org/officeDocument/2006/relationships/hyperlink" Target="mailto:romuald@recruitsoft.com" TargetMode="External"/><Relationship Id="rId176" Type="http://schemas.openxmlformats.org/officeDocument/2006/relationships/hyperlink" Target="mailto:romuald@recruitsoft.com" TargetMode="External"/><Relationship Id="rId177" Type="http://schemas.openxmlformats.org/officeDocument/2006/relationships/hyperlink" Target="mailto:romuald@recruitsoft.com" TargetMode="External"/><Relationship Id="rId178" Type="http://schemas.openxmlformats.org/officeDocument/2006/relationships/hyperlink" Target="http://www.hr-xml.org/subchannels/members.cfm?mode=profile&amp;profile_id=727&amp;wg_id=28" TargetMode="External"/><Relationship Id="rId179" Type="http://schemas.openxmlformats.org/officeDocument/2006/relationships/hyperlink" Target="http://www.hr-xml.org/subchannels/members.cfm?mode=profile&amp;profile_id=727&amp;wg_id=28" TargetMode="External"/><Relationship Id="rId180" Type="http://schemas.openxmlformats.org/officeDocument/2006/relationships/hyperlink" Target="http://www.hr-xml.org/subchannels/members.cfm?mode=mem_detail&amp;member_id=108&amp;wg_id=28" TargetMode="External"/><Relationship Id="rId181" Type="http://schemas.openxmlformats.org/officeDocument/2006/relationships/hyperlink" Target="http://www.hr-xml.org/subchannels/members.cfm?mode=mem_detail&amp;member_id=108&amp;wg_id=28" TargetMode="External"/><Relationship Id="rId182" Type="http://schemas.openxmlformats.org/officeDocument/2006/relationships/hyperlink" Target="mailto:lshedlin@recruitsoft.com" TargetMode="External"/><Relationship Id="rId183" Type="http://schemas.openxmlformats.org/officeDocument/2006/relationships/hyperlink" Target="mailto:lshedlin@recruitsoft.com" TargetMode="External"/><Relationship Id="rId184" Type="http://schemas.openxmlformats.org/officeDocument/2006/relationships/hyperlink" Target="mailto:lshedlin@recruitsoft.com" TargetMode="External"/><Relationship Id="rId185" Type="http://schemas.openxmlformats.org/officeDocument/2006/relationships/hyperlink" Target="mailto:lshedlin@recruitsoft.com" TargetMode="External"/><Relationship Id="rId186" Type="http://schemas.openxmlformats.org/officeDocument/2006/relationships/hyperlink" Target="http://www.hr-xml.org/subchannels/members.cfm?mode=profile&amp;profile_id=755&amp;wg_id=28" TargetMode="External"/><Relationship Id="rId187" Type="http://schemas.openxmlformats.org/officeDocument/2006/relationships/hyperlink" Target="http://www.hr-xml.org/subchannels/members.cfm?mode=profile&amp;profile_id=755&amp;wg_id=28" TargetMode="External"/><Relationship Id="rId188" Type="http://schemas.openxmlformats.org/officeDocument/2006/relationships/hyperlink" Target="http://www.hr-xml.org/subchannels/members.cfm?mode=mem_detail&amp;member_id=419&amp;wg_id=28" TargetMode="External"/><Relationship Id="rId189" Type="http://schemas.openxmlformats.org/officeDocument/2006/relationships/hyperlink" Target="mailto:adams@rewardsplus.com" TargetMode="External"/><Relationship Id="rId190" Type="http://schemas.openxmlformats.org/officeDocument/2006/relationships/hyperlink" Target="mailto:adams@rewardsplus.com" TargetMode="External"/><Relationship Id="rId191" Type="http://schemas.openxmlformats.org/officeDocument/2006/relationships/hyperlink" Target="mailto:adams@rewardsplus.com" TargetMode="External"/><Relationship Id="rId192" Type="http://schemas.openxmlformats.org/officeDocument/2006/relationships/hyperlink" Target="mailto:adams@rewardsplus.com" TargetMode="External"/><Relationship Id="rId193" Type="http://schemas.openxmlformats.org/officeDocument/2006/relationships/hyperlink" Target="http://www.hr-xml.org/subchannels/members.cfm?mode=profile&amp;profile_id=753&amp;wg_id=28" TargetMode="External"/><Relationship Id="rId194" Type="http://schemas.openxmlformats.org/officeDocument/2006/relationships/hyperlink" Target="http://www.hr-xml.org/subchannels/members.cfm?mode=profile&amp;profile_id=753&amp;wg_id=28" TargetMode="External"/><Relationship Id="rId195" Type="http://schemas.openxmlformats.org/officeDocument/2006/relationships/hyperlink" Target="http://www.hr-xml.org/subchannels/members.cfm?mode=mem_detail&amp;member_id=112&amp;wg_id=28" TargetMode="External"/><Relationship Id="rId196" Type="http://schemas.openxmlformats.org/officeDocument/2006/relationships/hyperlink" Target="mailto:j.conwayjames@rhi.net" TargetMode="External"/><Relationship Id="rId197" Type="http://schemas.openxmlformats.org/officeDocument/2006/relationships/hyperlink" Target="mailto:j.conwayjames@rhi.net" TargetMode="External"/><Relationship Id="rId198" Type="http://schemas.openxmlformats.org/officeDocument/2006/relationships/hyperlink" Target="mailto:j.conwayjames@rhi.net" TargetMode="External"/><Relationship Id="rId199" Type="http://schemas.openxmlformats.org/officeDocument/2006/relationships/hyperlink" Target="mailto:j.conwayjames@rhi.net" TargetMode="External"/><Relationship Id="rId200" Type="http://schemas.openxmlformats.org/officeDocument/2006/relationships/hyperlink" Target="mailto:j.conwayjames@rhi.net" TargetMode="External"/><Relationship Id="rId201" Type="http://schemas.openxmlformats.org/officeDocument/2006/relationships/hyperlink" Target="http://www.hr-xml.org/subchannels/members.cfm?mode=profile&amp;profile_id=23&amp;wg_id=28" TargetMode="External"/><Relationship Id="rId202" Type="http://schemas.openxmlformats.org/officeDocument/2006/relationships/hyperlink" Target="http://www.hr-xml.org/subchannels/members.cfm?mode=mem_detail&amp;member_id=112&amp;wg_id=28" TargetMode="External"/><Relationship Id="rId203" Type="http://schemas.openxmlformats.org/officeDocument/2006/relationships/hyperlink" Target="mailto:don.simonson@rhii.com" TargetMode="External"/><Relationship Id="rId204" Type="http://schemas.openxmlformats.org/officeDocument/2006/relationships/hyperlink" Target="mailto:don.simonson@rhii.com" TargetMode="External"/><Relationship Id="rId205" Type="http://schemas.openxmlformats.org/officeDocument/2006/relationships/hyperlink" Target="mailto:don.simonson@rhii.com" TargetMode="External"/><Relationship Id="rId206" Type="http://schemas.openxmlformats.org/officeDocument/2006/relationships/hyperlink" Target="mailto:don.simonson@rhii.com" TargetMode="External"/><Relationship Id="rId207" Type="http://schemas.openxmlformats.org/officeDocument/2006/relationships/hyperlink" Target="mailto:don.simonson@rhii.com" TargetMode="External"/><Relationship Id="rId208" Type="http://schemas.openxmlformats.org/officeDocument/2006/relationships/hyperlink" Target="http://www.hr-xml.org/subchannels/members.cfm?mode=profile&amp;profile_id=35&amp;wg_id=28" TargetMode="External"/><Relationship Id="rId209" Type="http://schemas.openxmlformats.org/officeDocument/2006/relationships/hyperlink" Target="http://www.hr-xml.org/subchannels/members.cfm?mode=mem_detail&amp;member_id=116&amp;wg_id=28" TargetMode="External"/><Relationship Id="rId210" Type="http://schemas.openxmlformats.org/officeDocument/2006/relationships/hyperlink" Target="mailto:andreas.bold@sap.com" TargetMode="External"/><Relationship Id="rId211" Type="http://schemas.openxmlformats.org/officeDocument/2006/relationships/hyperlink" Target="mailto:andreas.bold@sap.com" TargetMode="External"/><Relationship Id="rId212" Type="http://schemas.openxmlformats.org/officeDocument/2006/relationships/hyperlink" Target="http://www.hr-xml.org/subchannels/members.cfm?mode=profile&amp;profile_id=745&amp;wg_id=28" TargetMode="External"/><Relationship Id="rId213" Type="http://schemas.openxmlformats.org/officeDocument/2006/relationships/hyperlink" Target="http://www.hr-xml.org/subchannels/members.cfm?mode=profile&amp;profile_id=745&amp;wg_id=28" TargetMode="External"/><Relationship Id="rId214" Type="http://schemas.openxmlformats.org/officeDocument/2006/relationships/hyperlink" Target="http://www.hr-xml.org/subchannels/members.cfm?mode=mem_detail&amp;member_id=199&amp;wg_id=28" TargetMode="External"/><Relationship Id="rId215" Type="http://schemas.openxmlformats.org/officeDocument/2006/relationships/hyperlink" Target="mailto:mika@stepstone.de" TargetMode="External"/><Relationship Id="rId216" Type="http://schemas.openxmlformats.org/officeDocument/2006/relationships/hyperlink" Target="mailto:mika@stepstone.de" TargetMode="External"/><Relationship Id="rId217" Type="http://schemas.openxmlformats.org/officeDocument/2006/relationships/hyperlink" Target="mailto:mika@stepstone.de" TargetMode="External"/><Relationship Id="rId218" Type="http://schemas.openxmlformats.org/officeDocument/2006/relationships/hyperlink" Target="mailto:mika@stepstone.de" TargetMode="External"/><Relationship Id="rId21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52400" y="609120"/>
            <a:ext cx="695772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TAFFING INDUSTRY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1752480"/>
            <a:ext cx="624852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ARE THE ISSUES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CUSTOMER’S VIEWPOINT 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OUR VIEWPOINT 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SOFTWARE VENDOR’S VIEWPOIN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09680" y="2057400"/>
            <a:ext cx="1981440" cy="2819520"/>
          </a:xfrm>
          <a:prstGeom prst="rect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57320" y="762120"/>
            <a:ext cx="695808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OUR VIEWPOINT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14600" y="2286000"/>
          <a:ext cx="15289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15289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4495680" y="259092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thout achieving a cost effective means of integration we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cking ourselves out of major contracts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TO THE RESCUE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14479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NEED FOR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TAFF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DUSTRY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AT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TERCHANG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TANDAR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WAS RECOGNISED AS THE MOST EFFECTIVE WAY OF LOWERING THE COSTS TO US AND OUR CUSTOMERS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TO THE RESCUE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81080" y="1447920"/>
            <a:ext cx="62485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THE NEED FOR STAFFING INDUSTRY DATA INTERCHANGE STANDARDS (SIDES) WAS RECOGNISED AS THE MOST EFFECTIVE WAY OF LOWERING THE COSTS TO US AND OUR CUSTOMER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ENSURE A STANDARD,  WE HAD TO TAKE TWO APPROACHES –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– BRING TOGETHER THE LARGEST STAFFING COMPANIES TO COLLABORATE TO THIS END.   THUS,  ADECCO,  KELLY, MANPOWER, SPHERION, RANDSTAD AND VEDIOR JOINTLY CREATED SIDE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TO THE RESCUE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447920"/>
            <a:ext cx="62485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THE NEED FOR STAFFING INDUSTRY DATA INTERCHANGE STANDARDS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(SIDES)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WAS RECOGNISED AS THE MOST EFFECTIVE WAY OF LOWERING THE COSTS TO US AND OUR CUSTOMER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TO ENSURE A STANDARD,  WE HAD TO TAKE TWO APPROACHES –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1 – BRING TOGETHER THE LARGEST STAFFING COMPANIES TO COLLABORATE TO THIS END.   THUS,  ADECCO,  KELLY, MANPOWER, SPHERION, RANDSTAD AND VEDIOR JOINTLY CREATED SIDE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 – SELECT A MEANS OF PUTTING SIDES INTO THE PUBLIC DOMAIN….MAKING IT FREELY AVAILABLE TO ANYONE,  CUSTOMERS,  STAFFING COMPANIES,  INTERMEDIARIES AND SOFTWARE COMPANIES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TO THE RESCUE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81080" y="1447920"/>
            <a:ext cx="62485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MAKE SIDES TRULY A PUBLIC STANDARD THE COLLABORATION HAS DONATED ITS WORK TO THE PUBLIC CONSORTIUM HR-XML – WHICH IS DEDICATED TO ENSURING COMMON DATA STANDARDS FOR HUMAN RESOURCE ACTIVITIES ARE PROVIDED AT NO COST TO USERS AND ARE CENTRALLY MAINTAINED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TO THE RESCUE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81080" y="1447920"/>
            <a:ext cx="62485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TO MAKE SIDES TRULY A PUBLIC STANDARD THE COLLABORATION HAS DONATED ITS WORK TO THE PUBLIC CONSORTIUM HR-XML – WHICH IS DEDICATED TO ENSURING COMMON DATA STANDARDS FOR HUMAN RESOURCE ACTIVITIES ARE PROVIDED AT NO COST TO USERS AND ARE CENTRALLY MAINTAINED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r goal has been to create a “straw model” and use this as the starting point of the HR-XML SIDES proces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TO THE RESCUE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1447920"/>
            <a:ext cx="62485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TO MAKE SIDES TRULY A PUBLIC STANDARD THE COLLABORATION HAS DONATED ITS WORK TO THE PUBLIC CONSORTIUM HR-XML – WHICH IS DEDICATED TO ENSURING COMMON DATA STANDARDS FOR HUMAN RESOURCE ACTIVITIES ARE PROVIDED AT NO COST TO USERS AND ARE CENTRALLY MAINTAINED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Our goal has been to create a “straw model” and use this as the starting point of the HR-XML SIDES proces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,  THE SIX COMPANIES ARE NOW PREPARING TO FOSTER THE PROJECT AMONGST OUR OTHER HR-XML COLLEAGUES,  AND WORK THROUGH THE PUBLIC DOMAIN PROCESS SO IT BECOMES AN ACCEPTED WORLD WIDE STANDAR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805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60948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STRUCTURE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2666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we have to do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805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60948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STRUCTURE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676520" y="1600200"/>
            <a:ext cx="6705360" cy="4800600"/>
            <a:chOff x="1676520" y="1600200"/>
            <a:chExt cx="6705360" cy="4800600"/>
          </a:xfrm>
        </p:grpSpPr>
        <p:sp>
          <p:nvSpPr>
            <p:cNvPr id="405" name=""/>
            <p:cNvSpPr/>
            <p:nvPr/>
          </p:nvSpPr>
          <p:spPr>
            <a:xfrm>
              <a:off x="4278240" y="1600200"/>
              <a:ext cx="1271520" cy="374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00"/>
                  </a:solidFill>
                  <a:latin typeface="Arial"/>
                </a:rPr>
                <a:t>SIDES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71960" y="1974960"/>
              <a:ext cx="0" cy="37296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6520" y="3033720"/>
              <a:ext cx="809640" cy="43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Quote &amp;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Order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81160" y="2347920"/>
              <a:ext cx="578016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48040" y="3033720"/>
              <a:ext cx="809640" cy="43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Selection &amp;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Matching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62320" y="3033720"/>
              <a:ext cx="809640" cy="43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Fulfillment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59400" y="3033720"/>
              <a:ext cx="808200" cy="43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Time 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Capture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56320" y="3033720"/>
              <a:ext cx="809640" cy="43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Invoicing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81160" y="2347920"/>
              <a:ext cx="0" cy="685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52680" y="2347920"/>
              <a:ext cx="0" cy="685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7320" y="2347920"/>
              <a:ext cx="0" cy="685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2347920"/>
              <a:ext cx="0" cy="685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61320" y="2347920"/>
              <a:ext cx="0" cy="685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45120" y="3532320"/>
              <a:ext cx="1039680" cy="500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Cross-Process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Objects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65680" y="2347920"/>
              <a:ext cx="0" cy="11844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76520" y="4281480"/>
              <a:ext cx="750600" cy="43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Order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Schem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81160" y="3470400"/>
              <a:ext cx="0" cy="8110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43040" y="4281480"/>
              <a:ext cx="752760" cy="43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Order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Schem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2680" y="4281480"/>
              <a:ext cx="750960" cy="43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Order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Schem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52680" y="3470400"/>
              <a:ext cx="0" cy="56196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947680" y="4032360"/>
              <a:ext cx="80964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67320" y="3470400"/>
              <a:ext cx="0" cy="8110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19560" y="4281480"/>
              <a:ext cx="752400" cy="43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Assignment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Schem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62600" y="3470400"/>
              <a:ext cx="0" cy="8110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16640" y="4281480"/>
              <a:ext cx="750960" cy="43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Time Card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Schem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15360" y="4281480"/>
              <a:ext cx="750600" cy="43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Invoice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Schem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1320" y="3470400"/>
              <a:ext cx="0" cy="8110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57680" y="5340240"/>
              <a:ext cx="750960" cy="43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Person-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Name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48040" y="4032360"/>
              <a:ext cx="0" cy="24912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57680" y="4032360"/>
              <a:ext cx="0" cy="24912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33840" y="5964120"/>
              <a:ext cx="750960" cy="4366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Profile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43400" y="5943600"/>
              <a:ext cx="809640" cy="43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Qualification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67600" y="5278320"/>
              <a:ext cx="752400" cy="4366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position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12000" y="5340240"/>
              <a:ext cx="750600" cy="43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Postal-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Address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06720" y="5964120"/>
              <a:ext cx="808200" cy="4366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Background-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Check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70240" y="5340240"/>
              <a:ext cx="750960" cy="4366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Contact-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Detail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33400" y="5964120"/>
              <a:ext cx="752760" cy="4366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Tracking-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Information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89800" y="5964120"/>
              <a:ext cx="752400" cy="4366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Resume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31280" y="5964120"/>
              <a:ext cx="750600" cy="43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00"/>
                  </a:solidFill>
                  <a:latin typeface="Arial"/>
                </a:rPr>
                <a:t>Currency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65680" y="4032360"/>
              <a:ext cx="0" cy="93492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38400" y="4967280"/>
              <a:ext cx="589752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38400" y="4967280"/>
              <a:ext cx="0" cy="9968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6200" y="4967280"/>
              <a:ext cx="0" cy="37296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09920" y="4967280"/>
              <a:ext cx="0" cy="9968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03640" y="4967280"/>
              <a:ext cx="0" cy="37296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40120" y="4967280"/>
              <a:ext cx="0" cy="9968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80160" y="4967280"/>
              <a:ext cx="0" cy="9968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59400" y="4967280"/>
              <a:ext cx="0" cy="37296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7200" y="4967280"/>
              <a:ext cx="0" cy="9968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15360" y="4967280"/>
              <a:ext cx="0" cy="3110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35920" y="4967280"/>
              <a:ext cx="0" cy="9968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805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76520" y="60948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STRUCTURE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2666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o has agreed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assist us.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209680" y="2362320"/>
          <a:ext cx="2858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133720" y="2971800"/>
          <a:ext cx="9525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1800"/>
                    <a:ext cx="9525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2533680" y="2362320"/>
          <a:ext cx="2858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3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7832880" y="25257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22320" y="1143000"/>
            <a:ext cx="729936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STOMER’S VIEWPOINT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2880" y="21636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805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76520" y="609480"/>
            <a:ext cx="6805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WORK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2286000"/>
            <a:ext cx="541008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oject Lead – Ian Anson - Vedio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ata Object Modeler – Steve Huan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chema/DTD Implementer – Steve Huan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PO Liaison – John DeRoche - Manpowe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Related Standards Group Liaison – Keith   Ensroth - Kelly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otocol Implementer/Editor – Kathi Dolan - Manpowe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main Coordinator – Peter Parks and Doug Prittie - Manpower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ecretary/Recorder – Rick Diver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- Randstad</a:t>
            </a:r>
            <a:br>
              <a:rPr sz="2000"/>
            </a:b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1676520"/>
            <a:ext cx="3810240" cy="39888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514600" y="1676520"/>
            <a:ext cx="54864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eam Lead – Gail Bubsey  - Kelly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echnical author – Steve Huang - Projec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affing Supplier – lead - Barbara Johnson - Adecc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affing Supplier Customer – lead - Barbara Johnson - Adecco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affing Action – lead - Tricia Brown - Spher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Qualification – lead - Doug Prittie - Manpowe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ontact Details – lead - John DeRoche - Manpowe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ckground Checks – lead - Gail Bubsey - Kelly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racking info - unassign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66880" y="914400"/>
            <a:ext cx="4114800" cy="58140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CHEMAS TEAM 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666880" y="914400"/>
            <a:ext cx="4114800" cy="58140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CHEMAS TEAM B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1676520"/>
            <a:ext cx="434340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Team Lead – Tara Ryan - Adecco</a:t>
            </a:r>
            <a:endParaRPr b="0" lang="en-US" sz="1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Technical author – Steve Huang</a:t>
            </a:r>
            <a:endParaRPr b="0" lang="en-US" sz="1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Order – group</a:t>
            </a:r>
            <a:endParaRPr b="0" lang="en-US" sz="1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Human Resource – group</a:t>
            </a:r>
            <a:endParaRPr b="0" lang="en-US" sz="1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Assignment – group</a:t>
            </a:r>
            <a:endParaRPr b="0" lang="en-US" sz="1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Invoice – group</a:t>
            </a:r>
            <a:endParaRPr b="0" lang="en-US" sz="1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447920" y="304920"/>
            <a:ext cx="3429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Verdana"/>
              </a:rPr>
              <a:t>Adecco Corporation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"/>
              </a:rPr>
              <a:t>Barbara Johnson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"/>
              </a:rPr>
              <a:t>Adecco Corporation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"/>
              </a:rPr>
              <a:t>barbar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"/>
              </a:rPr>
              <a:t>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"/>
              </a:rPr>
              <a:t>johnso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"/>
              </a:rPr>
              <a:t>adecco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"/>
              </a:rPr>
              <a:t>Jonathan Mack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"/>
              </a:rPr>
              <a:t>Adecco Corporation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"/>
              </a:rPr>
              <a:t>jonatha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"/>
              </a:rPr>
              <a:t>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"/>
              </a:rPr>
              <a:t>mack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"/>
              </a:rPr>
              <a:t>adecco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"/>
              </a:rPr>
              <a:t>Joe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"/>
              </a:rPr>
              <a:t> Maggio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"/>
              </a:rPr>
              <a:t>Adecco Corporation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"/>
              </a:rPr>
              <a:t>joe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"/>
              </a:rPr>
              <a:t>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2"/>
              </a:rPr>
              <a:t>maggio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3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4"/>
              </a:rPr>
              <a:t>adecco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5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6"/>
              </a:rPr>
              <a:t>Tara Ryan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7"/>
              </a:rPr>
              <a:t>Adecco Corporation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8"/>
              </a:rPr>
              <a:t>tar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9"/>
              </a:rPr>
              <a:t>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0"/>
              </a:rPr>
              <a:t>rya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1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2"/>
              </a:rPr>
              <a:t>adecco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3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4"/>
              </a:rPr>
              <a:t>James Strain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5"/>
              </a:rPr>
              <a:t>Adecco Corporation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6"/>
              </a:rPr>
              <a:t>James.Strain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7"/>
              </a:rPr>
              <a:t>AdeccoN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8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Verdana"/>
              </a:rPr>
              <a:t>Administaff, Inc.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39"/>
              </a:rPr>
              <a:t>Bobby Robertson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0"/>
              </a:rPr>
              <a:t>Administaff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1"/>
              </a:rPr>
              <a:t>, Inc.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2"/>
              </a:rPr>
              <a:t>bobby_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3"/>
              </a:rPr>
              <a:t>robertso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4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5"/>
              </a:rPr>
              <a:t>administaff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6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Verdana"/>
              </a:rPr>
              <a:t>American Background Information Services, Inc.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7"/>
              </a:rPr>
              <a:t>Brad Whitney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8"/>
              </a:rPr>
              <a:t>bwhitney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49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0"/>
              </a:rPr>
              <a:t>americanbackground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1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Verdana"/>
              </a:rPr>
              <a:t>BrassRing, Inc.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2"/>
              </a:rPr>
              <a:t>Mathi Nithyanandam  Mathiyazhagan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3"/>
              </a:rPr>
              <a:t>BrassRing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4"/>
              </a:rPr>
              <a:t>, Inc.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5"/>
              </a:rPr>
              <a:t>mathi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6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7"/>
              </a:rPr>
              <a:t>brassring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8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Verdana"/>
              </a:rPr>
              <a:t>HR-XML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59"/>
              </a:rPr>
              <a:t>Chuck Allen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0"/>
              </a:rPr>
              <a:t>HR-XML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1"/>
              </a:rPr>
              <a:t>chuck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2"/>
              </a:rPr>
              <a:t>@hr-xml.org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3"/>
              </a:rPr>
              <a:t>Kim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4"/>
              </a:rPr>
              <a:t> Bartkus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5"/>
              </a:rPr>
              <a:t>HR-XML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6"/>
              </a:rPr>
              <a:t>kim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7"/>
              </a:rPr>
              <a:t>@hr-xml.org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8"/>
              </a:rPr>
              <a:t>Paul Kiel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69"/>
              </a:rPr>
              <a:t>HR-XML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0"/>
              </a:rPr>
              <a:t>paul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1"/>
              </a:rPr>
              <a:t>@hr-xml.org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Verdana"/>
              </a:rPr>
              <a:t>Infosoft Group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2"/>
              </a:rPr>
              <a:t>Scott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3"/>
              </a:rPr>
              <a:t> Molitor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4"/>
              </a:rPr>
              <a:t>Infosoft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5"/>
              </a:rPr>
              <a:t> Group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6"/>
              </a:rPr>
              <a:t>scott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7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8"/>
              </a:rPr>
              <a:t>milwaukeejobs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79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Verdana"/>
              </a:rPr>
              <a:t>Kelly Services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0"/>
              </a:rPr>
              <a:t>Gail Bubsey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1"/>
              </a:rPr>
              <a:t>Kelly Services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2"/>
              </a:rPr>
              <a:t>gail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3"/>
              </a:rPr>
              <a:t>_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4"/>
              </a:rPr>
              <a:t>bubsey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5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6"/>
              </a:rPr>
              <a:t>kellyservices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7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8"/>
              </a:rPr>
              <a:t>Keith Ensroth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89"/>
              </a:rPr>
              <a:t>Kelly Services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0"/>
              </a:rPr>
              <a:t>ensrokl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1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2"/>
              </a:rPr>
              <a:t>kellyservices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3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Verdana"/>
              </a:rPr>
              <a:t>Manpower, Inc.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4"/>
              </a:rPr>
              <a:t>Charles Bartels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5"/>
              </a:rPr>
              <a:t>Manpower, Inc.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6"/>
              </a:rPr>
              <a:t>charles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7"/>
              </a:rPr>
              <a:t>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8"/>
              </a:rPr>
              <a:t>bartels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99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0"/>
              </a:rPr>
              <a:t>n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1"/>
              </a:rPr>
              <a:t>.manpower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2"/>
              </a:rPr>
              <a:t>Gary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3"/>
              </a:rPr>
              <a:t> Cleal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4"/>
              </a:rPr>
              <a:t>Manpower, Inc.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5"/>
              </a:rPr>
              <a:t>gary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6"/>
              </a:rPr>
              <a:t>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7"/>
              </a:rPr>
              <a:t>cleal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8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09"/>
              </a:rPr>
              <a:t>manpowerinc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0"/>
              </a:rPr>
              <a:t>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1"/>
              </a:rPr>
              <a:t>John DeRoche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2"/>
              </a:rPr>
              <a:t>Manpower, Inc.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3"/>
              </a:rPr>
              <a:t>john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4"/>
              </a:rPr>
              <a:t>deroche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5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6"/>
              </a:rPr>
              <a:t>n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7"/>
              </a:rPr>
              <a:t>.manpower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8"/>
              </a:rPr>
              <a:t>Kathi Dolan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19"/>
              </a:rPr>
              <a:t>Manpower, Inc.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0"/>
              </a:rPr>
              <a:t>kathi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1"/>
              </a:rPr>
              <a:t>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2"/>
              </a:rPr>
              <a:t>dola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3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4"/>
              </a:rPr>
              <a:t>n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5"/>
              </a:rPr>
              <a:t>.manpower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6"/>
              </a:rPr>
              <a:t>Peter Parks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7"/>
              </a:rPr>
              <a:t>Manpower, Inc.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8"/>
              </a:rPr>
              <a:t>peter.parks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29"/>
              </a:rPr>
              <a:t>n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0"/>
              </a:rPr>
              <a:t>.manpower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1"/>
              </a:rPr>
              <a:t>Doug Prittie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2"/>
              </a:rPr>
              <a:t>Manpower, Inc.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3"/>
              </a:rPr>
              <a:t>doug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4"/>
              </a:rPr>
              <a:t>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5"/>
              </a:rPr>
              <a:t>prittie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6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7"/>
              </a:rPr>
              <a:t>n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8"/>
              </a:rPr>
              <a:t>.manpower.com</a:t>
            </a:r>
            <a:r>
              <a:rPr b="0" lang="en-US" sz="8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228600"/>
            <a:ext cx="403848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nextSourc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39"/>
              </a:rPr>
              <a:t>Mervyn Naidoo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0"/>
              </a:rPr>
              <a:t>nextSource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1"/>
              </a:rPr>
              <a:t>mnaidoo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2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3"/>
              </a:rPr>
              <a:t>nextsource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4"/>
              </a:rPr>
              <a:t>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5"/>
              </a:rPr>
              <a:t>Marc Wong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6"/>
              </a:rPr>
              <a:t>nextSource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7"/>
              </a:rPr>
              <a:t>mwong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8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49"/>
              </a:rPr>
              <a:t>nextsource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0"/>
              </a:rPr>
              <a:t>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Peopleclick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1"/>
              </a:rPr>
              <a:t>Allen Crockett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2"/>
              </a:rPr>
              <a:t>Peopleclick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3"/>
              </a:rPr>
              <a:t>alle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4"/>
              </a:rPr>
              <a:t>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5"/>
              </a:rPr>
              <a:t>crockett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6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7"/>
              </a:rPr>
              <a:t>peopleclick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8"/>
              </a:rPr>
              <a:t>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Randstad Holding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59"/>
              </a:rPr>
              <a:t>Rick Divers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0"/>
              </a:rPr>
              <a:t>Randstad Holding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1"/>
              </a:rPr>
              <a:t>rick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2"/>
              </a:rPr>
              <a:t>.divers@us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3"/>
              </a:rPr>
              <a:t>randstad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4"/>
              </a:rPr>
              <a:t>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5"/>
              </a:rPr>
              <a:t>Linda le Grand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6"/>
              </a:rPr>
              <a:t>Randstad Holding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7"/>
              </a:rPr>
              <a:t>lind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8"/>
              </a:rPr>
              <a:t>.le.grand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69"/>
              </a:rPr>
              <a:t>randstadholding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0"/>
              </a:rPr>
              <a:t>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Recruitsoft, Inc.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1"/>
              </a:rPr>
              <a:t>Romuald Restout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2"/>
              </a:rPr>
              <a:t>Recruitsoft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3"/>
              </a:rPr>
              <a:t>, Inc.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4"/>
              </a:rPr>
              <a:t>romuald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5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6"/>
              </a:rPr>
              <a:t>recruitsoft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7"/>
              </a:rPr>
              <a:t>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8"/>
              </a:rPr>
              <a:t>Larki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79"/>
              </a:rPr>
              <a:t> Shedlin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0"/>
              </a:rPr>
              <a:t>Recruitsoft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1"/>
              </a:rPr>
              <a:t>, Inc.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2"/>
              </a:rPr>
              <a:t>lshedli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3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4"/>
              </a:rPr>
              <a:t>recruitsoft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5"/>
              </a:rPr>
              <a:t>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RewardsPlus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6"/>
              </a:rPr>
              <a:t>Adam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7"/>
              </a:rPr>
              <a:t> Sroka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8"/>
              </a:rPr>
              <a:t>RewardsPlus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89"/>
              </a:rPr>
              <a:t>adams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0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1"/>
              </a:rPr>
              <a:t>rewardsplus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2"/>
              </a:rPr>
              <a:t>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Robert Half International, Inc.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3"/>
              </a:rPr>
              <a:t>Jolyn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4"/>
              </a:rPr>
              <a:t> Conway-James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5"/>
              </a:rPr>
              <a:t>Robert Half International, Inc.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6"/>
              </a:rPr>
              <a:t>j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7"/>
              </a:rPr>
              <a:t>conwayjames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8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199"/>
              </a:rPr>
              <a:t>rhi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0"/>
              </a:rPr>
              <a:t>.net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1"/>
              </a:rPr>
              <a:t>Don  Simonson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2"/>
              </a:rPr>
              <a:t>Robert Half International, Inc.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3"/>
              </a:rPr>
              <a:t>don.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4"/>
              </a:rPr>
              <a:t>simonson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5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6"/>
              </a:rPr>
              <a:t>rhii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7"/>
              </a:rPr>
              <a:t>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SAP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8"/>
              </a:rPr>
              <a:t>Andreas Bold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09"/>
              </a:rPr>
              <a:t>SAP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0"/>
              </a:rPr>
              <a:t>andreas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1"/>
              </a:rPr>
              <a:t>.bold@sap.com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StepSton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2"/>
              </a:rPr>
              <a:t>Mik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3"/>
              </a:rPr>
              <a:t> Goeckel</a:t>
            </a:r>
            <a:br>
              <a:rPr sz="800"/>
            </a:b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4"/>
              </a:rPr>
              <a:t>StepStone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  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5"/>
              </a:rPr>
              <a:t>mika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6"/>
              </a:rPr>
              <a:t>@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7"/>
              </a:rPr>
              <a:t>stepstone</a:t>
            </a:r>
            <a:r>
              <a:rPr b="0" lang="en-US" sz="800" spc="-1" strike="noStrike" u="sng">
                <a:solidFill>
                  <a:srgbClr val="999933"/>
                </a:solidFill>
                <a:uFillTx/>
                <a:latin typeface="Verdana"/>
                <a:hlinkClick r:id="rId218"/>
              </a:rPr>
              <a:t>.de</a:t>
            </a: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Tesseract Corporation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Jan Gonzalez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Tesseract Corporation   Jan_Gonzalez@tesseract.com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Think Ahead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Bharat Gera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Verdana"/>
              </a:rPr>
              <a:t>Think Ahead   bgera@thinkahead.net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8680" y="1643040"/>
          <a:ext cx="848664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643040"/>
                    <a:ext cx="84866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2971800" y="533520"/>
            <a:ext cx="4114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 WORKING SCHEDUL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BE DISCUSSED IN LOND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805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43200" y="2743200"/>
            <a:ext cx="4419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ES SUMMARY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805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28800" y="685800"/>
            <a:ext cx="6729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DES IS A STAFFING INDUSTRY INITIATIV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S IS THE USE OF XML TO DEFINE STANDARD DATA INTERCHANG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THE USE OF SIDES WILL LOWER THE COSTS FOR BOTH OURSELVES,  OUR CUSTOMERS AND OUR SOFTWARE VENDORS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S WILL BE MANAGED BY THE HR-XML CONSORTIUM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DES IS WORK IN PROGRESS.  THE PROJECT SCHEDULE IS AMBITIOUS BUT WELL SUPPORTED.   WE HOPE TO VOTE ON SIDES V1.0 BY FEBRUARY 2002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838080"/>
            <a:ext cx="5410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805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19520" y="838080"/>
            <a:ext cx="4419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I PARTICIPATE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213372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5120" y="25146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G INTO WWW.HR-XML.ORG AND ENTER THE MEMBERS AREA.  THE PASSWORD IS ISSUED TO ALL MEMBER COMPANIES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805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838080"/>
            <a:ext cx="4419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I PARTICIPATE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14400" y="213372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2514600"/>
            <a:ext cx="5867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6969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LOG INTO WWW.HR-XML.ORG AND ENTER THE MEMBERS AREA.  THE PASSWORD IS ISSUED TO ALL MEMBER COMPANIES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EATE YOUR PROFILE AND SELECT YOUR AREA OF INTEREST (SIDES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805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838080"/>
            <a:ext cx="4419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I PARTICIPATE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14400" y="213372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05120" y="2514600"/>
            <a:ext cx="58672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6969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LOG INTO WWW.HR-XML.ORG AND ENTER THE MEMBERS AREA.  THE PASSWORD IS ZED9MAR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6969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CREATE YOUR PROFILE AND SELECT YOUR AREA OF INTEREST (SIDES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ARE NOW ON THE MAILING LIST.  YOU WILL BE ELIGIBLE TO PARTICIPATE IN EMAIL DISCUSSIONS,  ETC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209680" y="2362320"/>
          <a:ext cx="2858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133720" y="2971800"/>
          <a:ext cx="9525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1800"/>
                    <a:ext cx="9525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800600" y="3809880"/>
          <a:ext cx="49212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80988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800600" y="2743200"/>
          <a:ext cx="4921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74320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800600" y="1752480"/>
          <a:ext cx="49212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175248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800600" y="4876920"/>
          <a:ext cx="492120" cy="76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876920"/>
                    <a:ext cx="49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533680" y="2362320"/>
          <a:ext cx="28584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33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4191120" y="1523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A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32880" y="25257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22320" y="1143000"/>
            <a:ext cx="729936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STOMER’S VIEWPOINT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220968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ur customers,  particularly the larger ones,  want to deal with multiple suppliers,  AND use technology to help them with their procurement process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25146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35812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C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46483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D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2880" y="21636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805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838080"/>
            <a:ext cx="4419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I PARTICIPATE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14400" y="213372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2133720"/>
            <a:ext cx="586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K YOUR VENDORS TO ENSURE THE PRODUCT DEVELOPMENT PEOPLE ARE AWARE OF HR-XML AND THAT WHEN THE STANDARD IS FINALISED ALL NEW PRODUCTS ARE EXPECTED TO COMPLY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805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19520" y="838080"/>
            <a:ext cx="4419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I PARTICIPATE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13372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81080" y="2133720"/>
            <a:ext cx="58676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6969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ASK YOUR VENDORS TO ENSURE THE PRODUCT DEVELOPMENT PEOPLE ARE AWARE OF HR-XML AND THAT WHEN THE STANDARD IS FINALISED ALL NEW PRODUCTS ARE EXPECTED TO COMPLY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SURE YOUR CUSTOMERS KNOW THAT YOUR COMPANY AND THE INDUSTRY ARE WORKING ON A COMMON STANDARD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805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19520" y="838080"/>
            <a:ext cx="4419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I PARTICIPATE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213372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81080" y="2133720"/>
            <a:ext cx="586764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6969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ASK YOUR VENDORS TO ENSURE THE PRODUCT DEVELOPMENT PEOPLE ARE AWARE OF HR-XML AND THAT WHEN THE STANDARD IS FINALISED ALL NEW PRODUCTS ARE EXPECTED TO COMPLY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6969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ENSURE YOUR CUSTOMERS KNOW THAT YOUR COMPANY AND THE INDUSTRY ARE WORKING ON A COMMON STANDARD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WNLOAD THE SIDES DOCUMENT AND BECOME FAMILIAR WITH EXISTING WORK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743200" y="220932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END&gt;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/END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2209680" y="2362320"/>
          <a:ext cx="2858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133720" y="2971800"/>
          <a:ext cx="9525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1800"/>
                    <a:ext cx="9525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800600" y="3809880"/>
          <a:ext cx="49212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80988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800600" y="2743200"/>
          <a:ext cx="4921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74320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800600" y="1752480"/>
          <a:ext cx="49212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175248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800600" y="4876920"/>
          <a:ext cx="492120" cy="76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876920"/>
                    <a:ext cx="49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533680" y="2362320"/>
          <a:ext cx="28584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33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 rot="19182600">
            <a:off x="3111120" y="2734920"/>
            <a:ext cx="1917720" cy="239760"/>
          </a:xfrm>
          <a:prstGeom prst="rightArrow">
            <a:avLst>
              <a:gd name="adj1" fmla="val 50000"/>
              <a:gd name="adj2" fmla="val 199962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0883000">
            <a:off x="3273480" y="33285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37800">
            <a:off x="3161880" y="3792600"/>
            <a:ext cx="1752840" cy="228600"/>
          </a:xfrm>
          <a:prstGeom prst="rightArrow">
            <a:avLst>
              <a:gd name="adj1" fmla="val 50000"/>
              <a:gd name="adj2" fmla="val 19169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2635200">
            <a:off x="2908080" y="4272120"/>
            <a:ext cx="2323800" cy="228600"/>
          </a:xfrm>
          <a:prstGeom prst="rightArrow">
            <a:avLst>
              <a:gd name="adj1" fmla="val 50000"/>
              <a:gd name="adj2" fmla="val 254134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276720"/>
            <a:ext cx="457200" cy="609480"/>
          </a:xfrm>
          <a:prstGeom prst="ellipse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72200" y="304812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RDERS GO OUT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O PREFERRED SUPPLIER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27080" y="1143000"/>
            <a:ext cx="711504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STOMER’S VIEWPOINT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1523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A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25146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35812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C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91120" y="46483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D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82880" y="21636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2362320"/>
          <a:ext cx="2858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133720" y="2971800"/>
          <a:ext cx="9525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1800"/>
                    <a:ext cx="9525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800600" y="3809880"/>
          <a:ext cx="49212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80988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4800600" y="2743200"/>
          <a:ext cx="4921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74320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800600" y="1752480"/>
          <a:ext cx="49212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175248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800600" y="4876920"/>
          <a:ext cx="492120" cy="76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876920"/>
                    <a:ext cx="49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943600" y="1905120"/>
          <a:ext cx="2952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1905120"/>
                    <a:ext cx="295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324480" y="1905120"/>
          <a:ext cx="29556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1905120"/>
                    <a:ext cx="295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715080" y="1905120"/>
          <a:ext cx="295200" cy="457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15080" y="1905120"/>
                    <a:ext cx="295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867280" y="4038480"/>
          <a:ext cx="29556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4038480"/>
                    <a:ext cx="295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6334200" y="4038480"/>
          <a:ext cx="29520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34200" y="4038480"/>
                    <a:ext cx="295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533680" y="2362320"/>
          <a:ext cx="2858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33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 rot="19182600">
            <a:off x="3111120" y="2734920"/>
            <a:ext cx="1917720" cy="239760"/>
          </a:xfrm>
          <a:prstGeom prst="rightArrow">
            <a:avLst>
              <a:gd name="adj1" fmla="val 50000"/>
              <a:gd name="adj2" fmla="val 199962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20883000">
            <a:off x="3273480" y="33285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837800">
            <a:off x="3161880" y="3792600"/>
            <a:ext cx="1752840" cy="228600"/>
          </a:xfrm>
          <a:prstGeom prst="rightArrow">
            <a:avLst>
              <a:gd name="adj1" fmla="val 50000"/>
              <a:gd name="adj2" fmla="val 19169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2635200">
            <a:off x="2908080" y="4272120"/>
            <a:ext cx="2323800" cy="228600"/>
          </a:xfrm>
          <a:prstGeom prst="rightArrow">
            <a:avLst>
              <a:gd name="adj1" fmla="val 50000"/>
              <a:gd name="adj2" fmla="val 254134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3276720"/>
            <a:ext cx="457200" cy="609480"/>
          </a:xfrm>
          <a:prstGeom prst="ellipse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3124080"/>
            <a:ext cx="228600" cy="1143000"/>
          </a:xfrm>
          <a:custGeom>
            <a:avLst/>
            <a:gdLst>
              <a:gd name="textAreaLeft" fmla="*/ 30600 w 228600"/>
              <a:gd name="textAreaRight" fmla="*/ 198000 w 228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21337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1447920"/>
            <a:ext cx="990360" cy="380880"/>
          </a:xfrm>
          <a:custGeom>
            <a:avLst/>
            <a:gdLst>
              <a:gd name="textAreaLeft" fmla="*/ 173160 w 990360"/>
              <a:gd name="textAreaRight" fmla="*/ 718200 w 9903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41911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53800" y="444960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UB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2400" y="230184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UB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48520" y="28195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UPPLIERS MAY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NTACT SUB-SUPPLIERS (OR EACH OTHER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67960" y="1143000"/>
            <a:ext cx="727380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STOMER’S VIEWPOINT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1120" y="1523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A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91120" y="25146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1120" y="35812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C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46483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D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2880" y="21636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124080" y="3276720"/>
            <a:ext cx="457200" cy="609480"/>
          </a:xfrm>
          <a:prstGeom prst="ellipse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209680" y="2362320"/>
          <a:ext cx="2858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133720" y="2971800"/>
          <a:ext cx="9525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1800"/>
                    <a:ext cx="9525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800600" y="3809880"/>
          <a:ext cx="49212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80988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800600" y="2743200"/>
          <a:ext cx="4921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74320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800600" y="1752480"/>
          <a:ext cx="49212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1752480"/>
                    <a:ext cx="49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800600" y="4876920"/>
          <a:ext cx="492120" cy="76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876920"/>
                    <a:ext cx="49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943600" y="1905120"/>
          <a:ext cx="2952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1905120"/>
                    <a:ext cx="295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6324480" y="1905120"/>
          <a:ext cx="29556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1905120"/>
                    <a:ext cx="295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715080" y="1905120"/>
          <a:ext cx="295200" cy="457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15080" y="1905120"/>
                    <a:ext cx="295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5867280" y="4038480"/>
          <a:ext cx="29556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4038480"/>
                    <a:ext cx="295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6334200" y="4038480"/>
          <a:ext cx="29520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34200" y="4038480"/>
                    <a:ext cx="295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533680" y="2362320"/>
          <a:ext cx="2858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33680" y="2362320"/>
                    <a:ext cx="2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 rot="8297400">
            <a:off x="3111120" y="2735280"/>
            <a:ext cx="1917720" cy="239760"/>
          </a:xfrm>
          <a:prstGeom prst="rightArrow">
            <a:avLst>
              <a:gd name="adj1" fmla="val 50000"/>
              <a:gd name="adj2" fmla="val 199962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0068600">
            <a:off x="3273480" y="332820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2631800">
            <a:off x="3161880" y="3791880"/>
            <a:ext cx="1752840" cy="228600"/>
          </a:xfrm>
          <a:prstGeom prst="rightArrow">
            <a:avLst>
              <a:gd name="adj1" fmla="val 50000"/>
              <a:gd name="adj2" fmla="val 19169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3570200">
            <a:off x="2908080" y="4271400"/>
            <a:ext cx="2324160" cy="2286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4120" y="3124080"/>
            <a:ext cx="228600" cy="1143000"/>
          </a:xfrm>
          <a:custGeom>
            <a:avLst/>
            <a:gdLst>
              <a:gd name="textAreaLeft" fmla="*/ 30600 w 228600"/>
              <a:gd name="textAreaRight" fmla="*/ 198000 w 228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0809600">
            <a:off x="5333400" y="21330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975200">
            <a:off x="5866920" y="2514240"/>
            <a:ext cx="990720" cy="380880"/>
          </a:xfrm>
          <a:custGeom>
            <a:avLst/>
            <a:gdLst>
              <a:gd name="textAreaLeft" fmla="*/ 173160 w 990720"/>
              <a:gd name="textAreaRight" fmla="*/ 718200 w 9907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21600">
            <a:off x="5257440" y="4190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53800" y="444960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UB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82400" y="230184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UB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0481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FORMATIO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28720" y="762120"/>
            <a:ext cx="6958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STOMER’S VIEWPOINT</a:t>
            </a:r>
            <a:br>
              <a:rPr sz="3200"/>
            </a:b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523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A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91120" y="25146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35812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C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46483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ffing Company D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82880" y="21636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629400" y="1371600"/>
            <a:ext cx="2590920" cy="3505320"/>
          </a:xfrm>
          <a:prstGeom prst="irregularSeal1">
            <a:avLst/>
          </a:prstGeom>
          <a:solidFill>
            <a:srgbClr val="ffff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33720" y="2971800"/>
          <a:ext cx="9525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9525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352680" y="1519200"/>
            <a:ext cx="381024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POWER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DIDATE = JOE BROW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VAILABLE_DATE = 12 JUL 01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ECCO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ERSON_SURNAME = BROW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ERSON_FIRST NAME =JOE                                 STARTDATETIME=12:07:2001:0900:00:00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LLY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NTRACTOR=JOE BROW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AVAILABLESTART=12/07/01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DIOR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UBJECT_LASTNAME=BROW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SUBJECT_FIRSTNAME=JOE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DATESTARTMONTH=JULY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DATESTARTDAY=12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DATESTARTYEAR=2001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28720" y="762120"/>
            <a:ext cx="6958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STOMER’S VIEWPOINT</a:t>
            </a:r>
            <a:br>
              <a:rPr sz="3200"/>
            </a:b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38880" y="2362320"/>
            <a:ext cx="1524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 information sent back is not standard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ields are defined differently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2880" y="21636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28720" y="762120"/>
            <a:ext cx="695808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STOMER’S VIEWPOINT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133720" y="2971800"/>
          <a:ext cx="9525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9525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7238880" y="1371600"/>
            <a:ext cx="15242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 confusion caused by non-standard data makes it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very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difficult for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 customer to integrate the data into their systems without having to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terpret and rekey – or make a separate interface for each supplier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prohibitively expensive)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1981080"/>
            <a:ext cx="381024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POWER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DIDATE = JOE BROW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VAILABLE DATE = 12 JUL 01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ECCO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ERSON SURNAME = BROW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ERSON FIRST NAME =JOE                                 STARTDATETIME=12:07:2001:0900:00:00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LLY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NTRACTOR=JOE BROW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AVAILABLE=12/07/01</a:t>
            </a:r>
            <a:br>
              <a:rPr sz="1400"/>
            </a:b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09680" y="2057400"/>
            <a:ext cx="1981440" cy="2819520"/>
          </a:xfrm>
          <a:prstGeom prst="rect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57320" y="762120"/>
            <a:ext cx="695808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OUR VIEWPOINT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514600" y="2286000"/>
          <a:ext cx="15289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15289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4419720" y="2209680"/>
            <a:ext cx="36576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stomers believe costs of integration are OUR costs to bear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ngle ERP integration can exceed the returns we would expect from life of the contrac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2:58:25Z</dcterms:created>
  <dc:creator>Chuck Allen</dc:creator>
  <dc:description/>
  <dc:language>en-US</dc:language>
  <cp:lastModifiedBy>Chuck Allen</cp:lastModifiedBy>
  <dcterms:modified xsi:type="dcterms:W3CDTF">2001-10-23T03:12:11Z</dcterms:modified>
  <cp:revision>3</cp:revision>
  <dc:subject/>
  <dc:title>THE STAFFING INDUSTRY </dc:title>
</cp:coreProperties>
</file>