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90889-B7D9-4A4B-849B-1FA85D6CB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ACAB3-A1A9-48D8-B0C7-54D54D452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F9F41-FD69-43AA-A789-C950F8AD8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B8758-0B7E-481C-B262-514B0755A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B3A64-AA0E-4EF7-92D9-40710C341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8ADDF-D197-42B0-A5C3-9EDD57C07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26FE9-DCF9-4B9C-BB61-51CAEF1AF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3789A-7E0E-48B6-9145-F06D7B248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BCBF4-DEA0-46C9-AAA9-C284D674B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D0AE5-302F-4E13-B55B-4C6C08FDC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AC057-6011-4094-9014-0E507D720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F7851-9610-4F54-ACB5-BA557D305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78FE3-C6D1-4371-9374-1A9830DA1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7EBB4-4114-45A0-B388-E74D142F6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6B40A-2C57-4215-AD59-A6D7921DE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92579-A8BC-4F22-A7CC-1EE571007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DC027-F36C-4B66-A401-699AE292E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CA9C1-9B2B-4DE6-A8AC-EB30643BA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802D9-718E-4A70-9520-25068D221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EF6B3-DA0D-4131-9F9E-D8A6664DD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9BF95-DAD8-43D8-9201-B32576778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2CE5F-5E3F-4506-AAD7-EBD3783B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D7B3-60F5-475D-8792-9AA432400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F52C-4EE4-4D97-ADB1-11E71F7AF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F6BA-21CB-49FC-A980-127707AE67C0}"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71E2-2AD0-4643-9A38-DA24EB37ADA7}"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Day 2 Summary</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Y 2</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rder Status – doesn’t flow back from Assignment/Fill….we need to review the actions/logic and fix if necessar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ate Sets have been broken out,  into own schem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orkhours….may need additional information eg. 38/39 – refer to workschedule breakou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Y 2</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ed to add “&lt;InvoiceFrequency&gt;”….where….we need to assess thi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e need to tighten up on data types,  enumeration etc…when we move to schema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urrency….ISO standar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Y 2</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ork Schedule – breaking out into separate schema….already discuss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y 2</a:t>
            </a:r>
            <a:endParaRPr b="0" lang="en-US" sz="4400" spc="-1" strike="noStrike">
              <a:solidFill>
                <a:srgbClr val="ccecff"/>
              </a:solidFill>
              <a:latin typeface="Arial"/>
            </a:endParaRPr>
          </a:p>
        </p:txBody>
      </p:sp>
      <p:sp>
        <p:nvSpPr>
          <p:cNvPr id="21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e overviewed the work of day 1</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e agreed to the new structur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e agreed to team leadership</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y 2</a:t>
            </a:r>
            <a:endParaRPr b="0" lang="en-US" sz="4400" spc="-1" strike="noStrike">
              <a:solidFill>
                <a:srgbClr val="ccecff"/>
              </a:solidFill>
              <a:latin typeface="Arial"/>
            </a:endParaRPr>
          </a:p>
        </p:txBody>
      </p:sp>
      <p:sp>
        <p:nvSpPr>
          <p:cNvPr id="21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e reviewed the UML Overview</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plained history of UML</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scussion out of Overview UML</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RDER ID,  where did it come from.  Conclusion,  it did not matter,  it was variously generated. </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 may need a system identifier as an addition item.   (Agreed that this would be looked at by the group).</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Y 2</a:t>
            </a:r>
            <a:endParaRPr b="0" lang="en-US" sz="4400" spc="-1" strike="noStrike">
              <a:solidFill>
                <a:srgbClr val="ccecff"/>
              </a:solidFill>
              <a:latin typeface="Arial"/>
            </a:endParaRPr>
          </a:p>
        </p:txBody>
      </p:sp>
      <p:sp>
        <p:nvSpPr>
          <p:cNvPr id="21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ML) Continued</a:t>
            </a:r>
            <a:endParaRPr b="0" lang="en-US" sz="28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ed to address skill marketing (Spray &amp; Pray).</a:t>
            </a:r>
            <a:endParaRPr b="0" lang="en-US" sz="24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sure in scope but will pick up and address).</a:t>
            </a:r>
            <a:endParaRPr b="0" lang="en-US" sz="24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uropean Information Protection Act</a:t>
            </a:r>
            <a:endParaRPr b="0" lang="en-US" sz="28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ent Element (Flag for Yes/No)</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iscuss,  Include</a:t>
            </a:r>
            <a:endParaRPr b="0" lang="en-US" sz="20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ckground Check</a:t>
            </a:r>
            <a:endParaRPr b="0" lang="en-US" sz="28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s is going to be broken out as a separate schema.  We need to get together with champions of this.</a:t>
            </a:r>
            <a:endParaRPr b="0" lang="en-US" sz="2400" spc="-1" strike="noStrike">
              <a:solidFill>
                <a:srgbClr val="eaeaea"/>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Y 2</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ML Continued)</a:t>
            </a:r>
            <a:endParaRPr b="0" lang="en-US" sz="2800" spc="-1" strike="noStrike">
              <a:solidFill>
                <a:srgbClr val="eaeaea"/>
              </a:solidFill>
              <a:latin typeface="Arial"/>
            </a:endParaRPr>
          </a:p>
          <a:p>
            <a:pPr lvl="2" marL="1143000" indent="-228600">
              <a:lnSpc>
                <a:spcPct val="90000"/>
              </a:lnSpc>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Quality Control,  and When an Assignment ends</a:t>
            </a:r>
            <a:endParaRPr b="0" lang="en-US" sz="2400" spc="-1" strike="noStrike">
              <a:solidFill>
                <a:srgbClr val="eaeaea"/>
              </a:solidFill>
              <a:latin typeface="Arial"/>
            </a:endParaRPr>
          </a:p>
          <a:p>
            <a:pPr lvl="3" marL="1600200" indent="-228600">
              <a:lnSpc>
                <a:spcPct val="90000"/>
              </a:lnSpc>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o we have an element or attribute – Yes</a:t>
            </a:r>
            <a:endParaRPr b="0" lang="en-US" sz="2000" spc="-1" strike="noStrike">
              <a:solidFill>
                <a:srgbClr val="eaeaea"/>
              </a:solidFill>
              <a:latin typeface="Arial"/>
            </a:endParaRPr>
          </a:p>
          <a:p>
            <a:pPr lvl="3" marL="1600200" indent="-228600">
              <a:lnSpc>
                <a:spcPct val="90000"/>
              </a:lnSpc>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ddition comment – end assignment can be done by staffingmanager as well as staffingcompany.  We need to accommodate this.</a:t>
            </a:r>
            <a:endParaRPr b="0" lang="en-US" sz="2000" spc="-1" strike="noStrike">
              <a:solidFill>
                <a:srgbClr val="eaeaea"/>
              </a:solidFill>
              <a:latin typeface="Arial"/>
            </a:endParaRPr>
          </a:p>
          <a:p>
            <a:pPr lvl="2" marL="1143000" indent="-228600">
              <a:lnSpc>
                <a:spcPct val="90000"/>
              </a:lnSpc>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atus History – To be broken out as a separate schema.   </a:t>
            </a:r>
            <a:endParaRPr b="0" lang="en-US" sz="2400" spc="-1" strike="noStrike">
              <a:solidFill>
                <a:srgbClr val="eaeaea"/>
              </a:solidFill>
              <a:latin typeface="Arial"/>
            </a:endParaRPr>
          </a:p>
          <a:p>
            <a:pPr lvl="2" marL="1143000" indent="-228600">
              <a:lnSpc>
                <a:spcPct val="90000"/>
              </a:lnSpc>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affing – the TERM (Re Direct Hire v Temporary).</a:t>
            </a:r>
            <a:endParaRPr b="0" lang="en-US" sz="2400" spc="-1" strike="noStrike">
              <a:solidFill>
                <a:srgbClr val="eaeaea"/>
              </a:solidFill>
              <a:latin typeface="Arial"/>
            </a:endParaRPr>
          </a:p>
          <a:p>
            <a:pPr lvl="3" marL="1600200" indent="-228600">
              <a:lnSpc>
                <a:spcPct val="90000"/>
              </a:lnSpc>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SEP : and SIDES title could create confusion.</a:t>
            </a:r>
            <a:endParaRPr b="0" lang="en-US" sz="2000" spc="-1" strike="noStrike">
              <a:solidFill>
                <a:srgbClr val="eaeaea"/>
              </a:solidFill>
              <a:latin typeface="Arial"/>
            </a:endParaRPr>
          </a:p>
          <a:p>
            <a:pPr lvl="3" marL="1600200" indent="-228600">
              <a:lnSpc>
                <a:spcPct val="90000"/>
              </a:lnSpc>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e believe this is open for discussion.  Perhaps a separate off-line debate could take place with various interest groups.</a:t>
            </a:r>
            <a:endParaRPr b="0" lang="en-US" sz="2000" spc="-1" strike="noStrike">
              <a:solidFill>
                <a:srgbClr val="eaeaea"/>
              </a:solidFill>
              <a:latin typeface="Arial"/>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Y 2</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ML Continued)</a:t>
            </a:r>
            <a:r>
              <a:rPr b="0" lang="en-US" sz="2800" spc="-1" strike="noStrike">
                <a:solidFill>
                  <a:srgbClr val="eaeaea"/>
                </a:solidFill>
                <a:latin typeface="Arial"/>
              </a:rPr>
              <a:t>	</a:t>
            </a:r>
            <a:endParaRPr b="0" lang="en-US" sz="28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low diagram indicates CONTRACT only flowing one way…..should flow both…we are breaking out into a separate piece…This is an item to discuss,  there are some variations depending on jurisdiction.</a:t>
            </a:r>
            <a:endParaRPr b="0" lang="en-US" sz="24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ow we incorporate other HRXML work…To be developed.   Keith Ensroth is responsible for this.</a:t>
            </a:r>
            <a:endParaRPr b="0" lang="en-US" sz="2400" spc="-1" strike="noStrike">
              <a:solidFill>
                <a:srgbClr val="eaeaea"/>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Y 2</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the approach for implementing SIDES…..</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ur time frames are driven by a commercial imperative but we realise we must follow the HRXML protocols for iteration and confirmation.   Our timeline is Feb 2002.</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Y 2</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RDER SCHEMA</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cking Info….this is to be assisted by the TSC and CPO.   Our primary need is to hold all of the keys in a single place for rollback.  Also we used this for enveloping at a time when this work was not developed.</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ptional Attributes….all ID’should include provision for the issueing system</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ames of Elements…we will be clearer in our descriptions in the dictionary.  We will include more examples in our description plus XML code example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Y 2</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n-disclosure – this had to do with the requirement to sign a NDA…yes|no boolean.</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Job Position….something already happening….we will use what is developed.</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D…we missed what Bill Kerr stated…someone to clarify.</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osition Qty….data is normalised from client…order…position…people.    The Position Qty should not be at the position level,  but at the Order Level  (we have to go back and read our notes and talk to John DeRoch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7T02:29:21Z</dcterms:created>
  <dc:creator>SIDES</dc:creator>
  <dc:description/>
  <dc:language>en-US</dc:language>
  <cp:lastModifiedBy>SIDES</cp:lastModifiedBy>
  <dcterms:modified xsi:type="dcterms:W3CDTF">2001-10-17T03:24:01Z</dcterms:modified>
  <cp:revision>3</cp:revision>
  <dc:subject/>
  <dc:title>Day 2 Summary</dc:title>
</cp:coreProperties>
</file>