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398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398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52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128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52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128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398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38120" y="-36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398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398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398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398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398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4398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852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128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852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128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398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38120" y="-36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398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398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398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398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kgrd_6" descr="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3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591240"/>
            <a:ext cx="235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</a:rPr>
              <a:t>© 2000, Progress Software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8001000" cy="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34080" y="6553080"/>
            <a:ext cx="73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fld id="{45CD5F84-1121-4A8A-BC98-85B2D21CC81D}" type="slidenum">
              <a:rPr b="1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logo" descr=""/>
          <p:cNvPicPr/>
          <p:nvPr/>
        </p:nvPicPr>
        <p:blipFill>
          <a:blip r:embed="rId2"/>
          <a:stretch/>
        </p:blipFill>
        <p:spPr>
          <a:xfrm>
            <a:off x="5791320" y="5638680"/>
            <a:ext cx="2286000" cy="609840"/>
          </a:xfrm>
          <a:prstGeom prst="rect">
            <a:avLst/>
          </a:prstGeom>
          <a:ln w="0">
            <a:noFill/>
          </a:ln>
        </p:spPr>
      </p:pic>
      <p:pic>
        <p:nvPicPr>
          <p:cNvPr id="44" name="emb_6" descr=""/>
          <p:cNvPicPr/>
          <p:nvPr/>
        </p:nvPicPr>
        <p:blipFill>
          <a:blip r:embed="rId3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2667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609480"/>
            <a:ext cx="0" cy="312444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505320"/>
            <a:ext cx="5943600" cy="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SzPct val="5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43000" y="609480"/>
            <a:ext cx="7315200" cy="2667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2667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 Black"/>
              </a:rPr>
              <a:t>4</a:t>
            </a:r>
            <a:r>
              <a:rPr b="0" lang="en-US" sz="4800" spc="-1" strike="noStrike" baseline="30000">
                <a:solidFill>
                  <a:srgbClr val="003366"/>
                </a:solidFill>
                <a:latin typeface="Arial Black"/>
              </a:rPr>
              <a:t>th</a:t>
            </a:r>
            <a:r>
              <a:rPr b="0" lang="en-US" sz="4800" spc="-1" strike="noStrike">
                <a:solidFill>
                  <a:srgbClr val="003366"/>
                </a:solidFill>
                <a:latin typeface="Arial Black"/>
              </a:rPr>
              <a:t> Generation XML Application Development </a:t>
            </a:r>
            <a:endParaRPr b="0" lang="en-US" sz="4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43000" y="419112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David Clea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Principal Software Engineer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Progress Software Cor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35812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erging XML and Business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3</a:t>
            </a:r>
            <a:r>
              <a:rPr b="0" lang="en-US" sz="3200" spc="-1" strike="noStrike" baseline="30000">
                <a:solidFill>
                  <a:srgbClr val="003366"/>
                </a:solidFill>
                <a:latin typeface="Arial Black"/>
              </a:rPr>
              <a:t>rd</a:t>
            </a: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 Generation XML App Developmen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arked by introduction of DTD/Schema compiler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Sun JSR-31 XML Data Binding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IBM XML BeanMaker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rees developer from knowing XML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Advantages/Disadvantage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Advantage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You work in your native data model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You no longer need to be intimate with your XML Instance data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isadvantage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New classes for each vocabulary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Bogs down on complex vocabularies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Still requires lots of new code with little reuse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4</a:t>
            </a:r>
            <a:r>
              <a:rPr b="0" lang="en-US" sz="3200" spc="-1" strike="noStrike" baseline="30000">
                <a:solidFill>
                  <a:srgbClr val="003366"/>
                </a:solidFill>
                <a:latin typeface="Arial Black"/>
              </a:rPr>
              <a:t>th</a:t>
            </a: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 Generation XML App Developmen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Tools and Infrastructure that transform the XML to the Business Application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oesn’t require major changes to existing Business Application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Three Example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Microsoft BizTalk Orchestration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CharterIS XMuLator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Progress SmartB2B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Advantages/Disadvantage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Advantage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Leverages investment in current business applications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Little or no coding to support new vocabularies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Quickly bring new vocabularies into the fold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isadvantage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Relative immaturity of the tools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Microsoft Biztalk Orchestration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rovides visual modeling tool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XLANG - XML vocabulary that defines semantics of business processes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Binds model to COM interface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rovides a runtime engine that executes the modeled business proces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eparates business process from implementation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oes not automatically generate document schema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BTO Modeling Tool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116" name="BizOrchestr1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598968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BTO Modeling Tool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118" name="BizOrchestr2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49312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BTO Document Mapper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385920" y="109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biztalkfig06" descr="Figure 6 Document Map in BizTalk Mapper"/>
          <p:cNvPicPr/>
          <p:nvPr/>
        </p:nvPicPr>
        <p:blipFill>
          <a:blip r:embed="rId1"/>
          <a:stretch/>
        </p:blipFill>
        <p:spPr>
          <a:xfrm>
            <a:off x="914400" y="1447920"/>
            <a:ext cx="685800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haterIS XMuLator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rovides visual modeling tool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Uses a UML like notation to create business process model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Also creates a business information model which represents your XML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You import schema definitions and map them  to your model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Generates XSLT stylesheets to convert between any two vocabularie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XMuLator Modeling Tool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12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taxonomy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9436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roblem Definition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4 Generations of XML Application Development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XML Schema Mapping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monstration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Question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XMuLator Schema Model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1600200" y="-1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navision tree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594360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Progress SmartB2B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upports XML Schema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Last call WD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Annotates a schema using non-native attribute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Provides information on mapping instance data to Smart Data Objects and Smart Business Objects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Progress SmartB2B Architecture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1523880"/>
          <a:ext cx="739152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739152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XML Schema Mapping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Uses non-native attribute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Attributes defined outside of the XML Schema namespace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Added directly to the schema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Does not effect the ability to validate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Attributes are ignored by conforming schema processors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XML Schema Specification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ection 4 of XML Schema Part 1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554920"/>
            <a:ext cx="8880480" cy="35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aspects of the type definitions for the elements presen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following sections are constant across them 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them allow attributes qualified with namespace URIs 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 the XML Schema namespace itself: these correspond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hing in corresponding schema compone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Steps For Annotating a Schema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6002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Add new namespace decl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2362320"/>
            <a:ext cx="830556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schem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rgetNamespace="http://www.example.com/person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mlns:xsd="http://www.w3.org/1999/XMLSchema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mlns:map="http://www.example.com/map"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xsd:schema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Steps For Annotating a Schema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6002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dd mapping info to element and attribute decla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2743200"/>
            <a:ext cx="78483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xsd:element name="FirstName" type="xsd:string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p:class="com.example.person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p:name="FirstName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p:type="property" minOccurs="1"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Steps For Processing an XML Documen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arse and Validate XML Instance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trieve Namespace of Root Node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trieve Local Schema for Namespace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Get Mapping Info out of Schema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Walk XML Instance Populating Native Object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914840" y="2886840"/>
            <a:ext cx="555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aveat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apping Multiple Elements to a Single Complex Type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apping User Defined Simple Type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apping Union Type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apping “Complex” Simple Type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Problem Definition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Cost of doing business decreases by using B2B E-Commerce technologie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Visio saw cost of processing PO go from $113 to $6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Customers will demand you process their orders electronically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Your competitors will leverage these productivity increase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logo" descr=""/>
          <p:cNvPicPr/>
          <p:nvPr/>
        </p:nvPicPr>
        <p:blipFill>
          <a:blip r:embed="rId1"/>
          <a:stretch/>
        </p:blipFill>
        <p:spPr>
          <a:xfrm>
            <a:off x="2133720" y="2549520"/>
            <a:ext cx="4647960" cy="1239840"/>
          </a:xfrm>
          <a:prstGeom prst="rect">
            <a:avLst/>
          </a:prstGeom>
          <a:ln w="0">
            <a:noFill/>
          </a:ln>
        </p:spPr>
      </p:pic>
      <p:pic>
        <p:nvPicPr>
          <p:cNvPr id="152" name="emb_ctr_6f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Market Trend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Jupiter Research predicts B2B online trading to be $6.3 trillion in 2005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42% of domestic B2B trade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IDC predicts e-commerce procurement applications market to be $5.3 billion in 2003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68% of application portfolio spending is on infrastructure integrating business app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Business Realitie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Businesses invested heavily in ERP and other business applications in the 90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Replacing these applications is not a solution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ust support multiple vocabularies from a variety of source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1</a:t>
            </a:r>
            <a:r>
              <a:rPr b="0" lang="en-US" sz="3200" spc="-1" strike="noStrike" baseline="30000">
                <a:solidFill>
                  <a:srgbClr val="003366"/>
                </a:solidFill>
                <a:latin typeface="Arial Black"/>
              </a:rPr>
              <a:t>st</a:t>
            </a: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 Generation XML App Developmen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Given a DTD, process an XML instance based on it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Lack of free or cheap XML processor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oll your own parser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Advantages/Disadvantage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Advantage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??????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isadvantage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1 off solution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Time spent writing parser instead of glue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2</a:t>
            </a:r>
            <a:r>
              <a:rPr b="0" lang="en-US" sz="3200" spc="-1" strike="noStrike" baseline="30000">
                <a:solidFill>
                  <a:srgbClr val="003366"/>
                </a:solidFill>
                <a:latin typeface="Arial Black"/>
              </a:rPr>
              <a:t>nd</a:t>
            </a: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 Generation XML App Developmen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arked by introduction of free/cheap parsers and standard API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DOM and SAX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Concentrate on solving problem instead of building tool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Advantages/Disadvantage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Advantage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Leverage knowledge of API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Validation support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isadvantage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Working in XML Data Model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Code is still tied to a specific vocabulary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6T14:17:33Z</dcterms:created>
  <dc:creator>David Cleary</dc:creator>
  <dc:description/>
  <dc:language>en-US</dc:language>
  <cp:lastModifiedBy>David Cleary</cp:lastModifiedBy>
  <cp:lastPrinted>1999-09-24T14:02:08Z</cp:lastPrinted>
  <dcterms:modified xsi:type="dcterms:W3CDTF">2000-11-14T18:17:44Z</dcterms:modified>
  <cp:revision>7</cp:revision>
  <dc:subject/>
  <dc:title>Title -- Initial Caps, Arial Black, 32pt</dc:title>
</cp:coreProperties>
</file>