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rd_6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591240"/>
            <a:ext cx="23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© 2000, Progress Software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4080" y="65530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B65FF3BC-EA0D-426A-AAA4-25EB6D8BD8DE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5791320" y="5638680"/>
            <a:ext cx="228600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emb_6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09480"/>
            <a:ext cx="0" cy="312444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505320"/>
            <a:ext cx="59436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0948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XML Schema Extension Mechanisms 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David Clea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incipal Software Engineer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ogress Software Corporation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Validating Exten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specifies “lax” processing of Schema extens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 conforming Schema Processor will validate if it has a schema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se xsi:schemaLocation in your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 additional Schemas via command lin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chema Adjunct Framework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a general framework to provide additional information about the structures or properties of the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upports both a separate document as well as Schema Adornmen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nes notion of a selector that associates meta-data properties with instance information items 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sources For Schema Exten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ML Schema Specification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w3.org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4th Generation XML App Developmen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freeframework.org/downloads/4thgenxml.zip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ML Schema Extension Mechanism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freeframework.org/downloads/schemaext.zip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chema Adjunct Framework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extensibility.com/saf/spec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logo" descr=""/>
          <p:cNvPicPr/>
          <p:nvPr/>
        </p:nvPicPr>
        <p:blipFill>
          <a:blip r:embed="rId1"/>
          <a:stretch/>
        </p:blipFill>
        <p:spPr>
          <a:xfrm>
            <a:off x="2133720" y="2549520"/>
            <a:ext cx="4647960" cy="1239840"/>
          </a:xfrm>
          <a:prstGeom prst="rect">
            <a:avLst/>
          </a:prstGeom>
          <a:ln w="0">
            <a:noFill/>
          </a:ln>
        </p:spPr>
      </p:pic>
      <p:pic>
        <p:nvPicPr>
          <p:cNvPr id="111" name="emb_ctr_6f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Over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ppinfo Extension Mechanism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ppinfo Detail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ppinfo In Us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Non-native Attributes Extension Mechanism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on-native Attribute Detail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on-native Attributes In Us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hema Adjunct Framework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L Schema Overview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W3C Candidate Recommend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ttempts to be DTD+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Validates XML syntactically and provides a rich data type system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two extension mechanism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ppinfo Element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on-native Attribut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hy Extend XML Schema?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n’t support exactly what you need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Forms form defini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Validates syntax and not semantic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ML Schema vs. RDF Schema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 mappings between schema langu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ML vs. SQ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ppinfo Extension Mechanis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ild Element of &lt;annotation&gt;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&lt;documentation&gt; Element meant for human readable text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&lt;appinfo&gt; Element meant for tools, stylesheets or applications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an be used at the beginning of most major Schema Element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llows a source attribute of type uriReferenc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llows ANY child conten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ppinfo Exampl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W3C I18N Group wanted XML Schema to support localized enumerat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WG suggested using appInfo to provide this functionality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ses xml:lang to specify languag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translation for enumer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 not affect validation - Requires “real” enumeration values to be used in XM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ppinfo In Us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Datatypes uses appinfo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nnotates Schema with the properties and facets of each datatyp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Used in generating Datatypes specifica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Documentation provides rules on using it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on-native Attribute Extension Mechanis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ttributes defined outside of the XML Schema namespa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ded directly to Schema Element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Has no effect on Schema valid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nforming processors will ignore thes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on-native Attributes In Us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gress SmartB2B Object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upports XML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ast call WD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nnotates a schema using non-nativ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vides information on mapping instance data to Smart Data Objects and Smart Business Objec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7:23:41Z</dcterms:created>
  <dc:creator>David Cleary</dc:creator>
  <dc:description/>
  <dc:language>en-US</dc:language>
  <cp:lastModifiedBy>David Cleary</cp:lastModifiedBy>
  <cp:lastPrinted>1999-09-24T14:02:08Z</cp:lastPrinted>
  <dcterms:modified xsi:type="dcterms:W3CDTF">2000-12-04T14:11:07Z</dcterms:modified>
  <cp:revision>6</cp:revision>
  <dc:subject/>
  <dc:title>Title -- Initial Caps, Arial Black, 32pt</dc:title>
</cp:coreProperties>
</file>