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076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9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1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9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1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1920" y="380880"/>
            <a:ext cx="8440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4076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4076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9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1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9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1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380880"/>
            <a:ext cx="8440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076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076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fba905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2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22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22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201600" y="914040"/>
            <a:ext cx="8651880" cy="11160"/>
          </a:xfrm>
          <a:prstGeom prst="line">
            <a:avLst/>
          </a:prstGeom>
          <a:ln w="57240">
            <a:solidFill>
              <a:srgbClr val="fba9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681280" cy="7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" name="logo_type_c" descr=""/>
          <p:cNvPicPr/>
          <p:nvPr/>
        </p:nvPicPr>
        <p:blipFill>
          <a:blip r:embed="rId2"/>
          <a:stretch/>
        </p:blipFill>
        <p:spPr>
          <a:xfrm>
            <a:off x="88920" y="128520"/>
            <a:ext cx="1663560" cy="142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703920"/>
            <a:ext cx="152280" cy="15264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551640"/>
            <a:ext cx="152640" cy="15228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28800" y="1522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8800" y="0"/>
            <a:ext cx="7315200" cy="22860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160" y="762120"/>
            <a:ext cx="6743520" cy="1066320"/>
            <a:chOff x="38160" y="762120"/>
            <a:chExt cx="6743520" cy="1066320"/>
          </a:xfrm>
        </p:grpSpPr>
        <p:pic>
          <p:nvPicPr>
            <p:cNvPr id="46" name="dc_logo" descr=""/>
            <p:cNvPicPr/>
            <p:nvPr/>
          </p:nvPicPr>
          <p:blipFill>
            <a:blip r:embed="rId2"/>
            <a:srcRect l="0" t="36923" r="0" b="36923"/>
            <a:stretch/>
          </p:blipFill>
          <p:spPr>
            <a:xfrm>
              <a:off x="38160" y="762120"/>
              <a:ext cx="674352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008400" y="13716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68128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6360" y="0"/>
            <a:ext cx="6497640" cy="45720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03920"/>
            <a:ext cx="152280" cy="15264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1640"/>
            <a:ext cx="152640" cy="152280"/>
          </a:xfrm>
          <a:prstGeom prst="rect">
            <a:avLst/>
          </a:prstGeom>
          <a:solidFill>
            <a:srgbClr val="fba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b3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ba905"/>
              </a:buClr>
              <a:buSzPct val="4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EasySAX: Sax Made Pythonic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  <a:ea typeface="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is SAX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SAX is a low-level API to XM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erformance is a key consider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is simple, but not easy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ncreasingly, it is no longer simpl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is relatively, but not completely, complet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oes SAX have the Python Nature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Complexity is Pythonic if it is hidde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Good performance is Pythoni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Standards conformance is Pythoni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Re-inventing wheels is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Emph"/>
              </a:rPr>
              <a:t>no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 Pythoni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refore we must use SAX, but hide i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must be hidden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SAX character handling is inelegant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SAX gives you a pointer into a buff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characters(self,ch,start,length)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ch[start:start+length]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ythonistas would just expect a string objec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characters( self, chars )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char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vent Dispatch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SAX requires you to dispatch your own element event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class MyHandler( SaxHandler 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startElement(self,typename,attrs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if typename=="html"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handleHTML(attr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elif typename=="title"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handleTitle(attr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arge switch statements do not have the Python natur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SAX requires application programmer to take care of context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class MyHandler( SaxHandler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startElement( self, typename, attrs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if typename=="html"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handleHTML(attr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elif typename=="title"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titleMode=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characters(self,chars,start,length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if titleMod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chars[start:length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AX and Namespac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Namespaces are the ultimate koa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o we keep prefixes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ow do we keep them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ow do we do comparisons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ow do we keep this all efficien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o SAX events suck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No, they merely have not achieved enlightenmen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rough a series of reincarnations we can move them towards enlightenmen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t the end, is what is left still SAX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ond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oes the DOM suck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esign elegance aside … the DOM is usefu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Nevertheless, it's major weakness is not a design flaw: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ree models are inherently weak at handling very large document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his can be mitigated with an object database like ZODB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but you still need a lot of disk spac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 Pythonic SAX must have minimal memory requiremen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Towards a Pythonic SAX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irst Princi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o not reinvent the wheel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arsers can still "speak" SA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pplications can use something more Python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Raw SAX is still available for speed-critical M2M B2B XML EDI on WinCE HP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bout M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aul Presco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SOGEN Consulting Engine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rofessional Services Arm of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Link"/>
              </a:rPr>
              <a:t>DataChanne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1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Co-author,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Link"/>
              </a:rPr>
              <a:t>XML Handbook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2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ond Princi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et's steal ideas wherever we can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XSL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DSSS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DOM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Omnimark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Balis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..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ealing from the DO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takes humility to steal ideas from the DOM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refore it is a productive exercis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OM 2 has a way of handling namespac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 DOM is really good at handling context: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parentNod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childNode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childNodes[0]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attribute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getAttribute( "abc" 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node.parentNode.getAttribute( "abc" 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AX, meet DO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Instead of dispatching strings and integers, we can dispatch nod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startElement( self, element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endElement( self, element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text( self, text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processingInstruction( self, pi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comment( self, comment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...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This gives us a way to navigate around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Leveraging contex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Given that we have context...let's flaunt it!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handle_spam( self, textNode 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"figure/title/text()"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"Figure title:"+`textNode`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handle_dead_parrot(self,textNode 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"section/title/text()"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"Section title:"+`textNode`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textNode.parentNode.\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attributes["type"]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Let's not get craz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re are some rules..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Not all of the DOM is available (see next slide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andlers must be named handle_someth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"something" is a symbolic label, not a “tagname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articular nodes are matched against the XPat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ow much DOM can we afford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 "right" amount of DOM varies from application to applicatio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n processing techdocs it is really useful to be able to have a complete DOM for (e.g.) tables and figur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arent context is almost always useful and relatively cheap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refore: always remember paren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Otherwise, only build subtrees for regions of the documen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lective Domin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handle_applets(self,elementNode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"applet as tree"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for node in elementNode.childNode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print no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handle_tables( self, elementNode )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"table as tree"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# do someth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self.processChildren( elementNode 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MonospacePara"/>
              </a:rPr>
              <a:t># do something el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ocessChildre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Recursively invoke handler on childr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ike DSSSL function of same nam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ike XSLT apply-templa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ike Omnimark %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Coming soon...processMatchingChildr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ther DOM cost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 DOM is large and getting larg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is complicated and redundan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Most parsers don't generate most node typ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Most apps are read-on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probably would not pass the Guido tes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Let's just make a subset: "minidom"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espac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Namespaces can be registered before you start pars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You can fiddle with the namespace list while parsing (but would you?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Normal"/>
              </a:rPr>
              <a:t>You use prefixes in XPaths, just as in XSLT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class MyHandler( EasySAXHandler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__init__(self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self.registerNamespace( "xhtml",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"http://www.microsoft.com" )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def handle_tables( self, elementNode )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"xhtml:table as tree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# do someth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self.processChildren( elementNode 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MonospacePara"/>
              </a:rPr>
              <a:t># do something el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Laying the foundations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Children know about their paren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By default, parents do NOT know about their childre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When you build a tree, the parents do know about childre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e references from parents to children are destroyed when handler complet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"Weak references" would help her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edit where Du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 wrote "minidom"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James Clark wrote Exp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r. Dieter Maurer &lt;dieter@handshake.de&gt; wrote the biggest component: th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Link"/>
              </a:rPr>
              <a:t>XPath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6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 pars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anks to his good design, I could adapt it without any help from him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Link"/>
              </a:rPr>
              <a:t>XMeta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7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 wrote these slid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do..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Documentation, documentation, documentation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ree pruning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User defined function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XSLT "modes"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Other DOM facilitie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ython "xml library"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ferenced URL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1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ttp://www.datachannel.co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www.xmlbooks.co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3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www.megginson.co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4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ttp://www.w3c.org/T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5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ttp://www.python.or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6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ttp://www.dieter.handshake.de/pyprojects/pyxpath.htm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7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ttp://www.xmetal.co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EasySAX merges ideas from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Link"/>
              </a:rPr>
              <a:t>SAX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3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Link"/>
              </a:rPr>
              <a:t>DOM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4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XSL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DSSS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Probably most similar to "saxon" in Java worl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is Python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 high-level, object oriented, dynamically typed programming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Link"/>
              </a:rPr>
              <a:t>languag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LinkSuperscript"/>
              </a:rPr>
              <a:t>5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Can be used for scripting, conversions, abstraction-building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 merge of the best ideas of Smalltalk, Perl and Java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What does it mean to be Pythonic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editate on thi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n object is Pythonic if it has the Python nature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here is no rule of thumb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here is no motto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here is no overriding design goal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There is only the oneness with the problems you are trying to solve and the way you think about it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ut master...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How do we design things that are Pythonic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Aristotle's golden mea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Make them simple, but not too simple to get the job done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Elegant, but not in a cutesy way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Flexible, but not at the expense of clarity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Dynamic, but not at the expense of maintainability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ba905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Normal"/>
              </a:rPr>
              <a:t>Dictionaries are KUEL. Use them alot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4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flect on thi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At runtime it is possible to ask questions about objec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Reflection is a powerful tool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It can be used in diabolical way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When used virtuously it eases readability and maintena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a905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Normal"/>
              </a:rPr>
              <a:t>This is Pythoni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Reflecting on SAX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b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20:23:05Z</dcterms:created>
  <dc:creator>paul</dc:creator>
  <dc:description/>
  <dc:language>en-US</dc:language>
  <cp:lastModifiedBy>paul</cp:lastModifiedBy>
  <dcterms:modified xsi:type="dcterms:W3CDTF">2000-03-01T22:04:08Z</dcterms:modified>
  <cp:revision>10</cp:revision>
  <dc:subject/>
  <dc:title>EasySAX: Sax Made Pythonic</dc:title>
</cp:coreProperties>
</file>