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5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16.wmf" ContentType="image/x-wmf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9C9C-2AB4-4EDB-9029-93EDEE0D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33A9-6144-493A-A4A8-EE0E465F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B8E-57CF-4178-84A5-C450F92F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804-BE97-434F-8DAE-503DCD28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7489-CAE3-4315-9CE9-F440F5C8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5AD9-9CFA-406B-BC33-95C5D7FF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0DA0-C791-431D-B148-8AD44618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1D41-70B0-496A-A19D-5081B6CE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4EE5-F899-4A76-AE1E-B7D2AA5E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92E0-4A5B-4F18-965A-F8084DFF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ACFC-5D34-4A8C-A1F4-A52B1D34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747-4DF0-49DF-B19E-0B788852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5FAF-4C03-498D-B7A1-B5FBF970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2E87-478B-4C4A-BADA-17E6B15F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4CED-2A9B-4E62-B8B1-69643E84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7D64-33FF-4CEB-BB35-1FF689CE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06BD-2761-4425-B6B0-359EE08E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AF6F-A38F-4B17-B3E6-FB26653F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D48C-8FAD-46BC-9A0D-7AC280EE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9C2-5F04-46CD-A3E8-46DC2268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7262-2112-4AA6-AA5F-440B4A3B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37B0-587A-4686-82BD-E03E08A7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F3A-73D3-4A75-91C7-DDEE3966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DE1-B439-432E-A2CE-39363DD5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180120"/>
            <a:ext cx="2484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Institut für Softwaretech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Universit</a:t>
            </a:r>
            <a:r>
              <a:rPr b="0" lang="de-DE" sz="1200" spc="-1" strike="noStrike">
                <a:solidFill>
                  <a:srgbClr val="000000"/>
                </a:solidFill>
                <a:latin typeface="Lucida Sans Unicode"/>
              </a:rPr>
              <a:t>ät Koblenz-Land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160"/>
            <a:ext cx="1067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48520" y="6248520"/>
            <a:ext cx="2209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Limerick, 6.6.2000  (</a:t>
            </a:r>
            <a:fld id="{0ABB0B38-321A-427A-B383-F845474E9874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1430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st_grue" descr=""/>
          <p:cNvPicPr/>
          <p:nvPr/>
        </p:nvPicPr>
        <p:blipFill>
          <a:blip r:embed="rId2"/>
          <a:stretch/>
        </p:blipFill>
        <p:spPr>
          <a:xfrm>
            <a:off x="685800" y="6172200"/>
            <a:ext cx="685800" cy="4460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09480" y="617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WOSEF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st_grue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1676520" cy="108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430360" y="53352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iversität Koblenz-Land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nstitut für Softwaretech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UP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400440" y="61722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Limerick, 6.6.2000  (</a:t>
            </a:r>
            <a:fld id="{4635CADC-8200-49CF-909C-ACE2C787C75D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U_LARGE" descr=""/>
          <p:cNvPicPr/>
          <p:nvPr/>
        </p:nvPicPr>
        <p:blipFill>
          <a:blip r:embed="rId3"/>
          <a:stretch/>
        </p:blipFill>
        <p:spPr>
          <a:xfrm>
            <a:off x="7315200" y="609480"/>
            <a:ext cx="1143000" cy="989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Components of Interchange Format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(Metaschemas and Typed Graphs)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dreas Wint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2" name="WOSEF" descr=""/>
          <p:cNvPicPr/>
          <p:nvPr/>
        </p:nvPicPr>
        <p:blipFill>
          <a:blip r:embed="rId1"/>
          <a:stretch/>
        </p:blipFill>
        <p:spPr>
          <a:xfrm>
            <a:off x="6848640" y="304920"/>
            <a:ext cx="1609560" cy="1904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733920" y="45720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resent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BA13-6F31-434B-B10C-2291EFE4F43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4889160" y="2362320"/>
            <a:ext cx="3698280" cy="3635640"/>
            <a:chOff x="4889160" y="2362320"/>
            <a:chExt cx="3698280" cy="3635640"/>
          </a:xfrm>
        </p:grpSpPr>
        <p:sp>
          <p:nvSpPr>
            <p:cNvPr id="121" name=""/>
            <p:cNvSpPr/>
            <p:nvPr/>
          </p:nvSpPr>
          <p:spPr>
            <a:xfrm>
              <a:off x="4944240" y="2362320"/>
              <a:ext cx="364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ATerm Grammar (SDF)</a:t>
              </a:r>
              <a:r>
                <a:rPr b="0" lang="en-US" sz="2400" spc="-1" strike="noStrike">
                  <a:solidFill>
                    <a:srgbClr val="000000"/>
                  </a:solidFill>
                  <a:latin typeface="Lucida Sans Unicode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89160" y="2852640"/>
              <a:ext cx="3289680" cy="314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Term                -&gt; ATe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Term "," Aterms     -&gt; ATe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"[" "]"              -&gt; ATerm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"[" ATerms "]"       -&gt; ATerm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Int                 -&gt; AF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Literal              -&gt; AF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TermLis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-&gt; ATe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Fun                 -&gt; ATe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Fun "(" ATerms ")"  -&gt; ATe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"{" ATerms "}"       -&gt; Anno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TermList Annotation -&gt; ATe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Fun Annotation      -&gt; ATe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Fun "(" ATerms ")"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nnotation      -&gt; ATe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Terms - Structure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oftware systems are represented by </a:t>
            </a: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annotated Term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876920" y="2362320"/>
            <a:ext cx="3787560" cy="3628440"/>
            <a:chOff x="4876920" y="2362320"/>
            <a:chExt cx="3787560" cy="3628440"/>
          </a:xfrm>
        </p:grpSpPr>
        <p:sp>
          <p:nvSpPr>
            <p:cNvPr id="126" name=""/>
            <p:cNvSpPr/>
            <p:nvPr/>
          </p:nvSpPr>
          <p:spPr>
            <a:xfrm>
              <a:off x="4899960" y="2362320"/>
              <a:ext cx="36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ATerm Grammar (EBNF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2822400"/>
              <a:ext cx="3787560" cy="31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ATerm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::= AFu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"(" ATerms ")"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Annotatio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| "[" [ATerms] "]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Annotation]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ATerms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::= ATerm ("," ATerm)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AFun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::= AInt | Lite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Annotation ::= "{" ATerms "}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85800" y="2362320"/>
            <a:ext cx="3806280" cy="2709360"/>
            <a:chOff x="685800" y="2362320"/>
            <a:chExt cx="3806280" cy="2709360"/>
          </a:xfrm>
        </p:grpSpPr>
        <p:sp>
          <p:nvSpPr>
            <p:cNvPr id="129" name=""/>
            <p:cNvSpPr/>
            <p:nvPr/>
          </p:nvSpPr>
          <p:spPr>
            <a:xfrm>
              <a:off x="685800" y="2362320"/>
              <a:ext cx="33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ATerm Examp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3160" y="2895480"/>
              <a:ext cx="377892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constants   :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numerals    :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4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literals        :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"asdf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lists            :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[], [1, "abc" 2]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1, 2, [3, 4]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functions     :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f("a"), g(1,[]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annotations :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f("a") {"remark"}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52BC-A160-49E2-BC28-EBD19DB8B2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Terms - Format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Instanc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cuses (only) on tree like structu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t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erms over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variables</a:t>
            </a:r>
            <a:r>
              <a:rPr b="0" lang="en-US" sz="2000" spc="-1" strike="noStrike">
                <a:solidFill>
                  <a:srgbClr val="3333cc"/>
                </a:solidFill>
                <a:latin typeface="Lucida Sans Unicode"/>
              </a:rPr>
              <a:t>,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constant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 given set of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function symbo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hema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chemata implicitly represen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efined by an appropriate set of functions e.g. for representing abstract syntax trees (AsFix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urther schema information can be represented by annotations with ATerm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B8C-0E24-4112-945D-B4C422987E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Terms - Example (1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sFix (ASF+SDF Fixed Format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arse tree format for ASF/SDF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DF (Syntax Definition Formalism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SF (Algebraic Specification Formalism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ach term represents a parse tree includ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yntax rul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riginal layou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sFix representation is self-contain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erm includes all grammar inform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eeded for interpret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C318-A58C-4FDF-87E6-D5C0655AA6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Terms - Example (2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sFiX Func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d(T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: production ru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: applying production ru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to argumen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(T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: liter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rt(T)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sor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(T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: white sp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tr(T)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single attribu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trs(T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: lost of attribut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-attr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: empty list of attribut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784-10D9-4CFB-8344-EA0CBC65E8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Terms - Example (3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"/>
          <p:cNvSpPr/>
          <p:nvPr/>
        </p:nvSpPr>
        <p:spPr>
          <a:xfrm>
            <a:off x="691560" y="1295280"/>
            <a:ext cx="347256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rammar (S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ue         -&gt; B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alse        -&gt; B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or Bool -&gt; Bool {left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638680" y="1219320"/>
            <a:ext cx="2666880" cy="2514240"/>
            <a:chOff x="5638680" y="1219320"/>
            <a:chExt cx="2666880" cy="2514240"/>
          </a:xfrm>
        </p:grpSpPr>
        <p:sp>
          <p:nvSpPr>
            <p:cNvPr id="140" name=""/>
            <p:cNvSpPr/>
            <p:nvPr/>
          </p:nvSpPr>
          <p:spPr>
            <a:xfrm>
              <a:off x="6017400" y="121932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rue or 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5638680" y="1600200"/>
              <a:ext cx="2666880" cy="2133360"/>
              <a:chOff x="5638680" y="1600200"/>
              <a:chExt cx="2666880" cy="2133360"/>
            </a:xfrm>
          </p:grpSpPr>
          <p:sp>
            <p:nvSpPr>
              <p:cNvPr id="142" name=""/>
              <p:cNvSpPr/>
              <p:nvPr/>
            </p:nvSpPr>
            <p:spPr>
              <a:xfrm>
                <a:off x="7568280" y="3362760"/>
                <a:ext cx="737280" cy="3708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 Unicode"/>
                  </a:rPr>
                  <a:t>fal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68280" y="2481480"/>
                <a:ext cx="737280" cy="3708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 Unicode"/>
                  </a:rPr>
                  <a:t>Bo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38680" y="3362760"/>
                <a:ext cx="737640" cy="3708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 Unicode"/>
                  </a:rPr>
                  <a:t>tr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638680" y="2481480"/>
                <a:ext cx="737640" cy="3708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 Unicode"/>
                  </a:rPr>
                  <a:t>Bo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603120" y="2481480"/>
                <a:ext cx="737640" cy="3708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 Unicode"/>
                  </a:rPr>
                  <a:t>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03120" y="1600200"/>
                <a:ext cx="737640" cy="371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 Unicode"/>
                  </a:rPr>
                  <a:t>Bo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8" name=""/>
              <p:cNvCxnSpPr>
                <a:stCxn id="145" idx="4"/>
                <a:endCxn id="144" idx="0"/>
              </p:cNvCxnSpPr>
              <p:nvPr/>
            </p:nvCxnSpPr>
            <p:spPr>
              <a:xfrm>
                <a:off x="6006960" y="2852280"/>
                <a:ext cx="1080" cy="510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9" name=""/>
              <p:cNvCxnSpPr>
                <a:stCxn id="147" idx="4"/>
                <a:endCxn id="143" idx="0"/>
              </p:cNvCxnSpPr>
              <p:nvPr/>
            </p:nvCxnSpPr>
            <p:spPr>
              <a:xfrm>
                <a:off x="6972120" y="1971000"/>
                <a:ext cx="965520" cy="510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0" name=""/>
              <p:cNvCxnSpPr>
                <a:stCxn id="143" idx="4"/>
                <a:endCxn id="142" idx="0"/>
              </p:cNvCxnSpPr>
              <p:nvPr/>
            </p:nvCxnSpPr>
            <p:spPr>
              <a:xfrm>
                <a:off x="7936920" y="2852280"/>
                <a:ext cx="1080" cy="510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1" name=""/>
              <p:cNvCxnSpPr>
                <a:stCxn id="147" idx="4"/>
                <a:endCxn id="146" idx="0"/>
              </p:cNvCxnSpPr>
              <p:nvPr/>
            </p:nvCxnSpPr>
            <p:spPr>
              <a:xfrm>
                <a:off x="6971760" y="1971000"/>
                <a:ext cx="1080" cy="510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2" name=""/>
              <p:cNvCxnSpPr>
                <a:stCxn id="147" idx="4"/>
                <a:endCxn id="145" idx="0"/>
              </p:cNvCxnSpPr>
              <p:nvPr/>
            </p:nvCxnSpPr>
            <p:spPr>
              <a:xfrm flipH="1">
                <a:off x="6006600" y="1971000"/>
                <a:ext cx="965160" cy="510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53" name=""/>
          <p:cNvSpPr/>
          <p:nvPr/>
        </p:nvSpPr>
        <p:spPr>
          <a:xfrm>
            <a:off x="695880" y="3200400"/>
            <a:ext cx="7008840" cy="28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sFix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Bool"),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or"),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Bool")],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Bool"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ttr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tt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left")])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[l("true")],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Bool"),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-attr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true")]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 ")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or")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 "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false")],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Bool"),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-attr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false")])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4920" y="2209680"/>
            <a:ext cx="7543800" cy="2438640"/>
            <a:chOff x="304920" y="2209680"/>
            <a:chExt cx="7543800" cy="2438640"/>
          </a:xfrm>
        </p:grpSpPr>
        <p:sp>
          <p:nvSpPr>
            <p:cNvPr id="155" name=""/>
            <p:cNvSpPr/>
            <p:nvPr/>
          </p:nvSpPr>
          <p:spPr>
            <a:xfrm>
              <a:off x="304920" y="2209680"/>
              <a:ext cx="380988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120" y="3733920"/>
              <a:ext cx="7086600" cy="914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85800" y="2286000"/>
            <a:ext cx="7772400" cy="3733920"/>
            <a:chOff x="685800" y="2286000"/>
            <a:chExt cx="7772400" cy="3733920"/>
          </a:xfrm>
        </p:grpSpPr>
        <p:sp>
          <p:nvSpPr>
            <p:cNvPr id="158" name=""/>
            <p:cNvSpPr/>
            <p:nvPr/>
          </p:nvSpPr>
          <p:spPr>
            <a:xfrm>
              <a:off x="7391520" y="2286000"/>
              <a:ext cx="1066680" cy="1676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5800" y="5335560"/>
              <a:ext cx="6477120" cy="68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752480" y="1219320"/>
            <a:ext cx="6705720" cy="4800600"/>
            <a:chOff x="1752480" y="1219320"/>
            <a:chExt cx="6705720" cy="4800600"/>
          </a:xfrm>
        </p:grpSpPr>
        <p:sp>
          <p:nvSpPr>
            <p:cNvPr id="161" name=""/>
            <p:cNvSpPr/>
            <p:nvPr/>
          </p:nvSpPr>
          <p:spPr>
            <a:xfrm>
              <a:off x="7010280" y="1219320"/>
              <a:ext cx="106704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52480" y="5638680"/>
              <a:ext cx="137160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91520" y="3276720"/>
              <a:ext cx="1066680" cy="533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33BA-8EAA-496B-9444-E8CB1F028F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Terms - Data Access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Terms AP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aking and Matching ATerms (4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ke new ATerm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tch ATerm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mpare ATerm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ading and Writing ATerms (6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rite/read ATerms to/from text fil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rite/read ATerms to/from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binary fil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rite/read ATerms to/from string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notating ATerms (3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t/get/remove annotatio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28C-A7E6-44D8-9F8A-AC286634AB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A Exchange Format (TAXForm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I. T. Bowman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. W. Godfrey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R. C. Holt, et 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change format for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graph-like structur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ased on TA (Tuple Attribute Languag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efficient transformatio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ween different graph-like structu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68" name="WATERLOO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276280" cy="15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C01D-662F-4F95-A3A8-0AD79CB337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458280" y="2048040"/>
            <a:ext cx="3199320" cy="3971880"/>
            <a:chOff x="458280" y="2048040"/>
            <a:chExt cx="3199320" cy="3971880"/>
          </a:xfrm>
        </p:grpSpPr>
        <p:sp>
          <p:nvSpPr>
            <p:cNvPr id="170" name=""/>
            <p:cNvSpPr/>
            <p:nvPr/>
          </p:nvSpPr>
          <p:spPr>
            <a:xfrm>
              <a:off x="2680200" y="204804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 Unicode"/>
                </a:rPr>
                <a:t>main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58280" y="2363760"/>
              <a:ext cx="3199320" cy="3656160"/>
              <a:chOff x="458280" y="2363760"/>
              <a:chExt cx="3199320" cy="3656160"/>
            </a:xfrm>
          </p:grpSpPr>
          <p:sp>
            <p:nvSpPr>
              <p:cNvPr id="172" name=""/>
              <p:cNvSpPr/>
              <p:nvPr/>
            </p:nvSpPr>
            <p:spPr>
              <a:xfrm>
                <a:off x="1133640" y="2363760"/>
                <a:ext cx="2514600" cy="1854360"/>
              </a:xfrm>
              <a:prstGeom prst="foldedCorner">
                <a:avLst>
                  <a:gd name="adj" fmla="val 1250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functio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 P {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75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q()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75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urier New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 v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75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x = v++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8280" y="2757600"/>
                <a:ext cx="72936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75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4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75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12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75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2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458280" y="4191120"/>
                <a:ext cx="3199320" cy="1828800"/>
                <a:chOff x="458280" y="4191120"/>
                <a:chExt cx="3199320" cy="18288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1143000" y="4496040"/>
                  <a:ext cx="2514600" cy="1523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ourier New"/>
                    </a:rPr>
                    <a:t>function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urier New"/>
                    </a:rPr>
                    <a:t> Q {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75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urier New"/>
                    </a:rPr>
                    <a:t> w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75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urier New"/>
                    </a:rPr>
                    <a:t>z = w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58280" y="4876920"/>
                  <a:ext cx="72936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75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urier New"/>
                    </a:rPr>
                    <a:t>2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75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urier New"/>
                    </a:rPr>
                    <a:t>31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838240" y="4191120"/>
                  <a:ext cx="81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Lucida Sans Unicode"/>
                    </a:rPr>
                    <a:t>test.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8" name=""/>
          <p:cNvGrpSpPr/>
          <p:nvPr/>
        </p:nvGrpSpPr>
        <p:grpSpPr>
          <a:xfrm>
            <a:off x="533520" y="2057400"/>
            <a:ext cx="3504960" cy="4002120"/>
            <a:chOff x="533520" y="2057400"/>
            <a:chExt cx="3504960" cy="4002120"/>
          </a:xfrm>
        </p:grpSpPr>
        <p:sp>
          <p:nvSpPr>
            <p:cNvPr id="179" name=""/>
            <p:cNvSpPr/>
            <p:nvPr/>
          </p:nvSpPr>
          <p:spPr>
            <a:xfrm>
              <a:off x="533520" y="2057400"/>
              <a:ext cx="3504960" cy="400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181160" y="2590920"/>
              <a:ext cx="2323800" cy="3428280"/>
              <a:chOff x="1181160" y="2590920"/>
              <a:chExt cx="2323800" cy="34282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1689480" y="3069720"/>
                <a:ext cx="1306800" cy="1032480"/>
                <a:chOff x="1689480" y="3069720"/>
                <a:chExt cx="1306800" cy="10324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689480" y="3069720"/>
                  <a:ext cx="1306800" cy="516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689480" y="3585960"/>
                  <a:ext cx="1306800" cy="516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017080" y="3149640"/>
                  <a:ext cx="68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Pro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765080" y="3681000"/>
                  <a:ext cx="1221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Lucida Sans Unicode"/>
                    </a:rPr>
                    <a:t>File : str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689480" y="4987440"/>
                <a:ext cx="1307160" cy="1031760"/>
                <a:chOff x="1689480" y="4987440"/>
                <a:chExt cx="1307160" cy="10317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689480" y="4987440"/>
                  <a:ext cx="1307160" cy="515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689480" y="5503320"/>
                  <a:ext cx="1307160" cy="515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018880" y="5068800"/>
                  <a:ext cx="572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757160" y="5598360"/>
                  <a:ext cx="990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Lucida Sans Unicode"/>
                    </a:rPr>
                    <a:t>Line : i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91" name=""/>
              <p:cNvCxnSpPr>
                <a:stCxn id="183" idx="2"/>
                <a:endCxn id="187" idx="0"/>
              </p:cNvCxnSpPr>
              <p:nvPr/>
            </p:nvCxnSpPr>
            <p:spPr>
              <a:xfrm>
                <a:off x="2342880" y="4102560"/>
                <a:ext cx="1080" cy="885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92" name=""/>
              <p:cNvCxnSpPr>
                <a:stCxn id="182" idx="3"/>
                <a:endCxn id="182" idx="0"/>
              </p:cNvCxnSpPr>
              <p:nvPr/>
            </p:nvCxnSpPr>
            <p:spPr>
              <a:xfrm flipH="1" flipV="1">
                <a:off x="2342520" y="3069360"/>
                <a:ext cx="654120" cy="258480"/>
              </a:xfrm>
              <a:prstGeom prst="bentConnector4">
                <a:avLst>
                  <a:gd name="adj1" fmla="val -68502"/>
                  <a:gd name="adj2" fmla="val 27405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93" name=""/>
              <p:cNvSpPr/>
              <p:nvPr/>
            </p:nvSpPr>
            <p:spPr>
              <a:xfrm>
                <a:off x="1828800" y="4397400"/>
                <a:ext cx="55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Re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53360" y="2701080"/>
                <a:ext cx="605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Cal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2561040" y="4397400"/>
                <a:ext cx="943920" cy="368640"/>
                <a:chOff x="2561040" y="4397400"/>
                <a:chExt cx="943920" cy="3686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561040" y="4397400"/>
                  <a:ext cx="943920" cy="368640"/>
                </a:xfrm>
                <a:prstGeom prst="roundRect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593440" y="4434120"/>
                  <a:ext cx="887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Line : in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181160" y="2590920"/>
                <a:ext cx="943920" cy="368280"/>
                <a:chOff x="1181160" y="2590920"/>
                <a:chExt cx="943920" cy="3682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181160" y="2590920"/>
                  <a:ext cx="943920" cy="368280"/>
                </a:xfrm>
                <a:prstGeom prst="roundRect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218240" y="2627640"/>
                  <a:ext cx="887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Line : in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2125080" y="2774880"/>
                <a:ext cx="21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343240" y="4572360"/>
                <a:ext cx="21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1697040" y="2133720"/>
              <a:ext cx="129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sche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AXForm - Structure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oftware systems are represented by </a:t>
            </a: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directed, attributed, typed graph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528800" y="2133720"/>
            <a:ext cx="3962520" cy="3533400"/>
            <a:chOff x="4528800" y="2133720"/>
            <a:chExt cx="3962520" cy="3533400"/>
          </a:xfrm>
        </p:grpSpPr>
        <p:grpSp>
          <p:nvGrpSpPr>
            <p:cNvPr id="207" name=""/>
            <p:cNvGrpSpPr/>
            <p:nvPr/>
          </p:nvGrpSpPr>
          <p:grpSpPr>
            <a:xfrm>
              <a:off x="4528800" y="2695680"/>
              <a:ext cx="3962520" cy="2971440"/>
              <a:chOff x="4528800" y="2695680"/>
              <a:chExt cx="3962520" cy="297144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4528800" y="3076560"/>
                <a:ext cx="1371600" cy="761760"/>
                <a:chOff x="4528800" y="3076560"/>
                <a:chExt cx="1371600" cy="76176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4528800" y="3076560"/>
                  <a:ext cx="1371600" cy="761760"/>
                  <a:chOff x="4528800" y="3076560"/>
                  <a:chExt cx="1371600" cy="76176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4528800" y="3076560"/>
                    <a:ext cx="1371600" cy="761760"/>
                  </a:xfrm>
                  <a:prstGeom prst="roundRect">
                    <a:avLst>
                      <a:gd name="adj" fmla="val 13958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4528800" y="3381120"/>
                    <a:ext cx="1371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4833360" y="307656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4534560" y="3457440"/>
                  <a:ext cx="1360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File = "main.c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568400" y="3076560"/>
                  <a:ext cx="289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791240" y="3076560"/>
                  <a:ext cx="573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Pro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528800" y="4905360"/>
                <a:ext cx="1371600" cy="761760"/>
                <a:chOff x="4528800" y="4905360"/>
                <a:chExt cx="1371600" cy="76176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4528800" y="4905360"/>
                  <a:ext cx="1371600" cy="761760"/>
                  <a:chOff x="4528800" y="4905360"/>
                  <a:chExt cx="1371600" cy="7617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4528800" y="4905360"/>
                    <a:ext cx="1371600" cy="761760"/>
                  </a:xfrm>
                  <a:prstGeom prst="roundRect">
                    <a:avLst>
                      <a:gd name="adj" fmla="val 13958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4528800" y="5209920"/>
                    <a:ext cx="1371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4833360" y="490536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" name=""/>
                <p:cNvSpPr/>
                <p:nvPr/>
              </p:nvSpPr>
              <p:spPr>
                <a:xfrm>
                  <a:off x="4545720" y="5286240"/>
                  <a:ext cx="10296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Line = 12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74520" y="490536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v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793400" y="4905360"/>
                  <a:ext cx="485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V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7119720" y="4905360"/>
                <a:ext cx="1371600" cy="761760"/>
                <a:chOff x="7119720" y="4905360"/>
                <a:chExt cx="1371600" cy="761760"/>
              </a:xfrm>
            </p:grpSpPr>
            <p:grpSp>
              <p:nvGrpSpPr>
                <p:cNvPr id="225" name=""/>
                <p:cNvGrpSpPr/>
                <p:nvPr/>
              </p:nvGrpSpPr>
              <p:grpSpPr>
                <a:xfrm>
                  <a:off x="7119720" y="4905360"/>
                  <a:ext cx="1371600" cy="761760"/>
                  <a:chOff x="7119720" y="4905360"/>
                  <a:chExt cx="1371600" cy="76176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7119720" y="4905360"/>
                    <a:ext cx="1371600" cy="761760"/>
                  </a:xfrm>
                  <a:prstGeom prst="roundRect">
                    <a:avLst>
                      <a:gd name="adj" fmla="val 13958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119720" y="5209920"/>
                    <a:ext cx="1371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7424280" y="490536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>
                  <a:off x="7131600" y="5286240"/>
                  <a:ext cx="92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Line = 2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162560" y="4905360"/>
                  <a:ext cx="320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384320" y="4905360"/>
                  <a:ext cx="485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V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7119720" y="3076560"/>
                <a:ext cx="1371600" cy="761760"/>
                <a:chOff x="7119720" y="3076560"/>
                <a:chExt cx="1371600" cy="76176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7119720" y="3076560"/>
                  <a:ext cx="1371600" cy="761760"/>
                  <a:chOff x="7119720" y="3076560"/>
                  <a:chExt cx="1371600" cy="7617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7119720" y="3076560"/>
                    <a:ext cx="1371600" cy="761760"/>
                  </a:xfrm>
                  <a:prstGeom prst="roundRect">
                    <a:avLst>
                      <a:gd name="adj" fmla="val 13958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119720" y="3381120"/>
                    <a:ext cx="1371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7424280" y="307656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>
                  <a:off x="7127280" y="3457440"/>
                  <a:ext cx="1252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File = "test.c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64000" y="3076560"/>
                  <a:ext cx="319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Q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382160" y="3076560"/>
                  <a:ext cx="573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Pro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40" name=""/>
              <p:cNvCxnSpPr>
                <a:stCxn id="210" idx="3"/>
                <a:endCxn id="234" idx="1"/>
              </p:cNvCxnSpPr>
              <p:nvPr/>
            </p:nvCxnSpPr>
            <p:spPr>
              <a:xfrm>
                <a:off x="5900400" y="3457080"/>
                <a:ext cx="1220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1" name=""/>
              <p:cNvCxnSpPr>
                <a:stCxn id="210" idx="2"/>
                <a:endCxn id="218" idx="0"/>
              </p:cNvCxnSpPr>
              <p:nvPr/>
            </p:nvCxnSpPr>
            <p:spPr>
              <a:xfrm>
                <a:off x="5214600" y="3838320"/>
                <a:ext cx="1080" cy="1067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2" name=""/>
              <p:cNvCxnSpPr>
                <a:stCxn id="234" idx="2"/>
                <a:endCxn id="226" idx="0"/>
              </p:cNvCxnSpPr>
              <p:nvPr/>
            </p:nvCxnSpPr>
            <p:spPr>
              <a:xfrm>
                <a:off x="7805520" y="3838320"/>
                <a:ext cx="1080" cy="1067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243" name=""/>
              <p:cNvGrpSpPr/>
              <p:nvPr/>
            </p:nvGrpSpPr>
            <p:grpSpPr>
              <a:xfrm>
                <a:off x="6019920" y="2695680"/>
                <a:ext cx="990360" cy="380880"/>
                <a:chOff x="6019920" y="2695680"/>
                <a:chExt cx="990360" cy="3808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019920" y="2695680"/>
                  <a:ext cx="990360" cy="380880"/>
                </a:xfrm>
                <a:prstGeom prst="roundRect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073920" y="2733840"/>
                  <a:ext cx="881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Line =4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>
                <a:off x="6662880" y="4371840"/>
                <a:ext cx="990360" cy="38124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74760" y="4410000"/>
                <a:ext cx="98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Line =3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6324120" y="3076560"/>
                <a:ext cx="2286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653240" y="456264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5210280" y="3990960"/>
                <a:ext cx="1217880" cy="380880"/>
                <a:chOff x="5210280" y="3990960"/>
                <a:chExt cx="1217880" cy="38088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5372280" y="3990960"/>
                  <a:ext cx="1055880" cy="380880"/>
                  <a:chOff x="5372280" y="3990960"/>
                  <a:chExt cx="1055880" cy="38088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5372280" y="3990960"/>
                    <a:ext cx="1055880" cy="38088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432400" y="4029120"/>
                    <a:ext cx="9838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rPr>
                      <a:t>Line =22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 flipH="1">
                  <a:off x="5210280" y="4181400"/>
                  <a:ext cx="16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" name=""/>
              <p:cNvSpPr/>
              <p:nvPr/>
            </p:nvSpPr>
            <p:spPr>
              <a:xfrm>
                <a:off x="4715640" y="4219560"/>
                <a:ext cx="471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Re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53920" y="3498840"/>
                <a:ext cx="51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Cal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836480" y="4219560"/>
                <a:ext cx="471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Re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527080" y="2133720"/>
              <a:ext cx="193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typed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83B-FBFE-4A3B-BEDE-031EC30EAC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AXForm - Level of Abstraction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83688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ST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rchitectural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62" name="arch" descr=""/>
          <p:cNvPicPr/>
          <p:nvPr/>
        </p:nvPicPr>
        <p:blipFill>
          <a:blip r:embed="rId1"/>
          <a:stretch/>
        </p:blipFill>
        <p:spPr>
          <a:xfrm>
            <a:off x="4894200" y="2120760"/>
            <a:ext cx="3314880" cy="2792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876920" y="5318280"/>
            <a:ext cx="33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op level subsystems of LINUX 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11080" y="5318280"/>
            <a:ext cx="358632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atrix AST for C++ 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cal_var = global_var * pa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DATRIXAS" descr=""/>
          <p:cNvPicPr/>
          <p:nvPr/>
        </p:nvPicPr>
        <p:blipFill>
          <a:blip r:embed="rId2"/>
          <a:stretch/>
        </p:blipFill>
        <p:spPr>
          <a:xfrm>
            <a:off x="952560" y="1833480"/>
            <a:ext cx="3305160" cy="334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BB39-9970-414F-B78F-8F43234376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AXForm - Format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Instanc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cuses on arbitrary graph-like structu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n AST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n architectural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tation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fact tuple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nd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fact attribute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hema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chemata explicitly represen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schema tuple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nd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schema attribute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817-3C52-49AD-BB2F-10169FB0F0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Included Papers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"/>
          <p:cNvSpPr/>
          <p:nvPr/>
        </p:nvSpPr>
        <p:spPr>
          <a:xfrm>
            <a:off x="822240" y="1360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219320"/>
            <a:ext cx="66294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M. van den Brand, H. de Jong, P. Olivier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A Common Exchange Format for 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      Reengineering Tools based on ATerm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M. W. Godfre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ractical Data Exchange for Revers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     Reengineering Frameworks: Som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     Requirements, Some Experiences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     Some Head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J. Ebert, B. Kullbach, A. Winte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GraX - Graph Exchange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WI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98" name="WATERLOO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1285920" cy="885960"/>
          </a:xfrm>
          <a:prstGeom prst="rect">
            <a:avLst/>
          </a:prstGeom>
          <a:ln w="0">
            <a:noFill/>
          </a:ln>
        </p:spPr>
      </p:pic>
      <p:pic>
        <p:nvPicPr>
          <p:cNvPr id="99" name="Ist_grue" descr=""/>
          <p:cNvPicPr/>
          <p:nvPr/>
        </p:nvPicPr>
        <p:blipFill>
          <a:blip r:embed="rId3"/>
          <a:stretch/>
        </p:blipFill>
        <p:spPr>
          <a:xfrm>
            <a:off x="685800" y="4829040"/>
            <a:ext cx="1219320" cy="7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D28-09A9-435F-AB4B-3249E9AFFC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AXForm - Example (1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"/>
          <p:cNvSpPr/>
          <p:nvPr/>
        </p:nvSpPr>
        <p:spPr>
          <a:xfrm>
            <a:off x="5325840" y="1122480"/>
            <a:ext cx="30610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CT TU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STANCE P 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STANCE Q 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STANCE v 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STANCE w 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ll P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f P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f Q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CT 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 {File = "main.c"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{File = "test.c"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 {Line = 127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 {Line = 27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all P Q){Line = 42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ef P v){Line = 225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ef q w){Line = 316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42600" y="2286000"/>
            <a:ext cx="3962520" cy="2971440"/>
            <a:chOff x="642600" y="2286000"/>
            <a:chExt cx="3962520" cy="2971440"/>
          </a:xfrm>
        </p:grpSpPr>
        <p:grpSp>
          <p:nvGrpSpPr>
            <p:cNvPr id="271" name=""/>
            <p:cNvGrpSpPr/>
            <p:nvPr/>
          </p:nvGrpSpPr>
          <p:grpSpPr>
            <a:xfrm>
              <a:off x="642600" y="2666880"/>
              <a:ext cx="1371600" cy="761760"/>
              <a:chOff x="642600" y="2666880"/>
              <a:chExt cx="1371600" cy="76176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642600" y="2666880"/>
                <a:ext cx="1371600" cy="761760"/>
                <a:chOff x="642600" y="2666880"/>
                <a:chExt cx="1371600" cy="7617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42600" y="2666880"/>
                  <a:ext cx="1371600" cy="761760"/>
                </a:xfrm>
                <a:prstGeom prst="roundRect">
                  <a:avLst>
                    <a:gd name="adj" fmla="val 13958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2600" y="297144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947160" y="266688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648360" y="3047760"/>
                <a:ext cx="136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File = "main.c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82200" y="266688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905040" y="2666880"/>
                <a:ext cx="57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Pro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642600" y="4495680"/>
              <a:ext cx="1371600" cy="761760"/>
              <a:chOff x="642600" y="4495680"/>
              <a:chExt cx="1371600" cy="76176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642600" y="4495680"/>
                <a:ext cx="1371600" cy="761760"/>
                <a:chOff x="642600" y="4495680"/>
                <a:chExt cx="1371600" cy="76176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642600" y="4495680"/>
                  <a:ext cx="1371600" cy="761760"/>
                </a:xfrm>
                <a:prstGeom prst="roundRect">
                  <a:avLst>
                    <a:gd name="adj" fmla="val 13958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42600" y="480024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947160" y="449568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4" name=""/>
              <p:cNvSpPr/>
              <p:nvPr/>
            </p:nvSpPr>
            <p:spPr>
              <a:xfrm>
                <a:off x="659520" y="4876560"/>
                <a:ext cx="1029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Line = 1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88320" y="44956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907200" y="4495680"/>
                <a:ext cx="48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V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3233520" y="4495680"/>
              <a:ext cx="1371600" cy="761760"/>
              <a:chOff x="3233520" y="4495680"/>
              <a:chExt cx="1371600" cy="76176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3233520" y="4495680"/>
                <a:ext cx="1371600" cy="761760"/>
                <a:chOff x="3233520" y="4495680"/>
                <a:chExt cx="1371600" cy="7617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233520" y="4495680"/>
                  <a:ext cx="1371600" cy="761760"/>
                </a:xfrm>
                <a:prstGeom prst="roundRect">
                  <a:avLst>
                    <a:gd name="adj" fmla="val 13958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233520" y="480024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538080" y="449568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>
                <a:off x="3245400" y="48765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Line = 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4495680"/>
                <a:ext cx="32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98120" y="4495680"/>
                <a:ext cx="48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V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233520" y="2666880"/>
              <a:ext cx="1371600" cy="761760"/>
              <a:chOff x="3233520" y="2666880"/>
              <a:chExt cx="1371600" cy="76176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3233520" y="2666880"/>
                <a:ext cx="1371600" cy="761760"/>
                <a:chOff x="3233520" y="2666880"/>
                <a:chExt cx="1371600" cy="7617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233520" y="2666880"/>
                  <a:ext cx="1371600" cy="761760"/>
                </a:xfrm>
                <a:prstGeom prst="roundRect">
                  <a:avLst>
                    <a:gd name="adj" fmla="val 13958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233520" y="297144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538080" y="266688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3241080" y="3047760"/>
                <a:ext cx="125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File = "test.c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277800" y="266688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95960" y="2666880"/>
                <a:ext cx="57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Pro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03" name=""/>
            <p:cNvCxnSpPr>
              <a:stCxn id="273" idx="3"/>
              <a:endCxn id="297" idx="1"/>
            </p:cNvCxnSpPr>
            <p:nvPr/>
          </p:nvCxnSpPr>
          <p:spPr>
            <a:xfrm>
              <a:off x="2014200" y="3047400"/>
              <a:ext cx="1220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" name=""/>
            <p:cNvCxnSpPr>
              <a:stCxn id="273" idx="2"/>
              <a:endCxn id="281" idx="0"/>
            </p:cNvCxnSpPr>
            <p:nvPr/>
          </p:nvCxnSpPr>
          <p:spPr>
            <a:xfrm>
              <a:off x="1328400" y="3428640"/>
              <a:ext cx="1080" cy="106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" name=""/>
            <p:cNvCxnSpPr>
              <a:stCxn id="297" idx="2"/>
              <a:endCxn id="289" idx="0"/>
            </p:cNvCxnSpPr>
            <p:nvPr/>
          </p:nvCxnSpPr>
          <p:spPr>
            <a:xfrm>
              <a:off x="3919320" y="3428640"/>
              <a:ext cx="1080" cy="106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06" name=""/>
            <p:cNvGrpSpPr/>
            <p:nvPr/>
          </p:nvGrpSpPr>
          <p:grpSpPr>
            <a:xfrm>
              <a:off x="2133720" y="2286000"/>
              <a:ext cx="990360" cy="380880"/>
              <a:chOff x="2133720" y="2286000"/>
              <a:chExt cx="990360" cy="380880"/>
            </a:xfrm>
          </p:grpSpPr>
          <p:sp>
            <p:nvSpPr>
              <p:cNvPr id="307" name=""/>
              <p:cNvSpPr/>
              <p:nvPr/>
            </p:nvSpPr>
            <p:spPr>
              <a:xfrm>
                <a:off x="2133720" y="2286000"/>
                <a:ext cx="990360" cy="38088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87720" y="23241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Line =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2776680" y="3962160"/>
              <a:ext cx="990360" cy="38124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88560" y="4000320"/>
              <a:ext cx="98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Line =3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437920" y="266688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767040" y="41529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1324080" y="3581280"/>
              <a:ext cx="1217880" cy="380880"/>
              <a:chOff x="1324080" y="3581280"/>
              <a:chExt cx="1217880" cy="38088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1486080" y="3581280"/>
                <a:ext cx="1055880" cy="380880"/>
                <a:chOff x="1486080" y="3581280"/>
                <a:chExt cx="1055880" cy="3808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1486080" y="3581280"/>
                  <a:ext cx="1055880" cy="380880"/>
                </a:xfrm>
                <a:prstGeom prst="roundRect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546200" y="3619440"/>
                  <a:ext cx="983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Line =22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 flipH="1">
                <a:off x="1324080" y="3771720"/>
                <a:ext cx="16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829440" y="3809880"/>
              <a:ext cx="47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Re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67720" y="3089160"/>
              <a:ext cx="5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50280" y="3809880"/>
              <a:ext cx="47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Re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546920" y="157176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nstanc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A0A-7599-4562-BCD5-897D6F80FB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AXForm - Example (2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"/>
          <p:cNvSpPr/>
          <p:nvPr/>
        </p:nvSpPr>
        <p:spPr>
          <a:xfrm>
            <a:off x="5483160" y="2438280"/>
            <a:ext cx="2375280" cy="25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HEMA TU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ll Proc 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f Proc 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HEME 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c {File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{Line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all) {Line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ef) {Line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486080" y="2133720"/>
            <a:ext cx="2323440" cy="3428280"/>
            <a:chOff x="1486080" y="2133720"/>
            <a:chExt cx="2323440" cy="3428280"/>
          </a:xfrm>
        </p:grpSpPr>
        <p:grpSp>
          <p:nvGrpSpPr>
            <p:cNvPr id="325" name=""/>
            <p:cNvGrpSpPr/>
            <p:nvPr/>
          </p:nvGrpSpPr>
          <p:grpSpPr>
            <a:xfrm>
              <a:off x="1994400" y="2612520"/>
              <a:ext cx="1306800" cy="1032480"/>
              <a:chOff x="1994400" y="2612520"/>
              <a:chExt cx="1306800" cy="1032480"/>
            </a:xfrm>
          </p:grpSpPr>
          <p:sp>
            <p:nvSpPr>
              <p:cNvPr id="326" name=""/>
              <p:cNvSpPr/>
              <p:nvPr/>
            </p:nvSpPr>
            <p:spPr>
              <a:xfrm>
                <a:off x="1994400" y="2612520"/>
                <a:ext cx="1306800" cy="51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994400" y="3128760"/>
                <a:ext cx="1306800" cy="51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322000" y="269244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Pro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70000" y="3223800"/>
                <a:ext cx="122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Unicode"/>
                  </a:rPr>
                  <a:t>File : str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1994400" y="4530240"/>
              <a:ext cx="1306800" cy="1031760"/>
              <a:chOff x="1994400" y="4530240"/>
              <a:chExt cx="1306800" cy="1031760"/>
            </a:xfrm>
          </p:grpSpPr>
          <p:sp>
            <p:nvSpPr>
              <p:cNvPr id="331" name=""/>
              <p:cNvSpPr/>
              <p:nvPr/>
            </p:nvSpPr>
            <p:spPr>
              <a:xfrm>
                <a:off x="1994400" y="4530240"/>
                <a:ext cx="1306800" cy="515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994400" y="5046120"/>
                <a:ext cx="1306800" cy="515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323800" y="4611600"/>
                <a:ext cx="57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V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061720" y="514116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Unicode"/>
                  </a:rPr>
                  <a:t>Line : i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5" name=""/>
            <p:cNvCxnSpPr>
              <a:stCxn id="327" idx="2"/>
              <a:endCxn id="331" idx="0"/>
            </p:cNvCxnSpPr>
            <p:nvPr/>
          </p:nvCxnSpPr>
          <p:spPr>
            <a:xfrm>
              <a:off x="2647440" y="3645360"/>
              <a:ext cx="1080" cy="885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6" name=""/>
            <p:cNvCxnSpPr>
              <a:stCxn id="326" idx="3"/>
              <a:endCxn id="326" idx="0"/>
            </p:cNvCxnSpPr>
            <p:nvPr/>
          </p:nvCxnSpPr>
          <p:spPr>
            <a:xfrm flipH="1" flipV="1">
              <a:off x="2647080" y="2612160"/>
              <a:ext cx="654120" cy="258480"/>
            </a:xfrm>
            <a:prstGeom prst="bentConnector4">
              <a:avLst>
                <a:gd name="adj1" fmla="val -68502"/>
                <a:gd name="adj2" fmla="val 2740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7" name=""/>
            <p:cNvSpPr/>
            <p:nvPr/>
          </p:nvSpPr>
          <p:spPr>
            <a:xfrm>
              <a:off x="2133360" y="394020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Re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57920" y="224388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C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2865600" y="3940200"/>
              <a:ext cx="943920" cy="368640"/>
              <a:chOff x="2865600" y="3940200"/>
              <a:chExt cx="943920" cy="368640"/>
            </a:xfrm>
          </p:grpSpPr>
          <p:sp>
            <p:nvSpPr>
              <p:cNvPr id="340" name=""/>
              <p:cNvSpPr/>
              <p:nvPr/>
            </p:nvSpPr>
            <p:spPr>
              <a:xfrm>
                <a:off x="2865600" y="3940200"/>
                <a:ext cx="943920" cy="36864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898000" y="3976920"/>
                <a:ext cx="88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Line : i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486080" y="2133720"/>
              <a:ext cx="943560" cy="368280"/>
              <a:chOff x="1486080" y="2133720"/>
              <a:chExt cx="943560" cy="368280"/>
            </a:xfrm>
          </p:grpSpPr>
          <p:sp>
            <p:nvSpPr>
              <p:cNvPr id="343" name=""/>
              <p:cNvSpPr/>
              <p:nvPr/>
            </p:nvSpPr>
            <p:spPr>
              <a:xfrm>
                <a:off x="1486080" y="2133720"/>
                <a:ext cx="943560" cy="36828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22800" y="2170440"/>
                <a:ext cx="88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Line : i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2430000" y="231768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47800" y="411516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634760" y="1447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chema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A428-BCF0-428C-B4DC-F5DB35B102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889920" y="4906800"/>
            <a:ext cx="551124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AXForm Utop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Transformation between sche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AXForm - Transformation (1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-17136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ots of </a:t>
            </a: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different schema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ere defined for variou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urposes (e.g. 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rchitectur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evel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886200" y="1600200"/>
            <a:ext cx="5029200" cy="3511440"/>
            <a:chOff x="3886200" y="1600200"/>
            <a:chExt cx="5029200" cy="3511440"/>
          </a:xfrm>
        </p:grpSpPr>
        <p:sp>
          <p:nvSpPr>
            <p:cNvPr id="352" name=""/>
            <p:cNvSpPr/>
            <p:nvPr/>
          </p:nvSpPr>
          <p:spPr>
            <a:xfrm>
              <a:off x="5943600" y="1600200"/>
              <a:ext cx="1155600" cy="38880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Univers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15000" y="2249640"/>
              <a:ext cx="1600200" cy="45396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High-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4" name=""/>
            <p:cNvCxnSpPr>
              <a:stCxn id="353" idx="0"/>
              <a:endCxn id="352" idx="2"/>
            </p:cNvCxnSpPr>
            <p:nvPr/>
          </p:nvCxnSpPr>
          <p:spPr>
            <a:xfrm flipV="1">
              <a:off x="6514920" y="1988640"/>
              <a:ext cx="6840" cy="26136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355" name=""/>
            <p:cNvSpPr/>
            <p:nvPr/>
          </p:nvSpPr>
          <p:spPr>
            <a:xfrm>
              <a:off x="4343400" y="2963880"/>
              <a:ext cx="1395360" cy="46512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Procedu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6" name=""/>
            <p:cNvCxnSpPr>
              <a:stCxn id="355" idx="0"/>
              <a:endCxn id="353" idx="2"/>
            </p:cNvCxnSpPr>
            <p:nvPr/>
          </p:nvCxnSpPr>
          <p:spPr>
            <a:xfrm flipV="1">
              <a:off x="5041440" y="2702880"/>
              <a:ext cx="1474200" cy="26100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357" name=""/>
            <p:cNvSpPr/>
            <p:nvPr/>
          </p:nvSpPr>
          <p:spPr>
            <a:xfrm>
              <a:off x="3886200" y="3871800"/>
              <a:ext cx="722160" cy="38916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PL/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73880" y="3871800"/>
              <a:ext cx="722160" cy="38916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9" name=""/>
            <p:cNvCxnSpPr>
              <a:stCxn id="357" idx="0"/>
              <a:endCxn id="355" idx="2"/>
            </p:cNvCxnSpPr>
            <p:nvPr/>
          </p:nvCxnSpPr>
          <p:spPr>
            <a:xfrm flipV="1">
              <a:off x="4247640" y="3428640"/>
              <a:ext cx="794520" cy="44352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360" name=""/>
            <p:cNvCxnSpPr>
              <a:stCxn id="358" idx="0"/>
              <a:endCxn id="355" idx="2"/>
            </p:cNvCxnSpPr>
            <p:nvPr/>
          </p:nvCxnSpPr>
          <p:spPr>
            <a:xfrm flipH="1" flipV="1">
              <a:off x="5041080" y="3428640"/>
              <a:ext cx="894600" cy="44352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361" name=""/>
            <p:cNvCxnSpPr>
              <a:stCxn id="362" idx="0"/>
              <a:endCxn id="353" idx="2"/>
            </p:cNvCxnSpPr>
            <p:nvPr/>
          </p:nvCxnSpPr>
          <p:spPr>
            <a:xfrm flipH="1" flipV="1">
              <a:off x="6514920" y="2702880"/>
              <a:ext cx="1257840" cy="26100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362" name=""/>
            <p:cNvSpPr/>
            <p:nvPr/>
          </p:nvSpPr>
          <p:spPr>
            <a:xfrm>
              <a:off x="6781680" y="2963880"/>
              <a:ext cx="1981440" cy="46512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Object-Orien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50000" y="3871800"/>
              <a:ext cx="722520" cy="38916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C+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93240" y="3871800"/>
              <a:ext cx="722160" cy="38916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J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5" name=""/>
            <p:cNvCxnSpPr>
              <a:stCxn id="363" idx="0"/>
              <a:endCxn id="362" idx="2"/>
            </p:cNvCxnSpPr>
            <p:nvPr/>
          </p:nvCxnSpPr>
          <p:spPr>
            <a:xfrm flipV="1">
              <a:off x="7112160" y="3428640"/>
              <a:ext cx="660600" cy="44352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366" name=""/>
            <p:cNvCxnSpPr>
              <a:stCxn id="364" idx="0"/>
              <a:endCxn id="362" idx="2"/>
            </p:cNvCxnSpPr>
            <p:nvPr/>
          </p:nvCxnSpPr>
          <p:spPr>
            <a:xfrm flipH="1" flipV="1">
              <a:off x="7772040" y="3428640"/>
              <a:ext cx="783360" cy="44352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367" name=""/>
            <p:cNvCxnSpPr>
              <a:stCxn id="358" idx="3"/>
              <a:endCxn id="363" idx="1"/>
            </p:cNvCxnSpPr>
            <p:nvPr/>
          </p:nvCxnSpPr>
          <p:spPr>
            <a:xfrm>
              <a:off x="6295680" y="4066920"/>
              <a:ext cx="45468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grpSp>
          <p:nvGrpSpPr>
            <p:cNvPr id="368" name=""/>
            <p:cNvGrpSpPr/>
            <p:nvPr/>
          </p:nvGrpSpPr>
          <p:grpSpPr>
            <a:xfrm>
              <a:off x="4611600" y="4266360"/>
              <a:ext cx="2550960" cy="845280"/>
              <a:chOff x="4611600" y="4266360"/>
              <a:chExt cx="2550960" cy="845280"/>
            </a:xfrm>
          </p:grpSpPr>
          <p:sp>
            <p:nvSpPr>
              <p:cNvPr id="369" name=""/>
              <p:cNvSpPr/>
              <p:nvPr/>
            </p:nvSpPr>
            <p:spPr>
              <a:xfrm>
                <a:off x="4611600" y="4721760"/>
                <a:ext cx="721800" cy="389880"/>
              </a:xfrm>
              <a:prstGeom prst="rect">
                <a:avLst/>
              </a:prstGeom>
              <a:solidFill>
                <a:srgbClr val="cccc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Dali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40760" y="4721760"/>
                <a:ext cx="721800" cy="389880"/>
              </a:xfrm>
              <a:prstGeom prst="rect">
                <a:avLst/>
              </a:prstGeom>
              <a:solidFill>
                <a:srgbClr val="cccc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Rigi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574240" y="4721760"/>
                <a:ext cx="721800" cy="389880"/>
              </a:xfrm>
              <a:prstGeom prst="rect">
                <a:avLst/>
              </a:prstGeom>
              <a:solidFill>
                <a:srgbClr val="cccc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PBS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72" name=""/>
              <p:cNvCxnSpPr>
                <a:stCxn id="369" idx="0"/>
                <a:endCxn id="358" idx="2"/>
              </p:cNvCxnSpPr>
              <p:nvPr/>
            </p:nvCxnSpPr>
            <p:spPr>
              <a:xfrm flipV="1">
                <a:off x="4972680" y="4266360"/>
                <a:ext cx="963360" cy="45540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</p:cxnSp>
          <p:cxnSp>
            <p:nvCxnSpPr>
              <p:cNvPr id="373" name=""/>
              <p:cNvCxnSpPr>
                <a:stCxn id="371" idx="0"/>
                <a:endCxn id="358" idx="2"/>
              </p:cNvCxnSpPr>
              <p:nvPr/>
            </p:nvCxnSpPr>
            <p:spPr>
              <a:xfrm flipV="1">
                <a:off x="5934960" y="4266360"/>
                <a:ext cx="1080" cy="45540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</p:cxnSp>
          <p:cxnSp>
            <p:nvCxnSpPr>
              <p:cNvPr id="374" name=""/>
              <p:cNvCxnSpPr>
                <a:stCxn id="370" idx="0"/>
                <a:endCxn id="358" idx="2"/>
              </p:cNvCxnSpPr>
              <p:nvPr/>
            </p:nvCxnSpPr>
            <p:spPr>
              <a:xfrm flipH="1" flipV="1">
                <a:off x="5934960" y="4266360"/>
                <a:ext cx="866880" cy="45540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</p:cxn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A729-8260-4EAE-B7D5-7E65CC3D51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AXForm offers a </a:t>
            </a: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fixed set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of schema transformations e.g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AXForm - Transformation (2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52578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ork to 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buClr>
                <a:srgbClr val="3333cc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very general schema transforma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685800" y="1752480"/>
            <a:ext cx="7882200" cy="3294000"/>
            <a:chOff x="685800" y="1752480"/>
            <a:chExt cx="7882200" cy="3294000"/>
          </a:xfrm>
        </p:grpSpPr>
        <p:grpSp>
          <p:nvGrpSpPr>
            <p:cNvPr id="379" name=""/>
            <p:cNvGrpSpPr/>
            <p:nvPr/>
          </p:nvGrpSpPr>
          <p:grpSpPr>
            <a:xfrm>
              <a:off x="685800" y="2273400"/>
              <a:ext cx="3492000" cy="2773080"/>
              <a:chOff x="685800" y="2273400"/>
              <a:chExt cx="3492000" cy="2773080"/>
            </a:xfrm>
          </p:grpSpPr>
          <p:sp>
            <p:nvSpPr>
              <p:cNvPr id="380" name=""/>
              <p:cNvSpPr/>
              <p:nvPr/>
            </p:nvSpPr>
            <p:spPr>
              <a:xfrm>
                <a:off x="1922400" y="2283480"/>
                <a:ext cx="898560" cy="3567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113560" y="2306520"/>
                <a:ext cx="474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Lucida Sans Unicode"/>
                  </a:rPr>
                  <a:t>Sour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243880" y="2480400"/>
                <a:ext cx="246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Lucida Sans Unicode"/>
                  </a:rPr>
                  <a:t>Fil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820960" y="2338560"/>
                <a:ext cx="337320" cy="203040"/>
              </a:xfrm>
              <a:custGeom>
                <a:avLst/>
                <a:gdLst/>
                <a:ahLst/>
                <a:rect l="l" t="t" r="r" b="b"/>
                <a:pathLst>
                  <a:path w="221" h="140">
                    <a:moveTo>
                      <a:pt x="0" y="0"/>
                    </a:moveTo>
                    <a:lnTo>
                      <a:pt x="30" y="5"/>
                    </a:lnTo>
                    <a:lnTo>
                      <a:pt x="58" y="11"/>
                    </a:lnTo>
                    <a:lnTo>
                      <a:pt x="84" y="14"/>
                    </a:lnTo>
                    <a:lnTo>
                      <a:pt x="107" y="20"/>
                    </a:lnTo>
                    <a:lnTo>
                      <a:pt x="128" y="25"/>
                    </a:lnTo>
                    <a:lnTo>
                      <a:pt x="148" y="30"/>
                    </a:lnTo>
                    <a:lnTo>
                      <a:pt x="165" y="35"/>
                    </a:lnTo>
                    <a:lnTo>
                      <a:pt x="179" y="41"/>
                    </a:lnTo>
                    <a:lnTo>
                      <a:pt x="191" y="46"/>
                    </a:lnTo>
                    <a:lnTo>
                      <a:pt x="202" y="51"/>
                    </a:lnTo>
                    <a:lnTo>
                      <a:pt x="209" y="56"/>
                    </a:lnTo>
                    <a:lnTo>
                      <a:pt x="216" y="62"/>
                    </a:lnTo>
                    <a:lnTo>
                      <a:pt x="220" y="67"/>
                    </a:lnTo>
                    <a:lnTo>
                      <a:pt x="221" y="72"/>
                    </a:lnTo>
                    <a:lnTo>
                      <a:pt x="220" y="77"/>
                    </a:lnTo>
                    <a:lnTo>
                      <a:pt x="217" y="82"/>
                    </a:lnTo>
                    <a:lnTo>
                      <a:pt x="212" y="88"/>
                    </a:lnTo>
                    <a:lnTo>
                      <a:pt x="204" y="93"/>
                    </a:lnTo>
                    <a:lnTo>
                      <a:pt x="195" y="98"/>
                    </a:lnTo>
                    <a:lnTo>
                      <a:pt x="183" y="103"/>
                    </a:lnTo>
                    <a:lnTo>
                      <a:pt x="169" y="109"/>
                    </a:lnTo>
                    <a:lnTo>
                      <a:pt x="153" y="114"/>
                    </a:lnTo>
                    <a:lnTo>
                      <a:pt x="134" y="119"/>
                    </a:lnTo>
                    <a:lnTo>
                      <a:pt x="114" y="124"/>
                    </a:lnTo>
                    <a:lnTo>
                      <a:pt x="90" y="130"/>
                    </a:lnTo>
                    <a:lnTo>
                      <a:pt x="66" y="135"/>
                    </a:lnTo>
                    <a:lnTo>
                      <a:pt x="38" y="14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820960" y="2507040"/>
                <a:ext cx="71640" cy="6516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39" y="0"/>
                    </a:moveTo>
                    <a:lnTo>
                      <a:pt x="0" y="31"/>
                    </a:lnTo>
                    <a:lnTo>
                      <a:pt x="47" y="45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53240" y="2273400"/>
                <a:ext cx="32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u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218760" y="2444400"/>
                <a:ext cx="21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85800" y="3547080"/>
                <a:ext cx="898560" cy="3567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72560" y="3688200"/>
                <a:ext cx="703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Lucida Sans Unicode"/>
                  </a:rPr>
                  <a:t>Data Typ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47320" y="2640240"/>
                <a:ext cx="924480" cy="853200"/>
              </a:xfrm>
              <a:custGeom>
                <a:avLst/>
                <a:gdLst/>
                <a:ahLst/>
                <a:rect l="l" t="t" r="r" b="b"/>
                <a:pathLst>
                  <a:path w="605" h="588">
                    <a:moveTo>
                      <a:pt x="605" y="0"/>
                    </a:moveTo>
                    <a:lnTo>
                      <a:pt x="558" y="17"/>
                    </a:lnTo>
                    <a:lnTo>
                      <a:pt x="512" y="34"/>
                    </a:lnTo>
                    <a:lnTo>
                      <a:pt x="469" y="54"/>
                    </a:lnTo>
                    <a:lnTo>
                      <a:pt x="427" y="73"/>
                    </a:lnTo>
                    <a:lnTo>
                      <a:pt x="388" y="96"/>
                    </a:lnTo>
                    <a:lnTo>
                      <a:pt x="350" y="118"/>
                    </a:lnTo>
                    <a:lnTo>
                      <a:pt x="313" y="141"/>
                    </a:lnTo>
                    <a:lnTo>
                      <a:pt x="279" y="165"/>
                    </a:lnTo>
                    <a:lnTo>
                      <a:pt x="247" y="191"/>
                    </a:lnTo>
                    <a:lnTo>
                      <a:pt x="217" y="219"/>
                    </a:lnTo>
                    <a:lnTo>
                      <a:pt x="188" y="246"/>
                    </a:lnTo>
                    <a:lnTo>
                      <a:pt x="160" y="275"/>
                    </a:lnTo>
                    <a:lnTo>
                      <a:pt x="136" y="305"/>
                    </a:lnTo>
                    <a:lnTo>
                      <a:pt x="112" y="336"/>
                    </a:lnTo>
                    <a:lnTo>
                      <a:pt x="90" y="369"/>
                    </a:lnTo>
                    <a:lnTo>
                      <a:pt x="70" y="403"/>
                    </a:lnTo>
                    <a:lnTo>
                      <a:pt x="53" y="437"/>
                    </a:lnTo>
                    <a:lnTo>
                      <a:pt x="38" y="474"/>
                    </a:lnTo>
                    <a:lnTo>
                      <a:pt x="23" y="510"/>
                    </a:lnTo>
                    <a:lnTo>
                      <a:pt x="10" y="548"/>
                    </a:lnTo>
                    <a:lnTo>
                      <a:pt x="0" y="58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116720" y="3477960"/>
                <a:ext cx="65160" cy="6912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12" y="48"/>
                    </a:lnTo>
                    <a:lnTo>
                      <a:pt x="43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179360" y="2898720"/>
                <a:ext cx="508680" cy="192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195560" y="2913120"/>
                <a:ext cx="524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def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922400" y="3547080"/>
                <a:ext cx="898560" cy="3567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987920" y="3688200"/>
                <a:ext cx="720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Lucida Sans Unicode"/>
                  </a:rPr>
                  <a:t>Procedur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277800" y="3547080"/>
                <a:ext cx="900000" cy="3567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52480" y="3688200"/>
                <a:ext cx="335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Lucida Sans Unicode"/>
                  </a:rPr>
                  <a:t>Dat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371320" y="2640240"/>
                <a:ext cx="1080" cy="8506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37840" y="3483360"/>
                <a:ext cx="66960" cy="6372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0" y="0"/>
                    </a:moveTo>
                    <a:lnTo>
                      <a:pt x="22" y="44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116440" y="2997360"/>
                <a:ext cx="508680" cy="19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134440" y="3007440"/>
                <a:ext cx="524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def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670840" y="2640240"/>
                <a:ext cx="1037880" cy="853200"/>
              </a:xfrm>
              <a:custGeom>
                <a:avLst/>
                <a:gdLst/>
                <a:ahLst/>
                <a:rect l="l" t="t" r="r" b="b"/>
                <a:pathLst>
                  <a:path w="679" h="588">
                    <a:moveTo>
                      <a:pt x="0" y="0"/>
                    </a:moveTo>
                    <a:lnTo>
                      <a:pt x="50" y="16"/>
                    </a:lnTo>
                    <a:lnTo>
                      <a:pt x="98" y="31"/>
                    </a:lnTo>
                    <a:lnTo>
                      <a:pt x="144" y="48"/>
                    </a:lnTo>
                    <a:lnTo>
                      <a:pt x="188" y="67"/>
                    </a:lnTo>
                    <a:lnTo>
                      <a:pt x="232" y="85"/>
                    </a:lnTo>
                    <a:lnTo>
                      <a:pt x="272" y="106"/>
                    </a:lnTo>
                    <a:lnTo>
                      <a:pt x="311" y="127"/>
                    </a:lnTo>
                    <a:lnTo>
                      <a:pt x="348" y="148"/>
                    </a:lnTo>
                    <a:lnTo>
                      <a:pt x="383" y="171"/>
                    </a:lnTo>
                    <a:lnTo>
                      <a:pt x="416" y="195"/>
                    </a:lnTo>
                    <a:lnTo>
                      <a:pt x="447" y="220"/>
                    </a:lnTo>
                    <a:lnTo>
                      <a:pt x="477" y="245"/>
                    </a:lnTo>
                    <a:lnTo>
                      <a:pt x="505" y="271"/>
                    </a:lnTo>
                    <a:lnTo>
                      <a:pt x="531" y="298"/>
                    </a:lnTo>
                    <a:lnTo>
                      <a:pt x="554" y="327"/>
                    </a:lnTo>
                    <a:lnTo>
                      <a:pt x="577" y="356"/>
                    </a:lnTo>
                    <a:lnTo>
                      <a:pt x="598" y="386"/>
                    </a:lnTo>
                    <a:lnTo>
                      <a:pt x="616" y="417"/>
                    </a:lnTo>
                    <a:lnTo>
                      <a:pt x="632" y="450"/>
                    </a:lnTo>
                    <a:lnTo>
                      <a:pt x="646" y="483"/>
                    </a:lnTo>
                    <a:lnTo>
                      <a:pt x="659" y="517"/>
                    </a:lnTo>
                    <a:lnTo>
                      <a:pt x="670" y="551"/>
                    </a:lnTo>
                    <a:lnTo>
                      <a:pt x="679" y="58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673800" y="3477960"/>
                <a:ext cx="66960" cy="6912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44" y="0"/>
                    </a:moveTo>
                    <a:lnTo>
                      <a:pt x="31" y="48"/>
                    </a:lnTo>
                    <a:lnTo>
                      <a:pt x="0" y="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46400" y="2898720"/>
                <a:ext cx="510480" cy="192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64400" y="2913120"/>
                <a:ext cx="524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def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161000" y="3913200"/>
                <a:ext cx="815760" cy="426240"/>
              </a:xfrm>
              <a:custGeom>
                <a:avLst/>
                <a:gdLst/>
                <a:ahLst/>
                <a:rect l="l" t="t" r="r" b="b"/>
                <a:pathLst>
                  <a:path w="534" h="294">
                    <a:moveTo>
                      <a:pt x="534" y="0"/>
                    </a:moveTo>
                    <a:lnTo>
                      <a:pt x="519" y="35"/>
                    </a:lnTo>
                    <a:lnTo>
                      <a:pt x="502" y="68"/>
                    </a:lnTo>
                    <a:lnTo>
                      <a:pt x="486" y="98"/>
                    </a:lnTo>
                    <a:lnTo>
                      <a:pt x="470" y="127"/>
                    </a:lnTo>
                    <a:lnTo>
                      <a:pt x="453" y="151"/>
                    </a:lnTo>
                    <a:lnTo>
                      <a:pt x="438" y="176"/>
                    </a:lnTo>
                    <a:lnTo>
                      <a:pt x="422" y="197"/>
                    </a:lnTo>
                    <a:lnTo>
                      <a:pt x="405" y="217"/>
                    </a:lnTo>
                    <a:lnTo>
                      <a:pt x="389" y="234"/>
                    </a:lnTo>
                    <a:lnTo>
                      <a:pt x="372" y="250"/>
                    </a:lnTo>
                    <a:lnTo>
                      <a:pt x="357" y="263"/>
                    </a:lnTo>
                    <a:lnTo>
                      <a:pt x="340" y="273"/>
                    </a:lnTo>
                    <a:lnTo>
                      <a:pt x="323" y="282"/>
                    </a:lnTo>
                    <a:lnTo>
                      <a:pt x="307" y="288"/>
                    </a:lnTo>
                    <a:lnTo>
                      <a:pt x="290" y="293"/>
                    </a:lnTo>
                    <a:lnTo>
                      <a:pt x="273" y="294"/>
                    </a:lnTo>
                    <a:lnTo>
                      <a:pt x="256" y="294"/>
                    </a:lnTo>
                    <a:lnTo>
                      <a:pt x="239" y="291"/>
                    </a:lnTo>
                    <a:lnTo>
                      <a:pt x="223" y="288"/>
                    </a:lnTo>
                    <a:lnTo>
                      <a:pt x="206" y="280"/>
                    </a:lnTo>
                    <a:lnTo>
                      <a:pt x="189" y="272"/>
                    </a:lnTo>
                    <a:lnTo>
                      <a:pt x="172" y="260"/>
                    </a:lnTo>
                    <a:lnTo>
                      <a:pt x="155" y="247"/>
                    </a:lnTo>
                    <a:lnTo>
                      <a:pt x="138" y="231"/>
                    </a:lnTo>
                    <a:lnTo>
                      <a:pt x="121" y="214"/>
                    </a:lnTo>
                    <a:lnTo>
                      <a:pt x="104" y="193"/>
                    </a:lnTo>
                    <a:lnTo>
                      <a:pt x="87" y="172"/>
                    </a:lnTo>
                    <a:lnTo>
                      <a:pt x="69" y="148"/>
                    </a:lnTo>
                    <a:lnTo>
                      <a:pt x="52" y="121"/>
                    </a:lnTo>
                    <a:lnTo>
                      <a:pt x="35" y="93"/>
                    </a:lnTo>
                    <a:lnTo>
                      <a:pt x="18" y="61"/>
                    </a:lnTo>
                    <a:lnTo>
                      <a:pt x="0" y="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135080" y="3904200"/>
                <a:ext cx="59400" cy="7272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0" y="50"/>
                    </a:moveTo>
                    <a:lnTo>
                      <a:pt x="0" y="0"/>
                    </a:lnTo>
                    <a:lnTo>
                      <a:pt x="39" y="2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396440" y="4156920"/>
                <a:ext cx="33912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412640" y="4169880"/>
                <a:ext cx="32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u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425240" y="4341240"/>
                <a:ext cx="313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727720" y="3913200"/>
                <a:ext cx="962640" cy="426240"/>
              </a:xfrm>
              <a:custGeom>
                <a:avLst/>
                <a:gdLst/>
                <a:ahLst/>
                <a:rect l="l" t="t" r="r" b="b"/>
                <a:pathLst>
                  <a:path w="630" h="294">
                    <a:moveTo>
                      <a:pt x="0" y="0"/>
                    </a:moveTo>
                    <a:lnTo>
                      <a:pt x="19" y="35"/>
                    </a:lnTo>
                    <a:lnTo>
                      <a:pt x="38" y="68"/>
                    </a:lnTo>
                    <a:lnTo>
                      <a:pt x="57" y="98"/>
                    </a:lnTo>
                    <a:lnTo>
                      <a:pt x="76" y="127"/>
                    </a:lnTo>
                    <a:lnTo>
                      <a:pt x="95" y="153"/>
                    </a:lnTo>
                    <a:lnTo>
                      <a:pt x="115" y="176"/>
                    </a:lnTo>
                    <a:lnTo>
                      <a:pt x="133" y="197"/>
                    </a:lnTo>
                    <a:lnTo>
                      <a:pt x="153" y="217"/>
                    </a:lnTo>
                    <a:lnTo>
                      <a:pt x="172" y="234"/>
                    </a:lnTo>
                    <a:lnTo>
                      <a:pt x="192" y="250"/>
                    </a:lnTo>
                    <a:lnTo>
                      <a:pt x="212" y="263"/>
                    </a:lnTo>
                    <a:lnTo>
                      <a:pt x="231" y="273"/>
                    </a:lnTo>
                    <a:lnTo>
                      <a:pt x="251" y="282"/>
                    </a:lnTo>
                    <a:lnTo>
                      <a:pt x="269" y="288"/>
                    </a:lnTo>
                    <a:lnTo>
                      <a:pt x="290" y="293"/>
                    </a:lnTo>
                    <a:lnTo>
                      <a:pt x="310" y="294"/>
                    </a:lnTo>
                    <a:lnTo>
                      <a:pt x="329" y="294"/>
                    </a:lnTo>
                    <a:lnTo>
                      <a:pt x="349" y="291"/>
                    </a:lnTo>
                    <a:lnTo>
                      <a:pt x="368" y="288"/>
                    </a:lnTo>
                    <a:lnTo>
                      <a:pt x="388" y="280"/>
                    </a:lnTo>
                    <a:lnTo>
                      <a:pt x="408" y="271"/>
                    </a:lnTo>
                    <a:lnTo>
                      <a:pt x="429" y="260"/>
                    </a:lnTo>
                    <a:lnTo>
                      <a:pt x="448" y="247"/>
                    </a:lnTo>
                    <a:lnTo>
                      <a:pt x="468" y="231"/>
                    </a:lnTo>
                    <a:lnTo>
                      <a:pt x="487" y="213"/>
                    </a:lnTo>
                    <a:lnTo>
                      <a:pt x="508" y="193"/>
                    </a:lnTo>
                    <a:lnTo>
                      <a:pt x="528" y="171"/>
                    </a:lnTo>
                    <a:lnTo>
                      <a:pt x="549" y="146"/>
                    </a:lnTo>
                    <a:lnTo>
                      <a:pt x="568" y="120"/>
                    </a:lnTo>
                    <a:lnTo>
                      <a:pt x="589" y="91"/>
                    </a:lnTo>
                    <a:lnTo>
                      <a:pt x="609" y="61"/>
                    </a:lnTo>
                    <a:lnTo>
                      <a:pt x="630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656880" y="3904200"/>
                <a:ext cx="64080" cy="72720"/>
              </a:xfrm>
              <a:custGeom>
                <a:avLst/>
                <a:gdLst/>
                <a:ahLst/>
                <a:rect l="l" t="t" r="r" b="b"/>
                <a:pathLst>
                  <a:path w="42" h="50">
                    <a:moveTo>
                      <a:pt x="39" y="50"/>
                    </a:moveTo>
                    <a:lnTo>
                      <a:pt x="42" y="0"/>
                    </a:lnTo>
                    <a:lnTo>
                      <a:pt x="0" y="27"/>
                    </a:lnTo>
                    <a:lnTo>
                      <a:pt x="39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5600" y="4156920"/>
                <a:ext cx="33912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060000" y="4169880"/>
                <a:ext cx="32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u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67200" y="4341240"/>
                <a:ext cx="32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324440" y="3280320"/>
                <a:ext cx="897120" cy="266760"/>
              </a:xfrm>
              <a:custGeom>
                <a:avLst/>
                <a:gdLst/>
                <a:ahLst/>
                <a:rect l="l" t="t" r="r" b="b"/>
                <a:pathLst>
                  <a:path w="587" h="184">
                    <a:moveTo>
                      <a:pt x="587" y="184"/>
                    </a:moveTo>
                    <a:lnTo>
                      <a:pt x="563" y="157"/>
                    </a:lnTo>
                    <a:lnTo>
                      <a:pt x="540" y="132"/>
                    </a:lnTo>
                    <a:lnTo>
                      <a:pt x="516" y="110"/>
                    </a:lnTo>
                    <a:lnTo>
                      <a:pt x="493" y="89"/>
                    </a:lnTo>
                    <a:lnTo>
                      <a:pt x="469" y="71"/>
                    </a:lnTo>
                    <a:lnTo>
                      <a:pt x="446" y="54"/>
                    </a:lnTo>
                    <a:lnTo>
                      <a:pt x="422" y="41"/>
                    </a:lnTo>
                    <a:lnTo>
                      <a:pt x="399" y="27"/>
                    </a:lnTo>
                    <a:lnTo>
                      <a:pt x="375" y="18"/>
                    </a:lnTo>
                    <a:lnTo>
                      <a:pt x="352" y="10"/>
                    </a:lnTo>
                    <a:lnTo>
                      <a:pt x="328" y="5"/>
                    </a:lnTo>
                    <a:lnTo>
                      <a:pt x="305" y="1"/>
                    </a:lnTo>
                    <a:lnTo>
                      <a:pt x="281" y="0"/>
                    </a:lnTo>
                    <a:lnTo>
                      <a:pt x="258" y="1"/>
                    </a:lnTo>
                    <a:lnTo>
                      <a:pt x="234" y="5"/>
                    </a:lnTo>
                    <a:lnTo>
                      <a:pt x="210" y="10"/>
                    </a:lnTo>
                    <a:lnTo>
                      <a:pt x="187" y="17"/>
                    </a:lnTo>
                    <a:lnTo>
                      <a:pt x="163" y="27"/>
                    </a:lnTo>
                    <a:lnTo>
                      <a:pt x="140" y="39"/>
                    </a:lnTo>
                    <a:lnTo>
                      <a:pt x="116" y="52"/>
                    </a:lnTo>
                    <a:lnTo>
                      <a:pt x="94" y="69"/>
                    </a:lnTo>
                    <a:lnTo>
                      <a:pt x="71" y="88"/>
                    </a:lnTo>
                    <a:lnTo>
                      <a:pt x="47" y="107"/>
                    </a:lnTo>
                    <a:lnTo>
                      <a:pt x="24" y="131"/>
                    </a:lnTo>
                    <a:lnTo>
                      <a:pt x="0" y="1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84840" y="3477960"/>
                <a:ext cx="70200" cy="69120"/>
              </a:xfrm>
              <a:custGeom>
                <a:avLst/>
                <a:gdLst/>
                <a:ahLst/>
                <a:rect l="l" t="t" r="r" b="b"/>
                <a:pathLst>
                  <a:path w="46" h="48">
                    <a:moveTo>
                      <a:pt x="13" y="0"/>
                    </a:moveTo>
                    <a:lnTo>
                      <a:pt x="0" y="48"/>
                    </a:lnTo>
                    <a:lnTo>
                      <a:pt x="46" y="3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498680" y="3183120"/>
                <a:ext cx="509040" cy="19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516680" y="3194640"/>
                <a:ext cx="524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def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521080" y="3316680"/>
                <a:ext cx="1040760" cy="230400"/>
              </a:xfrm>
              <a:custGeom>
                <a:avLst/>
                <a:gdLst/>
                <a:ahLst/>
                <a:rect l="l" t="t" r="r" b="b"/>
                <a:pathLst>
                  <a:path w="681" h="159">
                    <a:moveTo>
                      <a:pt x="0" y="159"/>
                    </a:moveTo>
                    <a:lnTo>
                      <a:pt x="29" y="135"/>
                    </a:lnTo>
                    <a:lnTo>
                      <a:pt x="56" y="112"/>
                    </a:lnTo>
                    <a:lnTo>
                      <a:pt x="85" y="93"/>
                    </a:lnTo>
                    <a:lnTo>
                      <a:pt x="114" y="74"/>
                    </a:lnTo>
                    <a:lnTo>
                      <a:pt x="141" y="57"/>
                    </a:lnTo>
                    <a:lnTo>
                      <a:pt x="170" y="43"/>
                    </a:lnTo>
                    <a:lnTo>
                      <a:pt x="199" y="31"/>
                    </a:lnTo>
                    <a:lnTo>
                      <a:pt x="228" y="21"/>
                    </a:lnTo>
                    <a:lnTo>
                      <a:pt x="255" y="13"/>
                    </a:lnTo>
                    <a:lnTo>
                      <a:pt x="284" y="6"/>
                    </a:lnTo>
                    <a:lnTo>
                      <a:pt x="313" y="2"/>
                    </a:lnTo>
                    <a:lnTo>
                      <a:pt x="340" y="0"/>
                    </a:lnTo>
                    <a:lnTo>
                      <a:pt x="369" y="0"/>
                    </a:lnTo>
                    <a:lnTo>
                      <a:pt x="398" y="2"/>
                    </a:lnTo>
                    <a:lnTo>
                      <a:pt x="426" y="6"/>
                    </a:lnTo>
                    <a:lnTo>
                      <a:pt x="454" y="13"/>
                    </a:lnTo>
                    <a:lnTo>
                      <a:pt x="483" y="21"/>
                    </a:lnTo>
                    <a:lnTo>
                      <a:pt x="511" y="31"/>
                    </a:lnTo>
                    <a:lnTo>
                      <a:pt x="539" y="43"/>
                    </a:lnTo>
                    <a:lnTo>
                      <a:pt x="568" y="57"/>
                    </a:lnTo>
                    <a:lnTo>
                      <a:pt x="596" y="73"/>
                    </a:lnTo>
                    <a:lnTo>
                      <a:pt x="625" y="91"/>
                    </a:lnTo>
                    <a:lnTo>
                      <a:pt x="652" y="112"/>
                    </a:lnTo>
                    <a:lnTo>
                      <a:pt x="681" y="13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534840" y="3481920"/>
                <a:ext cx="73440" cy="6516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29" y="0"/>
                    </a:moveTo>
                    <a:lnTo>
                      <a:pt x="48" y="45"/>
                    </a:lnTo>
                    <a:lnTo>
                      <a:pt x="0" y="34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808720" y="3219480"/>
                <a:ext cx="510480" cy="19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826360" y="3233880"/>
                <a:ext cx="524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def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15440" y="3913200"/>
                <a:ext cx="287280" cy="320400"/>
              </a:xfrm>
              <a:custGeom>
                <a:avLst/>
                <a:gdLst/>
                <a:ahLst/>
                <a:rect l="l" t="t" r="r" b="b"/>
                <a:pathLst>
                  <a:path w="188" h="221">
                    <a:moveTo>
                      <a:pt x="188" y="0"/>
                    </a:moveTo>
                    <a:lnTo>
                      <a:pt x="180" y="30"/>
                    </a:lnTo>
                    <a:lnTo>
                      <a:pt x="174" y="59"/>
                    </a:lnTo>
                    <a:lnTo>
                      <a:pt x="167" y="83"/>
                    </a:lnTo>
                    <a:lnTo>
                      <a:pt x="160" y="107"/>
                    </a:lnTo>
                    <a:lnTo>
                      <a:pt x="153" y="129"/>
                    </a:lnTo>
                    <a:lnTo>
                      <a:pt x="146" y="148"/>
                    </a:lnTo>
                    <a:lnTo>
                      <a:pt x="139" y="165"/>
                    </a:lnTo>
                    <a:lnTo>
                      <a:pt x="132" y="179"/>
                    </a:lnTo>
                    <a:lnTo>
                      <a:pt x="126" y="192"/>
                    </a:lnTo>
                    <a:lnTo>
                      <a:pt x="118" y="203"/>
                    </a:lnTo>
                    <a:lnTo>
                      <a:pt x="111" y="210"/>
                    </a:lnTo>
                    <a:lnTo>
                      <a:pt x="105" y="216"/>
                    </a:lnTo>
                    <a:lnTo>
                      <a:pt x="98" y="220"/>
                    </a:lnTo>
                    <a:lnTo>
                      <a:pt x="90" y="221"/>
                    </a:lnTo>
                    <a:lnTo>
                      <a:pt x="84" y="220"/>
                    </a:lnTo>
                    <a:lnTo>
                      <a:pt x="77" y="217"/>
                    </a:lnTo>
                    <a:lnTo>
                      <a:pt x="69" y="212"/>
                    </a:lnTo>
                    <a:lnTo>
                      <a:pt x="63" y="204"/>
                    </a:lnTo>
                    <a:lnTo>
                      <a:pt x="56" y="195"/>
                    </a:lnTo>
                    <a:lnTo>
                      <a:pt x="48" y="183"/>
                    </a:lnTo>
                    <a:lnTo>
                      <a:pt x="42" y="168"/>
                    </a:lnTo>
                    <a:lnTo>
                      <a:pt x="35" y="153"/>
                    </a:lnTo>
                    <a:lnTo>
                      <a:pt x="28" y="134"/>
                    </a:lnTo>
                    <a:lnTo>
                      <a:pt x="21" y="114"/>
                    </a:lnTo>
                    <a:lnTo>
                      <a:pt x="14" y="90"/>
                    </a:lnTo>
                    <a:lnTo>
                      <a:pt x="8" y="65"/>
                    </a:lnTo>
                    <a:lnTo>
                      <a:pt x="0" y="3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185200" y="3913200"/>
                <a:ext cx="66960" cy="6912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44" y="39"/>
                    </a:moveTo>
                    <a:lnTo>
                      <a:pt x="12" y="0"/>
                    </a:lnTo>
                    <a:lnTo>
                      <a:pt x="0" y="48"/>
                    </a:lnTo>
                    <a:lnTo>
                      <a:pt x="4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196720" y="4260240"/>
                <a:ext cx="32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u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016000" y="4432680"/>
                <a:ext cx="74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proced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78680" y="3913200"/>
                <a:ext cx="3334680" cy="1031760"/>
              </a:xfrm>
              <a:custGeom>
                <a:avLst/>
                <a:gdLst/>
                <a:ahLst/>
                <a:rect l="l" t="t" r="r" b="b"/>
                <a:pathLst>
                  <a:path w="2182" h="711">
                    <a:moveTo>
                      <a:pt x="2182" y="0"/>
                    </a:moveTo>
                    <a:lnTo>
                      <a:pt x="2136" y="57"/>
                    </a:lnTo>
                    <a:lnTo>
                      <a:pt x="2091" y="112"/>
                    </a:lnTo>
                    <a:lnTo>
                      <a:pt x="2045" y="165"/>
                    </a:lnTo>
                    <a:lnTo>
                      <a:pt x="2000" y="216"/>
                    </a:lnTo>
                    <a:lnTo>
                      <a:pt x="1955" y="263"/>
                    </a:lnTo>
                    <a:lnTo>
                      <a:pt x="1909" y="308"/>
                    </a:lnTo>
                    <a:lnTo>
                      <a:pt x="1863" y="352"/>
                    </a:lnTo>
                    <a:lnTo>
                      <a:pt x="1819" y="392"/>
                    </a:lnTo>
                    <a:lnTo>
                      <a:pt x="1773" y="430"/>
                    </a:lnTo>
                    <a:lnTo>
                      <a:pt x="1727" y="466"/>
                    </a:lnTo>
                    <a:lnTo>
                      <a:pt x="1681" y="500"/>
                    </a:lnTo>
                    <a:lnTo>
                      <a:pt x="1636" y="530"/>
                    </a:lnTo>
                    <a:lnTo>
                      <a:pt x="1591" y="558"/>
                    </a:lnTo>
                    <a:lnTo>
                      <a:pt x="1545" y="585"/>
                    </a:lnTo>
                    <a:lnTo>
                      <a:pt x="1500" y="608"/>
                    </a:lnTo>
                    <a:lnTo>
                      <a:pt x="1454" y="629"/>
                    </a:lnTo>
                    <a:lnTo>
                      <a:pt x="1409" y="647"/>
                    </a:lnTo>
                    <a:lnTo>
                      <a:pt x="1364" y="664"/>
                    </a:lnTo>
                    <a:lnTo>
                      <a:pt x="1318" y="677"/>
                    </a:lnTo>
                    <a:lnTo>
                      <a:pt x="1272" y="689"/>
                    </a:lnTo>
                    <a:lnTo>
                      <a:pt x="1228" y="698"/>
                    </a:lnTo>
                    <a:lnTo>
                      <a:pt x="1182" y="705"/>
                    </a:lnTo>
                    <a:lnTo>
                      <a:pt x="1136" y="710"/>
                    </a:lnTo>
                    <a:lnTo>
                      <a:pt x="1090" y="711"/>
                    </a:lnTo>
                    <a:lnTo>
                      <a:pt x="1045" y="710"/>
                    </a:lnTo>
                    <a:lnTo>
                      <a:pt x="1000" y="708"/>
                    </a:lnTo>
                    <a:lnTo>
                      <a:pt x="954" y="702"/>
                    </a:lnTo>
                    <a:lnTo>
                      <a:pt x="909" y="694"/>
                    </a:lnTo>
                    <a:lnTo>
                      <a:pt x="863" y="684"/>
                    </a:lnTo>
                    <a:lnTo>
                      <a:pt x="818" y="672"/>
                    </a:lnTo>
                    <a:lnTo>
                      <a:pt x="773" y="657"/>
                    </a:lnTo>
                    <a:lnTo>
                      <a:pt x="727" y="640"/>
                    </a:lnTo>
                    <a:lnTo>
                      <a:pt x="681" y="620"/>
                    </a:lnTo>
                    <a:lnTo>
                      <a:pt x="635" y="596"/>
                    </a:lnTo>
                    <a:lnTo>
                      <a:pt x="591" y="573"/>
                    </a:lnTo>
                    <a:lnTo>
                      <a:pt x="545" y="545"/>
                    </a:lnTo>
                    <a:lnTo>
                      <a:pt x="499" y="515"/>
                    </a:lnTo>
                    <a:lnTo>
                      <a:pt x="454" y="484"/>
                    </a:lnTo>
                    <a:lnTo>
                      <a:pt x="409" y="448"/>
                    </a:lnTo>
                    <a:lnTo>
                      <a:pt x="364" y="412"/>
                    </a:lnTo>
                    <a:lnTo>
                      <a:pt x="318" y="373"/>
                    </a:lnTo>
                    <a:lnTo>
                      <a:pt x="272" y="331"/>
                    </a:lnTo>
                    <a:lnTo>
                      <a:pt x="226" y="288"/>
                    </a:lnTo>
                    <a:lnTo>
                      <a:pt x="182" y="240"/>
                    </a:lnTo>
                    <a:lnTo>
                      <a:pt x="136" y="192"/>
                    </a:lnTo>
                    <a:lnTo>
                      <a:pt x="90" y="141"/>
                    </a:lnTo>
                    <a:lnTo>
                      <a:pt x="45" y="87"/>
                    </a:lnTo>
                    <a:lnTo>
                      <a:pt x="0" y="3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0880" y="3913200"/>
                <a:ext cx="70200" cy="69120"/>
              </a:xfrm>
              <a:custGeom>
                <a:avLst/>
                <a:gdLst/>
                <a:ahLst/>
                <a:rect l="l" t="t" r="r" b="b"/>
                <a:pathLst>
                  <a:path w="46" h="48">
                    <a:moveTo>
                      <a:pt x="46" y="22"/>
                    </a:moveTo>
                    <a:lnTo>
                      <a:pt x="0" y="0"/>
                    </a:lnTo>
                    <a:lnTo>
                      <a:pt x="11" y="48"/>
                    </a:lnTo>
                    <a:lnTo>
                      <a:pt x="4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093400" y="4849200"/>
                <a:ext cx="666000" cy="192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115360" y="4863600"/>
                <a:ext cx="678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uses 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4944960" y="1892160"/>
              <a:ext cx="3516120" cy="948960"/>
              <a:chOff x="4944960" y="1892160"/>
              <a:chExt cx="3516120" cy="948960"/>
            </a:xfrm>
          </p:grpSpPr>
          <p:sp>
            <p:nvSpPr>
              <p:cNvPr id="432" name=""/>
              <p:cNvSpPr/>
              <p:nvPr/>
            </p:nvSpPr>
            <p:spPr>
              <a:xfrm>
                <a:off x="4944960" y="2476800"/>
                <a:ext cx="916920" cy="36432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49080" y="2576880"/>
                <a:ext cx="524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Lucida Sans Unicode"/>
                  </a:rPr>
                  <a:t>Modul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414040" y="2077560"/>
                <a:ext cx="294840" cy="399240"/>
              </a:xfrm>
              <a:custGeom>
                <a:avLst/>
                <a:gdLst/>
                <a:ahLst/>
                <a:rect l="l" t="t" r="r" b="b"/>
                <a:pathLst>
                  <a:path w="193" h="275">
                    <a:moveTo>
                      <a:pt x="193" y="275"/>
                    </a:moveTo>
                    <a:lnTo>
                      <a:pt x="186" y="241"/>
                    </a:lnTo>
                    <a:lnTo>
                      <a:pt x="180" y="209"/>
                    </a:lnTo>
                    <a:lnTo>
                      <a:pt x="173" y="180"/>
                    </a:lnTo>
                    <a:lnTo>
                      <a:pt x="166" y="152"/>
                    </a:lnTo>
                    <a:lnTo>
                      <a:pt x="160" y="127"/>
                    </a:lnTo>
                    <a:lnTo>
                      <a:pt x="154" y="104"/>
                    </a:lnTo>
                    <a:lnTo>
                      <a:pt x="148" y="84"/>
                    </a:lnTo>
                    <a:lnTo>
                      <a:pt x="141" y="65"/>
                    </a:lnTo>
                    <a:lnTo>
                      <a:pt x="134" y="49"/>
                    </a:lnTo>
                    <a:lnTo>
                      <a:pt x="128" y="36"/>
                    </a:lnTo>
                    <a:lnTo>
                      <a:pt x="122" y="24"/>
                    </a:lnTo>
                    <a:lnTo>
                      <a:pt x="116" y="14"/>
                    </a:lnTo>
                    <a:lnTo>
                      <a:pt x="109" y="8"/>
                    </a:lnTo>
                    <a:lnTo>
                      <a:pt x="102" y="2"/>
                    </a:lnTo>
                    <a:lnTo>
                      <a:pt x="96" y="0"/>
                    </a:lnTo>
                    <a:lnTo>
                      <a:pt x="89" y="0"/>
                    </a:lnTo>
                    <a:lnTo>
                      <a:pt x="84" y="2"/>
                    </a:lnTo>
                    <a:lnTo>
                      <a:pt x="77" y="6"/>
                    </a:lnTo>
                    <a:lnTo>
                      <a:pt x="70" y="13"/>
                    </a:lnTo>
                    <a:lnTo>
                      <a:pt x="64" y="22"/>
                    </a:lnTo>
                    <a:lnTo>
                      <a:pt x="57" y="33"/>
                    </a:lnTo>
                    <a:lnTo>
                      <a:pt x="52" y="47"/>
                    </a:lnTo>
                    <a:lnTo>
                      <a:pt x="45" y="63"/>
                    </a:lnTo>
                    <a:lnTo>
                      <a:pt x="38" y="81"/>
                    </a:lnTo>
                    <a:lnTo>
                      <a:pt x="32" y="101"/>
                    </a:lnTo>
                    <a:lnTo>
                      <a:pt x="25" y="124"/>
                    </a:lnTo>
                    <a:lnTo>
                      <a:pt x="18" y="148"/>
                    </a:lnTo>
                    <a:lnTo>
                      <a:pt x="13" y="175"/>
                    </a:lnTo>
                    <a:lnTo>
                      <a:pt x="6" y="204"/>
                    </a:lnTo>
                    <a:lnTo>
                      <a:pt x="0" y="23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380560" y="2407320"/>
                <a:ext cx="70200" cy="69480"/>
              </a:xfrm>
              <a:custGeom>
                <a:avLst/>
                <a:gdLst/>
                <a:ahLst/>
                <a:rect l="l" t="t" r="r" b="b"/>
                <a:pathLst>
                  <a:path w="46" h="48">
                    <a:moveTo>
                      <a:pt x="0" y="0"/>
                    </a:moveTo>
                    <a:lnTo>
                      <a:pt x="15" y="48"/>
                    </a:lnTo>
                    <a:lnTo>
                      <a:pt x="46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171040" y="1904760"/>
                <a:ext cx="858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depends-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544160" y="2459520"/>
                <a:ext cx="916920" cy="36432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21200" y="2559600"/>
                <a:ext cx="758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Lucida Sans Unicode"/>
                  </a:rPr>
                  <a:t>Subsyste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921280" y="2568600"/>
                <a:ext cx="1622880" cy="78120"/>
              </a:xfrm>
              <a:custGeom>
                <a:avLst/>
                <a:gdLst/>
                <a:ahLst/>
                <a:rect l="l" t="t" r="r" b="b"/>
                <a:pathLst>
                  <a:path w="1062" h="54">
                    <a:moveTo>
                      <a:pt x="1062" y="50"/>
                    </a:moveTo>
                    <a:lnTo>
                      <a:pt x="991" y="37"/>
                    </a:lnTo>
                    <a:lnTo>
                      <a:pt x="920" y="26"/>
                    </a:lnTo>
                    <a:lnTo>
                      <a:pt x="851" y="17"/>
                    </a:lnTo>
                    <a:lnTo>
                      <a:pt x="780" y="10"/>
                    </a:lnTo>
                    <a:lnTo>
                      <a:pt x="709" y="5"/>
                    </a:lnTo>
                    <a:lnTo>
                      <a:pt x="639" y="1"/>
                    </a:lnTo>
                    <a:lnTo>
                      <a:pt x="568" y="0"/>
                    </a:lnTo>
                    <a:lnTo>
                      <a:pt x="497" y="0"/>
                    </a:lnTo>
                    <a:lnTo>
                      <a:pt x="427" y="2"/>
                    </a:lnTo>
                    <a:lnTo>
                      <a:pt x="356" y="6"/>
                    </a:lnTo>
                    <a:lnTo>
                      <a:pt x="285" y="12"/>
                    </a:lnTo>
                    <a:lnTo>
                      <a:pt x="213" y="20"/>
                    </a:lnTo>
                    <a:lnTo>
                      <a:pt x="143" y="29"/>
                    </a:lnTo>
                    <a:lnTo>
                      <a:pt x="70" y="41"/>
                    </a:lnTo>
                    <a:lnTo>
                      <a:pt x="0" y="5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861880" y="2614680"/>
                <a:ext cx="73080" cy="63720"/>
              </a:xfrm>
              <a:custGeom>
                <a:avLst/>
                <a:gdLst/>
                <a:ahLst/>
                <a:rect l="l" t="t" r="r" b="b"/>
                <a:pathLst>
                  <a:path w="48" h="44">
                    <a:moveTo>
                      <a:pt x="39" y="0"/>
                    </a:moveTo>
                    <a:lnTo>
                      <a:pt x="0" y="30"/>
                    </a:lnTo>
                    <a:lnTo>
                      <a:pt x="48" y="4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434640" y="2478240"/>
                <a:ext cx="542520" cy="17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455160" y="2491560"/>
                <a:ext cx="608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contai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013600" y="2060280"/>
                <a:ext cx="294840" cy="399240"/>
              </a:xfrm>
              <a:custGeom>
                <a:avLst/>
                <a:gdLst/>
                <a:ahLst/>
                <a:rect l="l" t="t" r="r" b="b"/>
                <a:pathLst>
                  <a:path w="193" h="275">
                    <a:moveTo>
                      <a:pt x="193" y="275"/>
                    </a:moveTo>
                    <a:lnTo>
                      <a:pt x="186" y="240"/>
                    </a:lnTo>
                    <a:lnTo>
                      <a:pt x="180" y="208"/>
                    </a:lnTo>
                    <a:lnTo>
                      <a:pt x="173" y="179"/>
                    </a:lnTo>
                    <a:lnTo>
                      <a:pt x="166" y="152"/>
                    </a:lnTo>
                    <a:lnTo>
                      <a:pt x="160" y="127"/>
                    </a:lnTo>
                    <a:lnTo>
                      <a:pt x="154" y="104"/>
                    </a:lnTo>
                    <a:lnTo>
                      <a:pt x="148" y="83"/>
                    </a:lnTo>
                    <a:lnTo>
                      <a:pt x="141" y="65"/>
                    </a:lnTo>
                    <a:lnTo>
                      <a:pt x="134" y="48"/>
                    </a:lnTo>
                    <a:lnTo>
                      <a:pt x="128" y="34"/>
                    </a:lnTo>
                    <a:lnTo>
                      <a:pt x="122" y="24"/>
                    </a:lnTo>
                    <a:lnTo>
                      <a:pt x="116" y="14"/>
                    </a:lnTo>
                    <a:lnTo>
                      <a:pt x="109" y="6"/>
                    </a:lnTo>
                    <a:lnTo>
                      <a:pt x="102" y="2"/>
                    </a:lnTo>
                    <a:lnTo>
                      <a:pt x="96" y="0"/>
                    </a:lnTo>
                    <a:lnTo>
                      <a:pt x="89" y="0"/>
                    </a:lnTo>
                    <a:lnTo>
                      <a:pt x="84" y="1"/>
                    </a:lnTo>
                    <a:lnTo>
                      <a:pt x="77" y="6"/>
                    </a:lnTo>
                    <a:lnTo>
                      <a:pt x="70" y="13"/>
                    </a:lnTo>
                    <a:lnTo>
                      <a:pt x="64" y="21"/>
                    </a:lnTo>
                    <a:lnTo>
                      <a:pt x="57" y="33"/>
                    </a:lnTo>
                    <a:lnTo>
                      <a:pt x="52" y="46"/>
                    </a:lnTo>
                    <a:lnTo>
                      <a:pt x="45" y="63"/>
                    </a:lnTo>
                    <a:lnTo>
                      <a:pt x="38" y="80"/>
                    </a:lnTo>
                    <a:lnTo>
                      <a:pt x="32" y="100"/>
                    </a:lnTo>
                    <a:lnTo>
                      <a:pt x="25" y="123"/>
                    </a:lnTo>
                    <a:lnTo>
                      <a:pt x="18" y="148"/>
                    </a:lnTo>
                    <a:lnTo>
                      <a:pt x="13" y="175"/>
                    </a:lnTo>
                    <a:lnTo>
                      <a:pt x="6" y="204"/>
                    </a:lnTo>
                    <a:lnTo>
                      <a:pt x="0" y="23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979760" y="2386800"/>
                <a:ext cx="69840" cy="72720"/>
              </a:xfrm>
              <a:custGeom>
                <a:avLst/>
                <a:gdLst/>
                <a:ahLst/>
                <a:rect l="l" t="t" r="r" b="b"/>
                <a:pathLst>
                  <a:path w="46" h="50">
                    <a:moveTo>
                      <a:pt x="0" y="0"/>
                    </a:moveTo>
                    <a:lnTo>
                      <a:pt x="15" y="50"/>
                    </a:lnTo>
                    <a:lnTo>
                      <a:pt x="4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74480" y="1892160"/>
                <a:ext cx="608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contai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288120" y="3911760"/>
              <a:ext cx="947520" cy="931320"/>
              <a:chOff x="6288120" y="3911760"/>
              <a:chExt cx="947520" cy="931320"/>
            </a:xfrm>
          </p:grpSpPr>
          <p:sp>
            <p:nvSpPr>
              <p:cNvPr id="447" name=""/>
              <p:cNvSpPr/>
              <p:nvPr/>
            </p:nvSpPr>
            <p:spPr>
              <a:xfrm>
                <a:off x="6288120" y="4479120"/>
                <a:ext cx="917280" cy="3639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469200" y="4582440"/>
                <a:ext cx="578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Lucida Sans Unicode"/>
                  </a:rPr>
                  <a:t>$ENT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757200" y="4080240"/>
                <a:ext cx="294840" cy="398880"/>
              </a:xfrm>
              <a:custGeom>
                <a:avLst/>
                <a:gdLst/>
                <a:ahLst/>
                <a:rect l="l" t="t" r="r" b="b"/>
                <a:pathLst>
                  <a:path w="193" h="275">
                    <a:moveTo>
                      <a:pt x="193" y="275"/>
                    </a:moveTo>
                    <a:lnTo>
                      <a:pt x="186" y="240"/>
                    </a:lnTo>
                    <a:lnTo>
                      <a:pt x="180" y="208"/>
                    </a:lnTo>
                    <a:lnTo>
                      <a:pt x="173" y="179"/>
                    </a:lnTo>
                    <a:lnTo>
                      <a:pt x="166" y="152"/>
                    </a:lnTo>
                    <a:lnTo>
                      <a:pt x="160" y="127"/>
                    </a:lnTo>
                    <a:lnTo>
                      <a:pt x="154" y="104"/>
                    </a:lnTo>
                    <a:lnTo>
                      <a:pt x="148" y="83"/>
                    </a:lnTo>
                    <a:lnTo>
                      <a:pt x="141" y="65"/>
                    </a:lnTo>
                    <a:lnTo>
                      <a:pt x="134" y="48"/>
                    </a:lnTo>
                    <a:lnTo>
                      <a:pt x="128" y="34"/>
                    </a:lnTo>
                    <a:lnTo>
                      <a:pt x="122" y="24"/>
                    </a:lnTo>
                    <a:lnTo>
                      <a:pt x="116" y="14"/>
                    </a:lnTo>
                    <a:lnTo>
                      <a:pt x="109" y="6"/>
                    </a:lnTo>
                    <a:lnTo>
                      <a:pt x="102" y="2"/>
                    </a:lnTo>
                    <a:lnTo>
                      <a:pt x="96" y="0"/>
                    </a:lnTo>
                    <a:lnTo>
                      <a:pt x="89" y="0"/>
                    </a:lnTo>
                    <a:lnTo>
                      <a:pt x="84" y="1"/>
                    </a:lnTo>
                    <a:lnTo>
                      <a:pt x="77" y="6"/>
                    </a:lnTo>
                    <a:lnTo>
                      <a:pt x="70" y="13"/>
                    </a:lnTo>
                    <a:lnTo>
                      <a:pt x="64" y="21"/>
                    </a:lnTo>
                    <a:lnTo>
                      <a:pt x="57" y="33"/>
                    </a:lnTo>
                    <a:lnTo>
                      <a:pt x="52" y="46"/>
                    </a:lnTo>
                    <a:lnTo>
                      <a:pt x="45" y="63"/>
                    </a:lnTo>
                    <a:lnTo>
                      <a:pt x="38" y="80"/>
                    </a:lnTo>
                    <a:lnTo>
                      <a:pt x="32" y="100"/>
                    </a:lnTo>
                    <a:lnTo>
                      <a:pt x="25" y="123"/>
                    </a:lnTo>
                    <a:lnTo>
                      <a:pt x="18" y="148"/>
                    </a:lnTo>
                    <a:lnTo>
                      <a:pt x="13" y="175"/>
                    </a:lnTo>
                    <a:lnTo>
                      <a:pt x="6" y="204"/>
                    </a:lnTo>
                    <a:lnTo>
                      <a:pt x="0" y="23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723720" y="4406400"/>
                <a:ext cx="70200" cy="72720"/>
              </a:xfrm>
              <a:custGeom>
                <a:avLst/>
                <a:gdLst/>
                <a:ahLst/>
                <a:rect l="l" t="t" r="r" b="b"/>
                <a:pathLst>
                  <a:path w="46" h="50">
                    <a:moveTo>
                      <a:pt x="0" y="0"/>
                    </a:moveTo>
                    <a:lnTo>
                      <a:pt x="15" y="50"/>
                    </a:lnTo>
                    <a:lnTo>
                      <a:pt x="4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419520" y="3911760"/>
                <a:ext cx="816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$REL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 rot="20599800">
              <a:off x="3913200" y="2657160"/>
              <a:ext cx="880920" cy="627120"/>
            </a:xfrm>
            <a:prstGeom prst="rightArrow">
              <a:avLst>
                <a:gd name="adj1" fmla="val 50000"/>
                <a:gd name="adj2" fmla="val 3511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99000" y="4051440"/>
              <a:ext cx="126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Lucida Sans Unicode"/>
                </a:rPr>
                <a:t>universal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Lucida Sans Unicode"/>
                </a:rPr>
                <a:t>sche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33680" y="1752480"/>
              <a:ext cx="134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Lucida Sans Unicode"/>
                </a:rPr>
                <a:t>high-level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Lucida Sans Unicode"/>
                </a:rPr>
                <a:t>sche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34920" y="4260960"/>
              <a:ext cx="229464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Lucida Sans Unicode"/>
                </a:rPr>
                <a:t>procedu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Lucida Sans Unicode"/>
                </a:rPr>
                <a:t>language sche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437160" y="2940120"/>
              <a:ext cx="660600" cy="834840"/>
            </a:xfrm>
            <a:prstGeom prst="downArrow">
              <a:avLst>
                <a:gd name="adj1" fmla="val 50000"/>
                <a:gd name="adj2" fmla="val 315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FCA-730F-48D6-A2FB-CE952E35E9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Graph Exchange Language (GXL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J. Ebert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R. C. Holt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B. Kullbach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A. Schürr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A. Wint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ML exchange format for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graph-like structur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ased on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TA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nd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TGraph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metamodel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for defining schema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athene_trans" descr=""/>
          <p:cNvPicPr/>
          <p:nvPr/>
        </p:nvPicPr>
        <p:blipFill>
          <a:blip r:embed="rId1"/>
          <a:stretch/>
        </p:blipFill>
        <p:spPr>
          <a:xfrm>
            <a:off x="7010280" y="1219320"/>
            <a:ext cx="1295640" cy="1274760"/>
          </a:xfrm>
          <a:prstGeom prst="rect">
            <a:avLst/>
          </a:prstGeom>
          <a:ln w="0">
            <a:noFill/>
          </a:ln>
        </p:spPr>
      </p:pic>
      <p:pic>
        <p:nvPicPr>
          <p:cNvPr id="460" name="ist_grue" descr=""/>
          <p:cNvPicPr/>
          <p:nvPr/>
        </p:nvPicPr>
        <p:blipFill>
          <a:blip r:embed="rId2"/>
          <a:stretch/>
        </p:blipFill>
        <p:spPr>
          <a:xfrm>
            <a:off x="3809880" y="1387440"/>
            <a:ext cx="1447920" cy="939960"/>
          </a:xfrm>
          <a:prstGeom prst="rect">
            <a:avLst/>
          </a:prstGeom>
          <a:ln w="0">
            <a:noFill/>
          </a:ln>
        </p:spPr>
      </p:pic>
      <p:pic>
        <p:nvPicPr>
          <p:cNvPr id="461" name="waterloo" descr=""/>
          <p:cNvPicPr/>
          <p:nvPr/>
        </p:nvPicPr>
        <p:blipFill>
          <a:blip r:embed="rId3"/>
          <a:stretch/>
        </p:blipFill>
        <p:spPr>
          <a:xfrm>
            <a:off x="5410080" y="1359000"/>
            <a:ext cx="1447920" cy="9968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3200400" y="3002040"/>
            <a:ext cx="5257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joint graph exchange format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GraX, TA, PROGRES, RSF, RP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F2A-FC00-495C-A29B-058C17921E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GXL - Structure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"/>
          <p:cNvSpPr/>
          <p:nvPr/>
        </p:nvSpPr>
        <p:spPr>
          <a:xfrm>
            <a:off x="676440" y="1300320"/>
            <a:ext cx="2815920" cy="34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oftware systems are represent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ordere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directe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attribute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type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7760" y="55213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S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graphFine" descr=""/>
          <p:cNvPicPr/>
          <p:nvPr/>
        </p:nvPicPr>
        <p:blipFill>
          <a:blip r:embed="rId1"/>
          <a:stretch/>
        </p:blipFill>
        <p:spPr>
          <a:xfrm>
            <a:off x="3687840" y="1192320"/>
            <a:ext cx="4744800" cy="48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5A80-E38C-4279-8B0B-921DD87170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GXL - Structure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"/>
          <p:cNvSpPr/>
          <p:nvPr/>
        </p:nvSpPr>
        <p:spPr>
          <a:xfrm>
            <a:off x="676440" y="1300320"/>
            <a:ext cx="2815920" cy="34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oftware systems are represent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ordere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directe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attribute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type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709920" y="1206360"/>
            <a:ext cx="7722720" cy="4861080"/>
            <a:chOff x="709920" y="1206360"/>
            <a:chExt cx="7722720" cy="4861080"/>
          </a:xfrm>
        </p:grpSpPr>
        <p:pic>
          <p:nvPicPr>
            <p:cNvPr id="470" name="makroGraph" descr=""/>
            <p:cNvPicPr/>
            <p:nvPr/>
          </p:nvPicPr>
          <p:blipFill>
            <a:blip r:embed="rId1"/>
            <a:stretch/>
          </p:blipFill>
          <p:spPr>
            <a:xfrm>
              <a:off x="3484440" y="1206360"/>
              <a:ext cx="4948200" cy="48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709920" y="5521320"/>
              <a:ext cx="28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architectural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6739-EFB5-4B84-842C-EA336A2BF6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GXL - Foundation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Instanc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cuses on arbitrary graph-like structu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n AST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n architectural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XML docu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hema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chemata explicitly represen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XML docu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6E0A-3033-49B0-AF96-B23139C702C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GXL - Document Type Definition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change of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instance and schema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data by attributed graph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ML based markup language for representing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attributed graph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817640" y="1219320"/>
            <a:ext cx="6640560" cy="4802400"/>
            <a:chOff x="1817640" y="1219320"/>
            <a:chExt cx="6640560" cy="4802400"/>
          </a:xfrm>
        </p:grpSpPr>
        <p:sp>
          <p:nvSpPr>
            <p:cNvPr id="477" name=""/>
            <p:cNvSpPr/>
            <p:nvPr/>
          </p:nvSpPr>
          <p:spPr>
            <a:xfrm>
              <a:off x="1817640" y="5622840"/>
              <a:ext cx="26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 Unicode"/>
                </a:rPr>
                <a:t>GXL DTD (simplifi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95680" y="1219320"/>
              <a:ext cx="3962520" cy="4800600"/>
            </a:xfrm>
            <a:prstGeom prst="foldedCorner">
              <a:avLst>
                <a:gd name="adj" fmla="val 653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!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L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gxl (node | edge)*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!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TTLIS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gx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schema     CDATA   #REQU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dentifiededges (true|fals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#REQUIRED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!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L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node (attr)*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!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TTLIS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no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d         ID      #REQU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ype       CDATA   #IMPLI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georder  IDREFS  #IMPLIED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!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L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edge (attr)*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!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TTLIS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e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d         ID      #IMPLI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ype       CDATA   #IMPLI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begin      IDREF   #REQU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       IDREF   #REQUIRED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!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L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attr EMPTY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!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TTLIS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at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ame       CDATA   #REQU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value      CDATA   #IMPLIED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2FE-35B6-476E-98F4-E14EBCB332A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GXL Example (1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25320" y="1295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nstanc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67440" y="2438280"/>
            <a:ext cx="3652560" cy="2590920"/>
            <a:chOff x="667440" y="2438280"/>
            <a:chExt cx="3652560" cy="2590920"/>
          </a:xfrm>
        </p:grpSpPr>
        <p:grpSp>
          <p:nvGrpSpPr>
            <p:cNvPr id="482" name=""/>
            <p:cNvGrpSpPr/>
            <p:nvPr/>
          </p:nvGrpSpPr>
          <p:grpSpPr>
            <a:xfrm>
              <a:off x="716040" y="2770200"/>
              <a:ext cx="1238040" cy="665280"/>
              <a:chOff x="716040" y="2770200"/>
              <a:chExt cx="1238040" cy="665280"/>
            </a:xfrm>
          </p:grpSpPr>
          <p:sp>
            <p:nvSpPr>
              <p:cNvPr id="483" name=""/>
              <p:cNvSpPr/>
              <p:nvPr/>
            </p:nvSpPr>
            <p:spPr>
              <a:xfrm>
                <a:off x="716040" y="2770200"/>
                <a:ext cx="1238040" cy="665280"/>
              </a:xfrm>
              <a:prstGeom prst="roundRect">
                <a:avLst>
                  <a:gd name="adj" fmla="val 13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16040" y="3035880"/>
                <a:ext cx="1238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90720" y="2770200"/>
                <a:ext cx="0" cy="26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667440" y="3103560"/>
              <a:ext cx="136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File = "main.c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0960" y="27702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51480" y="277020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Pro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716040" y="4365720"/>
              <a:ext cx="1239840" cy="663480"/>
              <a:chOff x="716040" y="4365720"/>
              <a:chExt cx="1239840" cy="663480"/>
            </a:xfrm>
          </p:grpSpPr>
          <p:sp>
            <p:nvSpPr>
              <p:cNvPr id="490" name=""/>
              <p:cNvSpPr/>
              <p:nvPr/>
            </p:nvSpPr>
            <p:spPr>
              <a:xfrm>
                <a:off x="716040" y="4365720"/>
                <a:ext cx="1239840" cy="663480"/>
              </a:xfrm>
              <a:prstGeom prst="roundRect">
                <a:avLst>
                  <a:gd name="adj" fmla="val 13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16040" y="4630680"/>
                <a:ext cx="123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991080" y="4365720"/>
                <a:ext cx="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736200" y="4697280"/>
              <a:ext cx="102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Line = 12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8280" y="43689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55080" y="436896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V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3057480" y="4365720"/>
              <a:ext cx="1238400" cy="663480"/>
              <a:chOff x="3057480" y="4365720"/>
              <a:chExt cx="1238400" cy="663480"/>
            </a:xfrm>
          </p:grpSpPr>
          <p:sp>
            <p:nvSpPr>
              <p:cNvPr id="497" name=""/>
              <p:cNvSpPr/>
              <p:nvPr/>
            </p:nvSpPr>
            <p:spPr>
              <a:xfrm>
                <a:off x="3057480" y="4365720"/>
                <a:ext cx="1238400" cy="663480"/>
              </a:xfrm>
              <a:prstGeom prst="roundRect">
                <a:avLst>
                  <a:gd name="adj" fmla="val 13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57480" y="4630680"/>
                <a:ext cx="123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332160" y="4365720"/>
                <a:ext cx="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3072240" y="469728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Line = 2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048120" y="4368960"/>
              <a:ext cx="3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96520" y="436896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V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057480" y="2770200"/>
              <a:ext cx="1238400" cy="665280"/>
              <a:chOff x="3057480" y="2770200"/>
              <a:chExt cx="1238400" cy="665280"/>
            </a:xfrm>
          </p:grpSpPr>
          <p:sp>
            <p:nvSpPr>
              <p:cNvPr id="504" name=""/>
              <p:cNvSpPr/>
              <p:nvPr/>
            </p:nvSpPr>
            <p:spPr>
              <a:xfrm>
                <a:off x="3057480" y="2770200"/>
                <a:ext cx="1238400" cy="665280"/>
              </a:xfrm>
              <a:prstGeom prst="roundRect">
                <a:avLst>
                  <a:gd name="adj" fmla="val 13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057480" y="3035880"/>
                <a:ext cx="123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332160" y="2770200"/>
                <a:ext cx="0" cy="26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3067920" y="3103560"/>
              <a:ext cx="125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File = "test.c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49560" y="27702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92920" y="277020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Pro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483" idx="3"/>
              <a:endCxn id="504" idx="1"/>
            </p:cNvCxnSpPr>
            <p:nvPr/>
          </p:nvCxnSpPr>
          <p:spPr>
            <a:xfrm>
              <a:off x="1953720" y="3103200"/>
              <a:ext cx="1104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483" idx="2"/>
              <a:endCxn id="490" idx="0"/>
            </p:cNvCxnSpPr>
            <p:nvPr/>
          </p:nvCxnSpPr>
          <p:spPr>
            <a:xfrm>
              <a:off x="1335240" y="3435480"/>
              <a:ext cx="2160" cy="930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2" name=""/>
            <p:cNvCxnSpPr>
              <a:stCxn id="504" idx="2"/>
              <a:endCxn id="497" idx="0"/>
            </p:cNvCxnSpPr>
            <p:nvPr/>
          </p:nvCxnSpPr>
          <p:spPr>
            <a:xfrm>
              <a:off x="3676320" y="3435480"/>
              <a:ext cx="1080" cy="930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062080" y="2438280"/>
              <a:ext cx="895320" cy="33336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59560" y="247320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Line = 4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2550600" y="3895560"/>
              <a:ext cx="983880" cy="331920"/>
              <a:chOff x="2550600" y="3895560"/>
              <a:chExt cx="983880" cy="331920"/>
            </a:xfrm>
          </p:grpSpPr>
          <p:sp>
            <p:nvSpPr>
              <p:cNvPr id="516" name=""/>
              <p:cNvSpPr/>
              <p:nvPr/>
            </p:nvSpPr>
            <p:spPr>
              <a:xfrm>
                <a:off x="2557440" y="3895560"/>
                <a:ext cx="971280" cy="33192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550600" y="3909960"/>
                <a:ext cx="98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Line =3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 flipH="1">
              <a:off x="2338200" y="2770200"/>
              <a:ext cx="20628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38440" y="4065480"/>
              <a:ext cx="13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477800" y="3567240"/>
              <a:ext cx="1008360" cy="33336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58360" y="3600360"/>
              <a:ext cx="102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Line = 2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331640" y="37339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83080" y="3768840"/>
              <a:ext cx="47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Re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74120" y="3138480"/>
              <a:ext cx="5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04400" y="3768840"/>
              <a:ext cx="47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Re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560760" y="1219320"/>
            <a:ext cx="6089760" cy="4800600"/>
            <a:chOff x="3560760" y="1219320"/>
            <a:chExt cx="6089760" cy="4800600"/>
          </a:xfrm>
        </p:grpSpPr>
        <p:sp>
          <p:nvSpPr>
            <p:cNvPr id="527" name=""/>
            <p:cNvSpPr/>
            <p:nvPr/>
          </p:nvSpPr>
          <p:spPr>
            <a:xfrm>
              <a:off x="4495680" y="1219320"/>
              <a:ext cx="3962520" cy="4800600"/>
            </a:xfrm>
            <a:prstGeom prst="foldedCorner">
              <a:avLst>
                <a:gd name="adj" fmla="val 653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60760" y="1249200"/>
              <a:ext cx="6089760" cy="47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gxl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od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id="P" type="Proc"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ttr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name="File" value="main.c" /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/nod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od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id="Q" type="Proc"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ttr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name="File" value="test.c" /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/nod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od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id="v" type="Var"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ttr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name="Line" value="127" /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/nod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od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id="w" type="Var"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ttr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name="Line" value="27" /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/nod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dg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begin="P" end="Q" type="Call"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ttr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name="Line" value="42" /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/edg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dg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begin="P" end="v" type="Ref"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ttr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name="Line" value="225" /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/edg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dg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begin="Q" end="w" type="Ref"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ttr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name="Line" value="316" /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/edg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/gxl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380880" y="1371600"/>
            <a:ext cx="8305920" cy="2286000"/>
            <a:chOff x="380880" y="1371600"/>
            <a:chExt cx="8305920" cy="2286000"/>
          </a:xfrm>
        </p:grpSpPr>
        <p:sp>
          <p:nvSpPr>
            <p:cNvPr id="530" name=""/>
            <p:cNvSpPr/>
            <p:nvPr/>
          </p:nvSpPr>
          <p:spPr>
            <a:xfrm>
              <a:off x="380880" y="2514600"/>
              <a:ext cx="1905120" cy="1143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91120" y="1371600"/>
              <a:ext cx="4495680" cy="838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2438280" y="3352680"/>
            <a:ext cx="6248520" cy="2438640"/>
            <a:chOff x="2438280" y="3352680"/>
            <a:chExt cx="6248520" cy="2438640"/>
          </a:xfrm>
        </p:grpSpPr>
        <p:sp>
          <p:nvSpPr>
            <p:cNvPr id="533" name=""/>
            <p:cNvSpPr/>
            <p:nvPr/>
          </p:nvSpPr>
          <p:spPr>
            <a:xfrm>
              <a:off x="2438280" y="3352680"/>
              <a:ext cx="2210040" cy="10670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91120" y="4952880"/>
              <a:ext cx="4495680" cy="838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361-B423-4E68-97CE-3051D611811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ponents of Interchange Forma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ructur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ata Acce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etaschem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pproaches to Interchange Forma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Terms (efficient Annotated TERM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AXForm (TA eXchange FORMAT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aX / GXL (Graph eXchange Languag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nclusio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581280" y="3124080"/>
            <a:ext cx="1752840" cy="2819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9A77-A1F2-4760-AAAA-AD6036DC05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GXL - Example (2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42880" y="2160720"/>
            <a:ext cx="2323800" cy="3428280"/>
            <a:chOff x="542880" y="2160720"/>
            <a:chExt cx="2323800" cy="3428280"/>
          </a:xfrm>
        </p:grpSpPr>
        <p:grpSp>
          <p:nvGrpSpPr>
            <p:cNvPr id="537" name=""/>
            <p:cNvGrpSpPr/>
            <p:nvPr/>
          </p:nvGrpSpPr>
          <p:grpSpPr>
            <a:xfrm>
              <a:off x="1051200" y="2639520"/>
              <a:ext cx="1306800" cy="1032480"/>
              <a:chOff x="1051200" y="2639520"/>
              <a:chExt cx="1306800" cy="1032480"/>
            </a:xfrm>
          </p:grpSpPr>
          <p:sp>
            <p:nvSpPr>
              <p:cNvPr id="538" name=""/>
              <p:cNvSpPr/>
              <p:nvPr/>
            </p:nvSpPr>
            <p:spPr>
              <a:xfrm>
                <a:off x="1051200" y="2639520"/>
                <a:ext cx="1306800" cy="51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051200" y="3155760"/>
                <a:ext cx="1306800" cy="51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8800" y="271944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Pro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126800" y="3250800"/>
                <a:ext cx="122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Unicode"/>
                  </a:rPr>
                  <a:t>File : str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1051200" y="4557240"/>
              <a:ext cx="1307160" cy="1031760"/>
              <a:chOff x="1051200" y="4557240"/>
              <a:chExt cx="1307160" cy="1031760"/>
            </a:xfrm>
          </p:grpSpPr>
          <p:sp>
            <p:nvSpPr>
              <p:cNvPr id="543" name=""/>
              <p:cNvSpPr/>
              <p:nvPr/>
            </p:nvSpPr>
            <p:spPr>
              <a:xfrm>
                <a:off x="1051200" y="4557240"/>
                <a:ext cx="1307160" cy="515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051200" y="5073120"/>
                <a:ext cx="1307160" cy="515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80600" y="4638600"/>
                <a:ext cx="57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V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118880" y="516816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Unicode"/>
                  </a:rPr>
                  <a:t>Line : i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47" name=""/>
            <p:cNvCxnSpPr>
              <a:stCxn id="539" idx="2"/>
              <a:endCxn id="543" idx="0"/>
            </p:cNvCxnSpPr>
            <p:nvPr/>
          </p:nvCxnSpPr>
          <p:spPr>
            <a:xfrm>
              <a:off x="1704600" y="3672360"/>
              <a:ext cx="1080" cy="885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8" name=""/>
            <p:cNvCxnSpPr>
              <a:stCxn id="538" idx="3"/>
              <a:endCxn id="538" idx="0"/>
            </p:cNvCxnSpPr>
            <p:nvPr/>
          </p:nvCxnSpPr>
          <p:spPr>
            <a:xfrm flipH="1" flipV="1">
              <a:off x="1704240" y="2639160"/>
              <a:ext cx="654120" cy="258480"/>
            </a:xfrm>
            <a:prstGeom prst="bentConnector4">
              <a:avLst>
                <a:gd name="adj1" fmla="val -68502"/>
                <a:gd name="adj2" fmla="val 2740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9" name=""/>
            <p:cNvSpPr/>
            <p:nvPr/>
          </p:nvSpPr>
          <p:spPr>
            <a:xfrm>
              <a:off x="1190520" y="396720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Re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15080" y="227088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C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1922760" y="3967200"/>
              <a:ext cx="943920" cy="368640"/>
              <a:chOff x="1922760" y="3967200"/>
              <a:chExt cx="943920" cy="368640"/>
            </a:xfrm>
          </p:grpSpPr>
          <p:sp>
            <p:nvSpPr>
              <p:cNvPr id="552" name=""/>
              <p:cNvSpPr/>
              <p:nvPr/>
            </p:nvSpPr>
            <p:spPr>
              <a:xfrm>
                <a:off x="1922760" y="3967200"/>
                <a:ext cx="943920" cy="36864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955160" y="4003920"/>
                <a:ext cx="88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Line : i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542880" y="2160720"/>
              <a:ext cx="943920" cy="368280"/>
              <a:chOff x="542880" y="2160720"/>
              <a:chExt cx="943920" cy="368280"/>
            </a:xfrm>
          </p:grpSpPr>
          <p:sp>
            <p:nvSpPr>
              <p:cNvPr id="555" name=""/>
              <p:cNvSpPr/>
              <p:nvPr/>
            </p:nvSpPr>
            <p:spPr>
              <a:xfrm>
                <a:off x="542880" y="2160720"/>
                <a:ext cx="943920" cy="36828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79960" y="2197440"/>
                <a:ext cx="88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Line : i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1486800" y="234468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04960" y="414216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691560" y="13320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chema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schemaGraph" descr=""/>
          <p:cNvPicPr/>
          <p:nvPr/>
        </p:nvPicPr>
        <p:blipFill>
          <a:blip r:embed="rId1"/>
          <a:stretch/>
        </p:blipFill>
        <p:spPr>
          <a:xfrm>
            <a:off x="3384720" y="2044800"/>
            <a:ext cx="5225760" cy="3903480"/>
          </a:xfrm>
          <a:prstGeom prst="rect">
            <a:avLst/>
          </a:prstGeom>
          <a:ln w="0">
            <a:noFill/>
          </a:ln>
        </p:spPr>
      </p:pic>
      <p:grpSp>
        <p:nvGrpSpPr>
          <p:cNvPr id="561" name=""/>
          <p:cNvGrpSpPr/>
          <p:nvPr/>
        </p:nvGrpSpPr>
        <p:grpSpPr>
          <a:xfrm>
            <a:off x="914400" y="1828800"/>
            <a:ext cx="5791320" cy="1371600"/>
            <a:chOff x="914400" y="1828800"/>
            <a:chExt cx="5791320" cy="1371600"/>
          </a:xfrm>
        </p:grpSpPr>
        <p:sp>
          <p:nvSpPr>
            <p:cNvPr id="562" name=""/>
            <p:cNvSpPr/>
            <p:nvPr/>
          </p:nvSpPr>
          <p:spPr>
            <a:xfrm>
              <a:off x="914400" y="2590920"/>
              <a:ext cx="1600200" cy="609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57800" y="1828800"/>
              <a:ext cx="1447920" cy="1219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1219320" y="2514600"/>
            <a:ext cx="5486400" cy="3124080"/>
            <a:chOff x="1219320" y="2514600"/>
            <a:chExt cx="5486400" cy="3124080"/>
          </a:xfrm>
        </p:grpSpPr>
        <p:sp>
          <p:nvSpPr>
            <p:cNvPr id="565" name=""/>
            <p:cNvSpPr/>
            <p:nvPr/>
          </p:nvSpPr>
          <p:spPr>
            <a:xfrm>
              <a:off x="1219320" y="3429000"/>
              <a:ext cx="990360" cy="1447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57800" y="2514600"/>
              <a:ext cx="1447920" cy="3124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200400" y="1219320"/>
            <a:ext cx="5562720" cy="4800600"/>
            <a:chOff x="3200400" y="1219320"/>
            <a:chExt cx="5562720" cy="4800600"/>
          </a:xfrm>
        </p:grpSpPr>
        <p:sp>
          <p:nvSpPr>
            <p:cNvPr id="568" name=""/>
            <p:cNvSpPr/>
            <p:nvPr/>
          </p:nvSpPr>
          <p:spPr>
            <a:xfrm>
              <a:off x="3200400" y="1828800"/>
              <a:ext cx="5562720" cy="419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4495680" y="1219320"/>
              <a:ext cx="4033080" cy="4800600"/>
              <a:chOff x="4495680" y="1219320"/>
              <a:chExt cx="4033080" cy="4800600"/>
            </a:xfrm>
          </p:grpSpPr>
          <p:sp>
            <p:nvSpPr>
              <p:cNvPr id="570" name=""/>
              <p:cNvSpPr/>
              <p:nvPr/>
            </p:nvSpPr>
            <p:spPr>
              <a:xfrm>
                <a:off x="4495680" y="1219320"/>
                <a:ext cx="3962520" cy="4800600"/>
              </a:xfrm>
              <a:prstGeom prst="foldedCorner">
                <a:avLst>
                  <a:gd name="adj" fmla="val 6532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507560" y="1241280"/>
                <a:ext cx="4021200" cy="46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?xml version="1.0" ?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!DOCTYPE grax SYSTEM "gxl042.dtd"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gxl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schema = "meta.1.0.scx"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nod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id = "v1" type = "EntityType"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&lt;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ttr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name = "name" value = "Proc"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Courier New"/>
                  </a:rPr>
                  <a:t>/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/node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nod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id = "v2" type = "EntityType"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&lt;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ttr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name = "name" value = "Var"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/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nod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id = "v3" type = "RelationshipType"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attr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name = "name" value = "s"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/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/node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edg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id = "e1" type = "comesFrom"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begin = "v3" end = "v1"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/edge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edg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id = "e2" type = "goesTo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begin = "v3" end = "v2"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/edge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/gxl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2F8D-7B59-466A-9650-906672A76EC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GXL - Metaschema (1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3" name="metagraphonly" descr=""/>
          <p:cNvPicPr/>
          <p:nvPr/>
        </p:nvPicPr>
        <p:blipFill>
          <a:blip r:embed="rId1"/>
          <a:stretch/>
        </p:blipFill>
        <p:spPr>
          <a:xfrm>
            <a:off x="247680" y="1827360"/>
            <a:ext cx="8459640" cy="364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69C-761D-4302-A01A-B6423375723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GXL - Metaschema (2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"/>
          <p:cNvSpPr/>
          <p:nvPr/>
        </p:nvSpPr>
        <p:spPr>
          <a:xfrm>
            <a:off x="4875840" y="5608800"/>
            <a:ext cx="35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Lucida Sans Unicode"/>
              </a:rPr>
              <a:t>with attribut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meta" descr=""/>
          <p:cNvPicPr/>
          <p:nvPr/>
        </p:nvPicPr>
        <p:blipFill>
          <a:blip r:embed="rId1"/>
          <a:stretch/>
        </p:blipFill>
        <p:spPr>
          <a:xfrm>
            <a:off x="330120" y="1643040"/>
            <a:ext cx="8269200" cy="37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A20-086D-4FBB-ADAE-248B0F3DD1A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GXL - Data Access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GXL Tool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ars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arse GXL instance and schema dat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lt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ransfer GXL documents in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A, TGraphs, PROGRES, RSF, RPA, .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ransfer TA, TGraphs, PROGRES, RSF, RPA, ..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to GXL docu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eck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heck if instance matches ist schem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elp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cover schema inform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8D14-5C67-4E53-8336-C9F443F8E9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Comparison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219320" y="1447920"/>
            <a:ext cx="7010280" cy="4646520"/>
            <a:chOff x="1219320" y="1447920"/>
            <a:chExt cx="7010280" cy="4646520"/>
          </a:xfrm>
        </p:grpSpPr>
        <p:graphicFrame>
          <p:nvGraphicFramePr>
            <p:cNvPr id="581" name=""/>
            <p:cNvGraphicFramePr/>
            <p:nvPr/>
          </p:nvGraphicFramePr>
          <p:xfrm>
            <a:off x="1219320" y="1447920"/>
            <a:ext cx="7010280" cy="46465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1447920"/>
                      <a:ext cx="7010280" cy="464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3" name=""/>
            <p:cNvSpPr/>
            <p:nvPr/>
          </p:nvSpPr>
          <p:spPr>
            <a:xfrm flipV="1">
              <a:off x="1219320" y="2019240"/>
              <a:ext cx="0" cy="33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B306-D10B-46EE-8D36-F573B2E1075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199880"/>
            <a:ext cx="7848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gree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change of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schema and instance da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y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directed, attributed, typed graph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ith a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XML-langua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ased on a common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Metamod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85800" y="4697280"/>
            <a:ext cx="7772400" cy="1262160"/>
            <a:chOff x="685800" y="4697280"/>
            <a:chExt cx="7772400" cy="1262160"/>
          </a:xfrm>
        </p:grpSpPr>
        <p:sp>
          <p:nvSpPr>
            <p:cNvPr id="587" name=""/>
            <p:cNvSpPr/>
            <p:nvPr/>
          </p:nvSpPr>
          <p:spPr>
            <a:xfrm>
              <a:off x="685800" y="4746600"/>
              <a:ext cx="777240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Lucida Sans Unicode"/>
                </a:rPr>
                <a:t>Extens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13160" indent="-274320">
                <a:lnSpc>
                  <a:spcPct val="100000"/>
                </a:lnSpc>
                <a:buClr>
                  <a:srgbClr val="000000"/>
                </a:buClr>
                <a:buFont typeface="Lucida Sans Unicode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 Unicode"/>
                </a:rPr>
                <a:t>consideration of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Lucida Sans Unicode"/>
                </a:rPr>
                <a:t>hierarchical graphs</a:t>
              </a:r>
              <a:r>
                <a:rPr b="0" lang="en-US" sz="2400" spc="-1" strike="noStrike">
                  <a:solidFill>
                    <a:srgbClr val="000000"/>
                  </a:solidFill>
                  <a:latin typeface="Lucida Sans Unicode"/>
                </a:rPr>
                <a:t>, </a:t>
              </a:r>
              <a:r>
                <a:rPr b="0" lang="en-US" sz="2400" spc="-1" strike="noStrike">
                  <a:solidFill>
                    <a:srgbClr val="3333cc"/>
                  </a:solidFill>
                  <a:latin typeface="Lucida Sans Unicode"/>
                </a:rPr>
                <a:t>hypergraphs</a:t>
              </a:r>
              <a:r>
                <a:rPr b="0" lang="en-US" sz="2400" spc="-1" strike="noStrike">
                  <a:solidFill>
                    <a:srgbClr val="000000"/>
                  </a:solidFill>
                  <a:latin typeface="Lucida Sans Unicode"/>
                </a:rPr>
                <a:t>, and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Lucida Sans Unicode"/>
                </a:rPr>
                <a:t>graph transforma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8" name="constr18" descr=""/>
            <p:cNvPicPr/>
            <p:nvPr/>
          </p:nvPicPr>
          <p:blipFill>
            <a:blip r:embed="rId1"/>
            <a:stretch/>
          </p:blipFill>
          <p:spPr>
            <a:xfrm>
              <a:off x="7419960" y="4697280"/>
              <a:ext cx="971640" cy="94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9" name=""/>
          <p:cNvGrpSpPr/>
          <p:nvPr/>
        </p:nvGrpSpPr>
        <p:grpSpPr>
          <a:xfrm>
            <a:off x="685800" y="3127320"/>
            <a:ext cx="7772400" cy="1668600"/>
            <a:chOff x="685800" y="3127320"/>
            <a:chExt cx="7772400" cy="1668600"/>
          </a:xfrm>
        </p:grpSpPr>
        <p:sp>
          <p:nvSpPr>
            <p:cNvPr id="590" name=""/>
            <p:cNvSpPr/>
            <p:nvPr/>
          </p:nvSpPr>
          <p:spPr>
            <a:xfrm>
              <a:off x="685800" y="3127320"/>
              <a:ext cx="777240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Lucida Sans Unicode"/>
                </a:rPr>
                <a:t>Work to 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000000"/>
                </a:buClr>
                <a:buFont typeface="Lucida Sans Unicode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 Unicode"/>
                </a:rPr>
                <a:t>definition of a suitable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Lucida Sans Unicode"/>
                </a:rPr>
                <a:t>A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000000"/>
                </a:buClr>
                <a:buFont typeface="Lucida Sans Unicode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 Unicode"/>
                </a:rPr>
                <a:t>definition of a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Lucida Sans Unicode"/>
                </a:rPr>
                <a:t>set of 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000000"/>
                </a:buClr>
                <a:buFont typeface="Lucida Sans Unicode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 Unicode"/>
                </a:rPr>
                <a:t>definition of powerful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Lucida Sans Unicode"/>
                </a:rPr>
                <a:t>schema trans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1" name="constr18" descr=""/>
            <p:cNvPicPr/>
            <p:nvPr/>
          </p:nvPicPr>
          <p:blipFill>
            <a:blip r:embed="rId2"/>
            <a:stretch/>
          </p:blipFill>
          <p:spPr>
            <a:xfrm>
              <a:off x="7419960" y="3352680"/>
              <a:ext cx="971640" cy="9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2" name=""/>
          <p:cNvSpPr/>
          <p:nvPr/>
        </p:nvSpPr>
        <p:spPr>
          <a:xfrm>
            <a:off x="7291800" y="172080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constr18" descr=""/>
          <p:cNvPicPr/>
          <p:nvPr/>
        </p:nvPicPr>
        <p:blipFill>
          <a:blip r:embed="rId3"/>
          <a:stretch/>
        </p:blipFill>
        <p:spPr>
          <a:xfrm>
            <a:off x="6324480" y="2819520"/>
            <a:ext cx="457200" cy="44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F7B-7EF6-4777-8C36-326085A0611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GXL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94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port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. C. Holt, A. Sch</a:t>
            </a:r>
            <a:r>
              <a:rPr b="0" lang="de-DE" sz="2400" spc="-1" strike="noStrike">
                <a:solidFill>
                  <a:srgbClr val="000000"/>
                </a:solidFill>
                <a:latin typeface="Lucida Sans Unicode"/>
              </a:rPr>
              <a:t>ü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r, A. Winter: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GXL: Toward a Standard Exchange Forma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achberichte Informatik, Uni Koblenz </a:t>
            </a:r>
            <a:r>
              <a:rPr b="1" lang="en-US" sz="2200" spc="-1" strike="noStrike" u="sng">
                <a:solidFill>
                  <a:srgbClr val="3333cc"/>
                </a:solidFill>
                <a:uFillTx/>
                <a:latin typeface="Courier New"/>
              </a:rPr>
              <a:t>http://www.gupro.de/techreports/RR-1-2000</a:t>
            </a:r>
            <a:br>
              <a:rPr sz="2200"/>
            </a:br>
            <a:r>
              <a:rPr b="1" lang="en-US" sz="2200" spc="-1" strike="noStrike" u="sng">
                <a:solidFill>
                  <a:srgbClr val="3333cc"/>
                </a:solidFill>
                <a:uFillTx/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RL: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(coming soon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cc"/>
                </a:solidFill>
                <a:uFillTx/>
                <a:latin typeface="Courier New"/>
              </a:rPr>
              <a:t>http://www.gupro.de/GX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"/>
          <p:cNvSpPr/>
          <p:nvPr/>
        </p:nvSpPr>
        <p:spPr>
          <a:xfrm>
            <a:off x="685800" y="4800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Lucida Sans Unicode"/>
              </a:rPr>
              <a:t>you are all invited to participate in the further development of GX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621-AF90-4F78-B929-FD961D3A5B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Structure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arious structures are used in current tool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bstract Syntax Trees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ATerm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raphs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Datrix-TA,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TA, TGraph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 PROGRES, RSF, .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Relations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relational Databases, RPA, .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quirement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change of data requires a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common superse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enclosing these structu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posed Solu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rected, typed, attributed graph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1E3-00A1-45C9-8130-B99921AFF4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Format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gramming Languag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ngle language systems (Cobol, C, C++, ...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ulti language system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vel of Abstrac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ST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rchitectural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adaptabl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nd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extensibl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nterchange forma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posed Solu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change of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schema data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change of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instance da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5B2-6A75-4794-BF7B-E0AFDD5E6C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Data Access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arge amount of da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mport from/export to various tool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nd </a:t>
            </a:r>
            <a:r>
              <a:rPr b="0" i="1" lang="en-US" sz="2400" spc="-1" strike="noStrike">
                <a:solidFill>
                  <a:srgbClr val="000099"/>
                </a:solidFill>
                <a:latin typeface="Lucida Sans Unicode"/>
              </a:rPr>
              <a:t>s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tandardize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cces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terchanged da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posed Solu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pplication programming interfa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t of standardized, predefined tool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BEC-43CB-479C-9AAD-4776DBF2FB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ransformation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fferent tasks require different represent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amless data exchange between different represent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efficient transformatio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ween different represent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posed Solu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t of </a:t>
            </a:r>
            <a:r>
              <a:rPr b="0" i="1" lang="en-US" sz="2400" spc="-1" strike="noStrike">
                <a:solidFill>
                  <a:srgbClr val="000099"/>
                </a:solidFill>
                <a:latin typeface="Lucida Sans Unicode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reference) schemata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nd definition of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transformatio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ween the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601-662C-41B4-98E5-5A680EA3DF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Metaschema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echanism to describe schema information for different applic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undation to define schema transform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mmon mechanism for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describing schema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posed Solu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metaschema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UML class diagram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AE2-785B-4FF5-B178-CCECEA0E72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Efficient Annotated Terms (ATerms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. G. J. van den Brand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H. A. de Jong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. Klint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. Olivi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et 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change format for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tree-like data structur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like parse trees, abstract syntax trees, generated code, formatted source tex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mprehensive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procedural interfac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for manipulation in C and Java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638680" y="1447920"/>
            <a:ext cx="2819520" cy="1600200"/>
            <a:chOff x="5638680" y="1447920"/>
            <a:chExt cx="2819520" cy="1600200"/>
          </a:xfrm>
        </p:grpSpPr>
        <p:pic>
          <p:nvPicPr>
            <p:cNvPr id="116" name="uvalogo" descr=""/>
            <p:cNvPicPr/>
            <p:nvPr/>
          </p:nvPicPr>
          <p:blipFill>
            <a:blip r:embed="rId1"/>
            <a:stretch/>
          </p:blipFill>
          <p:spPr>
            <a:xfrm>
              <a:off x="5638680" y="1447920"/>
              <a:ext cx="2819520" cy="77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" name=""/>
            <p:cNvGrpSpPr/>
            <p:nvPr/>
          </p:nvGrpSpPr>
          <p:grpSpPr>
            <a:xfrm>
              <a:off x="5638680" y="2362320"/>
              <a:ext cx="2791080" cy="685800"/>
              <a:chOff x="5638680" y="2362320"/>
              <a:chExt cx="2791080" cy="685800"/>
            </a:xfrm>
          </p:grpSpPr>
          <p:pic>
            <p:nvPicPr>
              <p:cNvPr id="118" name="cwi" descr=""/>
              <p:cNvPicPr/>
              <p:nvPr/>
            </p:nvPicPr>
            <p:blipFill>
              <a:blip r:embed="rId2"/>
              <a:stretch/>
            </p:blipFill>
            <p:spPr>
              <a:xfrm>
                <a:off x="5638680" y="2362320"/>
                <a:ext cx="65196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cwiname" descr=""/>
              <p:cNvPicPr/>
              <p:nvPr/>
            </p:nvPicPr>
            <p:blipFill>
              <a:blip r:embed="rId3"/>
              <a:stretch/>
            </p:blipFill>
            <p:spPr>
              <a:xfrm>
                <a:off x="6324480" y="2408760"/>
                <a:ext cx="2105280" cy="592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A85F-DFA5-43EB-962E-66903C3F6F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6T07:43:32Z</dcterms:created>
  <dc:creator>winter</dc:creator>
  <dc:description/>
  <dc:language>en-US</dc:language>
  <cp:lastModifiedBy>winter</cp:lastModifiedBy>
  <cp:lastPrinted>2000-06-03T09:48:11Z</cp:lastPrinted>
  <dcterms:modified xsi:type="dcterms:W3CDTF">2000-06-03T10:53:20Z</dcterms:modified>
  <cp:revision>130</cp:revision>
  <dc:subject/>
  <dc:title>Kein Folientitel</dc:title>
</cp:coreProperties>
</file>