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91F-D003-479C-B082-CA52D642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172-817B-4C17-A00E-A262DD81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C7B-A4EC-4DD3-938E-A1EA0AC0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20C-0DC5-4D7E-BDE6-C3651932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611-4886-4F20-92D7-497D9E2C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16F-0115-45DE-A04D-1048DE36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35E-C029-480F-9ABD-89189F5B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548-3841-47E9-AA68-A05E713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433-2AFA-4AD8-B20D-E4A98605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2EA-9240-4E82-B519-C2B44E1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8EF-9046-4D94-8BE2-83F00C7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C4A-9F05-4BAA-BCCA-1FEE6C4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C8CA-9FB0-4B6F-9A5C-FC143EA78B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he XML Trial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INDING of FAC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naud Sahuguet, Chief Inquisit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n Database Research Grou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the role of a DT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rain structur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CH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lare entiti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ULAR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vide some default values for attribut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vs SGML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tag omis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excep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striction for mixed conten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AND (&amp;) operat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distinction betweem CDATA and RCDAT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 SGML, 39 types of attribut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How are DTDs being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ethodology of the survey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vest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.or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ean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issing elements, typos, etc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ansion of entiti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ranslation into our internal data-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ng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Mod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de = list of Node, list of Attribu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ssues that have not been looked 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re DTDs being us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ell-formed vs valid docu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ow do documents actually used DTD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at is the meaning of * or +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ost DTDs are not correc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ssing eleme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rong syntax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mpatible attribute declar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f the DTD itself is not correct,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ow can we hope to validate any document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TDs are not always a connected grap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s is only at the level of the document that the root is define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 of AN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ncoding of tupl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iven the absence of the AND content-model, most DTDs represent tuple &lt;a,b,c&gt; as (a|b|c)*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rrect syntax would be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GML: ( a &amp; b &amp; c 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: (a,b,c) | (a,c,b) | (b,c,a) | (b,a,c) | (c,b,a) | (c,a,b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|” is used and over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ncoding Inheritanc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rameter entities are used to capture “syntactic” 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eliminary Remark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ome features are almost never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 types like NMTOKE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cessing instruc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Global com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s are full of mistak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s -- when expanded -- are really mess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ople tend to pick a “type” much larger than they really ne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’s wrong with 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much document orient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TDs have been designed to interface with text processing tool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simple and too complicated at the same ti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limited to represent complex struc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s are not typ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notion of recor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notion of inheritance/sub-typ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tent-model ambiguou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many ways to represent the same th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 are global, not loca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obvious way to offer versioning, extension, ev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mprove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81480" y="1295280"/>
            <a:ext cx="228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-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oid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oid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if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ndard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295280"/>
            <a:ext cx="24386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tit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tity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ditional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ey ent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alogy XML/ProgLang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103400" y="518148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is interesting to remark that features like inheritance, type inference, polymorphism or modules are 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alogy XML/ProgLang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nctional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 Orient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=========================================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nt, union typ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tract clas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cord with order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ed 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amp;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cor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?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tio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ul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+/*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s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ive a look at Phil Wadler’s talk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mmediate Solution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ove AN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 = single rooted connected grap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port for “&amp;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ed for DTD validator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get about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ditional sec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 IDREF (as they are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 thought I was a too drastic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ut on the xml-dev mailing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re is an even more brutal propos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7(XML2.0alpha, by Rick Jeliffe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the future of 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Family Tree of Schema Languages for Markup Languages (Rick Jelliffe © 1999)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14640" y="1143000"/>
            <a:ext cx="4971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should DTDs be used for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fficient XML storage (persistency extension, or database storag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timization of path-expression queri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cum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of DTDs extensions (to resolve shortcoming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fficient par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of supporting too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40" y="-360"/>
            <a:ext cx="83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XML used for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ssages (XML-RPC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ext content (HTML, WM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Content (FinXML, BioM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cuments (DocBook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onent serialization (Java Bean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erything!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How DTDs could be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ke software components/librari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mport, expor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heritan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ver-rid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re a need for a DTD/schema repository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jor Challeng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bining text and data processing in a unified framework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ructured query vs document quer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kup algebr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ing “versioning” the right wa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btyp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ed for backward/forward compatibil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y messag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needs some modern PL tools/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and Jav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Java is far from perfect but it established some features like gc, threads, distributed computation as sine qua non requirements of a programming languag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 should try to do the same for text/data process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is not an abstract thing. People are using it and we should keep that in min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n-going researc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lgebr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CFG (Franck Neve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model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mi-structured schema (Beeri/Milo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terministic Data Model (Pen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ion-types (Peter,Benjami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rk-up Algebr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eb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lgebra for querying Text Regions (Consens/Milo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sted Text-Region Algebra (Jaakola, Kilpeläinen) + sgrep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semantic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h constraints (Jérôme Siméon, Wenfei Fa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SLT and XPath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tending DB constraints for Codi to XML (Pen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-Log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rom XML to XML query languag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Path and XSLT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SLT (Franck Neve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-Q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Q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isc.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ing from OO to XML (POQL/INRIA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ass Person tuple(name: string, age: integer, spouse:Perso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!ELEMENT person (name, age, person?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!ATTLIS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IMPLI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ouse IDRE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REQUIRED&gt;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63560" y="3632040"/>
            <a:ext cx="292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 id=p1 spouse=p2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Vassilis&lt;/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32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PERS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&lt;NAME&gt;Irène&lt;/NA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&lt;AGE&gt;29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/PERS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70360" y="3632040"/>
            <a:ext cx="292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 id=p1 spouse=p2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Vassilis&lt;/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32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&gt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Irène&lt;/NA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29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chematron (Rick Jelliffe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ea: encoding structure using tree constrai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 based on grammars but on tree patter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mantic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nd a context node in the documen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heck for constraints (I.e. XPath expressions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 the spirit of XSL (patterns, rules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sed on Xpath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enefi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“schema” specification can have more or less refine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pports variations of the schema (versions, etc.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pplications have different properties/require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vs. No ord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ion of “equivalence” between docume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sted vs. Fl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e vs Semi-struc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521080" y="1066680"/>
            <a:ext cx="4295520" cy="207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-- +//IDN sinica.edu.tw//DTD Schematron 1.0a//EN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schema  (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itle?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pattern+ 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assert  ( #PCDATA )&gt;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pattern ( rule+ )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report  ( #PCDATA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rule    ( assert | report  )+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title   ( #PCDATA 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schema  ns      CDATA #IMPLIED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assert  test    CDATA #REQUIRED 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pattern name    CDATA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e     CDATA #IMPLIED 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report  test    CDATA #REQUIRED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rule    context CDATA #REQUIRED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1200" y="3184560"/>
            <a:ext cx="886716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itle&gt;Demonstration Patterns for the Schematron Itself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pattern name="The Open Schematron DTD 1.0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schem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schema element should contain at least one pattern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pattern element should contain at least one rule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pattern element should have an attribute called name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 | 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ule element should contain at least one assert or report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@contex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ule element should have an attribute called contex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This should be an XPath for selecting nodes to make assertions and reports about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asse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n assert element should have an attribute called test. This should be an XSLT expression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eport element should have an attribute called test. This should be an XSLT expression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patter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ample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8120" y="1219320"/>
            <a:ext cx="90198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pattern name="The Closed Schematron DTD 1.0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schem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pattern  | title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schema e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ould contain only pattern elements.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schema element should contain at least one pattern element.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h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The element phase is only used in the 1.2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rule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pattern element should con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nly rule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0" lang="en-US" sz="1000" spc="-1" strike="noStrike">
                <a:solidFill>
                  <a:srgbClr val="00cc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pattern element should contain at least one rule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0" lang="en-US" sz="1000" spc="-1" strike="noStrike">
                <a:solidFill>
                  <a:srgbClr val="00cc00"/>
                </a:solidFill>
                <a:latin typeface="Courier New"/>
              </a:rPr>
              <a:t>@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pattern element should have an attribute called name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assert | report )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rule e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ould contain only assert and report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 | report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ule elemement should contain at least on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ert or report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contex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ule element should have an attribute called cont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Path for selecting nodes to make assertions and reports about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key"&gt;The element key is only used in the 1.2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asse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n assert element should have an attribute called t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SLT expression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name"&gt;The element name is only used in the 1.1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eport element should have an attribute called t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SLT expression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name"&gt;The element name is only used in the 1.1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patter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onymous Content Types (Rick Jelliffe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MPTY and ANY are built-in content typ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at about offering some new o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only 1 child, no data elemen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IR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two children of different types, no data elemen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IR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multiple of PAI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zero or more elements of the same typ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A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1 empty sub-element or PCDATA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AV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multiple of LEAF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IQU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any number of elements; one type appears onc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NRECURSIV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element cannot contain itself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oks like polymorphism to me :-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 new data-model for XML...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de, NodeLis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nly “&amp;”, “+” and “?”  are allow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06880" y="1905120"/>
            <a:ext cx="5037120" cy="377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2680" y="4343400"/>
            <a:ext cx="4219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?xml version="1.0" ?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DOCTYPE box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box ( box )*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d ID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gth-breadth-width NMTOKENS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its NMTOKEN #REQUIRED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x id="b1" length-breadth-width="3 5 8" units="c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x id="b2" 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x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 what you can do with i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ttributes always go togeth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 id &amp; ( unit &amp; length-breadth-width)?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S can be modeled as ( terminal-node &amp; Element 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ousehold IDREF can be specified a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mother? &amp; father? &amp; child* &amp; grandparents* &amp; grandchild* &amp; unmarried-sibling* &amp; refugee* &amp; pet* &amp; ghost*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nd DTDs are 2 distinct issu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does not need DTDs (well-formednes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ucture of an XML document can be described using other represent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mma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hemas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estioning DTDs does not mean questioning XML itsel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is just a mark-up after al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ahoma"/>
              </a:rPr>
              <a:t>[ISO 8879]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ocument type definition specifie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generic identifiers (GIs) of elements that are permissible in a document of this typ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GI, the possible attributes, their range of values and defaul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GI, the structure of its contents, including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ich element can occur and in what orde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ether text characters can occu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ether non character data can occu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urpose of a DTD is to permit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to determine whether the mark-up for an individual document is correc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also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to supply markup that is missing, because it can be inferred unambiguously from other mark-up presen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TD contai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lement declar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ttribute declar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tity referenc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tity paramet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cessing instruction (&lt;? …. ?&gt;)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ements are defined according to content-model [?+*,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s can be CDATA, NMTOKE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s can be optional (#IMPLIED) or mandatory (#FIXE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x content corresponds to (PCDATA|xxx)*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ations are a way to describe the content of an entity reference (e.g. jpg pictur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title      (#PCDATA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info (metadata+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metadata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metadata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owner    CDATA      #REQUIRED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folder   (title?, info?, desc?, (%nodes.mix;)*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folder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folded   (yes|no)   #FIXED 'yes'   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bookmark (title?, info?, desc?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bookmark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url.att;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desc       (#PCDATA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separator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alias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alias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ref       IDREF     #REQUIRED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20600" y="1295280"/>
            <a:ext cx="424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NOTATION  jpg PUBLIC ‘-//JPG’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folder SYSTEM “folder.jpg” NDATA jp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bookmark SYSTEM “bookmark.jpg” NDATA jp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node.att 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url.att  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nodes.mix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node.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i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add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node.at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url.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href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visit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modifi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url.at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nodes.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bookmark|folder|alias|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nodes.mix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xbel (title?, info?, desc?, (%nodes.mix;)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x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version  CDATA      #FIXED "1.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04:25:19Z</dcterms:created>
  <dc:creator>Arnaud Sahuguet</dc:creator>
  <dc:description/>
  <dc:language>en-US</dc:language>
  <cp:lastModifiedBy>Administrator</cp:lastModifiedBy>
  <cp:lastPrinted>1999-11-10T17:17:20Z</cp:lastPrinted>
  <dcterms:modified xsi:type="dcterms:W3CDTF">2000-01-11T10:22:35Z</dcterms:modified>
  <cp:revision>8</cp:revision>
  <dc:subject/>
  <dc:title>XML DTDs: the good, the bad and the ugly</dc:title>
</cp:coreProperties>
</file>