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6421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7732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440" y="4285800"/>
            <a:ext cx="807732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94164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24720" y="2057040"/>
            <a:ext cx="394164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440" y="4285800"/>
            <a:ext cx="394164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824720" y="4285800"/>
            <a:ext cx="394164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260064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16400" y="2057040"/>
            <a:ext cx="260064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47720" y="2057040"/>
            <a:ext cx="260064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440" y="4285800"/>
            <a:ext cx="260064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416400" y="4285800"/>
            <a:ext cx="260064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47720" y="4285800"/>
            <a:ext cx="260064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440" y="20570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94164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4720" y="2057040"/>
            <a:ext cx="394164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59984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94164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2057040"/>
            <a:ext cx="394164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440" y="4285800"/>
            <a:ext cx="394164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94164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2057040"/>
            <a:ext cx="394164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24720" y="4285800"/>
            <a:ext cx="394164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94164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4720" y="2057040"/>
            <a:ext cx="394164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4285800"/>
            <a:ext cx="807732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97520" y="642312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3de8"/>
                </a:solidFill>
                <a:latin typeface="Wide Latin"/>
              </a:rPr>
              <a:t>S T E P W I S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20570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9200" y="6470640"/>
            <a:ext cx="2720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1999  Robin La Fontaine,  Monsell EDM Lt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530840" y="457200"/>
            <a:ext cx="1443240" cy="755640"/>
            <a:chOff x="7530840" y="457200"/>
            <a:chExt cx="1443240" cy="755640"/>
          </a:xfrm>
        </p:grpSpPr>
        <p:sp>
          <p:nvSpPr>
            <p:cNvPr id="5" name=""/>
            <p:cNvSpPr/>
            <p:nvPr/>
          </p:nvSpPr>
          <p:spPr>
            <a:xfrm>
              <a:off x="7530840" y="457200"/>
              <a:ext cx="1443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279f"/>
                  </a:solidFill>
                  <a:latin typeface="Arial"/>
                </a:rPr>
                <a:t>Monsell ED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8029440" y="768240"/>
              <a:ext cx="444600" cy="444600"/>
              <a:chOff x="8029440" y="768240"/>
              <a:chExt cx="444600" cy="444600"/>
            </a:xfrm>
          </p:grpSpPr>
          <p:sp>
            <p:nvSpPr>
              <p:cNvPr id="7" name=""/>
              <p:cNvSpPr/>
              <p:nvPr/>
            </p:nvSpPr>
            <p:spPr>
              <a:xfrm>
                <a:off x="8029440" y="768240"/>
                <a:ext cx="292320" cy="292320"/>
              </a:xfrm>
              <a:prstGeom prst="ellipse">
                <a:avLst/>
              </a:prstGeom>
              <a:noFill/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182080" y="768240"/>
                <a:ext cx="291960" cy="292320"/>
              </a:xfrm>
              <a:prstGeom prst="ellipse">
                <a:avLst/>
              </a:prstGeom>
              <a:noFill/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05760" y="920880"/>
                <a:ext cx="291960" cy="291960"/>
              </a:xfrm>
              <a:prstGeom prst="ellipse">
                <a:avLst/>
              </a:prstGeom>
              <a:noFill/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"/>
          <p:cNvSpPr/>
          <p:nvPr/>
        </p:nvSpPr>
        <p:spPr>
          <a:xfrm>
            <a:off x="469800" y="1841400"/>
            <a:ext cx="8356680" cy="4546800"/>
          </a:xfrm>
          <a:prstGeom prst="rect">
            <a:avLst/>
          </a:prstGeom>
          <a:noFill/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291160" y="6461280"/>
            <a:ext cx="81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3CE7-01C8-4340-AF0E-86DA250E8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439200" y="1419120"/>
            <a:ext cx="1083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prit 25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7697880" y="1212840"/>
            <a:ext cx="1216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Arial"/>
              </a:rPr>
              <a:t>Engineering Data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" name=""/>
          <p:cNvGraphicFramePr/>
          <p:nvPr/>
        </p:nvGraphicFramePr>
        <p:xfrm>
          <a:off x="330120" y="152280"/>
          <a:ext cx="1193760" cy="119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120" y="152280"/>
                    <a:ext cx="1193760" cy="11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63de8"/>
                </a:solidFill>
                <a:latin typeface="Arial"/>
              </a:rPr>
              <a:t>NWI: “XML representation of EXPRESS-driven data”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n La Fontai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sell EDM Lt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bin@monsell.co.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EPWISE Project: Implementations from Express models by transformation: http://www.stepwis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format for EXPRESS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can you do with it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ssues for EXPRESS in X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format for EXPRESS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ssues for EXPRESS data in 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63de8"/>
                </a:solidFill>
                <a:latin typeface="Arial"/>
              </a:rPr>
              <a:t>Early binding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c format for a specific model, e.g. special tag for each entity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ghtly contro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you can control changes as the model changes and maintain upward compatibility if this is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ntactic correctness guarantees some constraints are satis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or for sharing amongst generic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ch tool has to deal with many formats (unless we use Architectures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63de8"/>
                </a:solidFill>
                <a:latin typeface="Arial"/>
              </a:rPr>
              <a:t>Issues for EXPRESS data in XML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important is file siz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ctness is importa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do we handle changes in the mode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should use the features of XML syntax to help upward compatibilit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about current changes to Part 21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XML format for Express data should be capable of representing data from any Express model, including multiple schema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ngle XML Express data file should allow data from one or more repositories (data instance set)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XML representation of Express-driven data is a first step in bringing together the strengths of the documentation world and the STEP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groups have something to learn from this exercis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provide new opportunities but is not a magic bullet to solve all existing problem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should be seen in the light of work on deeper integration of the two aspects of documents an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63de8"/>
                </a:solidFill>
                <a:latin typeface="Arial"/>
              </a:rPr>
              <a:t>Motivation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ing together two worlds with different streng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ress with strong data structure and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/SGML with file format and l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make Express more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 EXPRESS and its data in 'document' format and they will be more likely to understand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NTAX ::= RELIG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YNTAX&gt;RELIGION&lt;/SYNTAX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type demonstrations made at Bad Aibling last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63de8"/>
                </a:solidFill>
                <a:latin typeface="Arial"/>
              </a:rPr>
              <a:t>EXPRESS in XML:</a:t>
            </a:r>
            <a:br>
              <a:rPr sz="3200"/>
            </a:br>
            <a:r>
              <a:rPr b="0" lang="en-GB" sz="3200" spc="-1" strike="noStrike">
                <a:solidFill>
                  <a:srgbClr val="063de8"/>
                </a:solidFill>
                <a:latin typeface="Arial"/>
              </a:rPr>
              <a:t>What can you do with it?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standard XML par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EXPRESS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EXPRESS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www browsers to look at models an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SL (style sheet language) allows views of data, it is a simple processing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will not replace a dedicated CAD syst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riment with linking data and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le EXPRESS data in document reposi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63de8"/>
                </a:solidFill>
                <a:latin typeface="Arial"/>
              </a:rPr>
              <a:t>XML format for EXPRESS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ll cover all of the EXPRESS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ll not be as human readable as EXPRESS now is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can be displayed or printed as 'normal' EXPRESS syntax using X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monstrated at Bad Aibling using RivComet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ld form the basis for an annotated EXPRESS model, perhap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63de8"/>
                </a:solidFill>
                <a:latin typeface="Arial"/>
              </a:rPr>
              <a:t>What will it look like?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213372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TITY poi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_coord, y_coord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3809880"/>
            <a:ext cx="4190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entity name="point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attribute name="x_coord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REAL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/attribu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attribute name="y_coord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REAL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/attribu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/entit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205740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re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3733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ssi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XML re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5257800"/>
            <a:ext cx="22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xample from paper by Daniel Rivers-Moore, Riv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63de8"/>
                </a:solidFill>
                <a:latin typeface="Arial"/>
              </a:rPr>
              <a:t>Issues for EXPRESS in XML (1)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or less than EXPRES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k forward to EXPRESS-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press in XML should keep strictly to the Express 1 language standar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63de8"/>
                </a:solidFill>
                <a:latin typeface="Arial"/>
              </a:rPr>
              <a:t>Issues for EXPRESS in XML (2)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MATH-ML or simil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isting XML formats such as MATH-ML already provide a syntax for handling mathematical functions and procedures. Should we use th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vantages of using MATH-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meone has already solved the problem in a standard wa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patibility with other standards in this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advantages of using MATH-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t will not be *exactly* the same as existing Exp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t may have a different style to the rest of the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ress in XML should use MATH-ML where applicabl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63de8"/>
                </a:solidFill>
                <a:latin typeface="Arial"/>
              </a:rPr>
              <a:t>XML format for EXPRESS data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a replacement for Part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verbose than Part 21, but it will compress wel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sier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to def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‘generic’ form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te binding’, for any Express model, similar to Part 21 in approa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dicated’ form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arly binding’, for a single Expres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63de8"/>
                </a:solidFill>
                <a:latin typeface="Arial"/>
              </a:rPr>
              <a:t>Late binding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arest to existing Part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ic, versat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me basic format and set of ‘tags’  for any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od for generic proc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cause code that can ‘process’ one model can process them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ML syntax does not reflect the semantic rules of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ntactic correctness guarantees very little in terms of data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4:31:53Z</dcterms:created>
  <dc:creator>Robin La Fontaine</dc:creator>
  <dc:description/>
  <dc:language>en-US</dc:language>
  <cp:lastModifiedBy>Nigel Shaw</cp:lastModifiedBy>
  <cp:lastPrinted>1999-01-22T10:40:36Z</cp:lastPrinted>
  <dcterms:modified xsi:type="dcterms:W3CDTF">1999-01-25T22:38:32Z</dcterms:modified>
  <cp:revision>24</cp:revision>
  <dc:subject/>
  <dc:title>Review presentation</dc:title>
</cp:coreProperties>
</file>